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1AD-3676-4C62-B8A9-61409B7D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EE6-4A1C-411F-975C-00215B1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E74-E92F-452A-AE9A-69F2C4B5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6B5-F47A-4260-91DB-329DD3BA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E85-47BE-48B9-B8C4-8EF527A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2BE-BF64-4734-BAFD-AB6C2C27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564-271F-419B-BE30-453388F9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2BB-3CCC-487B-8FD9-4A90B3D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C5A-BCD3-4A60-A1F4-917CB69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B4A-97F3-48E7-BCB7-88C9863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BD5-724A-4DAC-A364-0583794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E8D-4432-4F52-9496-0802310F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E9E9-EECB-466A-87C2-094408C42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051" descr="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1125360"/>
            <a:ext cx="65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《满井游记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914-0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371600" y="4724280"/>
            <a:ext cx="6400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心情：若脱笼之鹄（心情愉悦）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18-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457200" y="3809880"/>
            <a:ext cx="7772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始知郊田之外未始无春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而城居者未之知也（主旨）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GJ65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00200" y="6094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收看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07.春江花月夜（合奏 周成龙改编.MP3" descr=""/>
          <p:cNvPicPr/>
          <p:nvPr/>
        </p:nvPicPr>
        <p:blipFill>
          <a:blip r:embed="rId4"/>
          <a:stretch/>
        </p:blipFill>
        <p:spPr>
          <a:xfrm>
            <a:off x="3808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la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3" descr=""/>
          <p:cNvPicPr/>
          <p:nvPr/>
        </p:nvPicPr>
        <p:blipFill>
          <a:blip r:embed="rId2"/>
          <a:stretch/>
        </p:blipFill>
        <p:spPr>
          <a:xfrm>
            <a:off x="963720" y="450720"/>
            <a:ext cx="7692840" cy="5542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4720" y="40766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C27-CC95-4FE9-9B40-C7DEACBBF5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1835280" y="7588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snowview004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mg15644949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59280" y="114156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冰皮始解，波光乍明，鳞浪层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snowview004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9360" y="304920"/>
            <a:ext cx="91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晶晶然如镜之新开而冷光之乍出于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02020412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395280" y="4005360"/>
            <a:ext cx="8532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山峦为晴雨所洗娟然如拭鲜妍明媚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如倩女之面而髻鬟之始掠也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2231"/>
          <p:cNvPicPr/>
          <p:nvPr/>
        </p:nvPicPr>
        <p:blipFill>
          <a:blip r:embed="rId1"/>
          <a:stretch/>
        </p:blipFill>
        <p:spPr>
          <a:xfrm>
            <a:off x="0" y="0"/>
            <a:ext cx="10591920" cy="7620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1440" y="3213000"/>
            <a:ext cx="9142560" cy="35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柳条将舒未舒，柔梢披风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6820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15373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 rot="5400000">
            <a:off x="-761760" y="243828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徒步则汗流浃背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T05-1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0" y="15238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呷浪之鳞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53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7:2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