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CB2-0FFC-46D6-99F9-7F770D8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DAD-D7A8-454B-8F3F-89E80FEA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B6E-277C-40D0-B9BC-FA8EFF25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950-B9AD-433E-AA19-94ADB914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A4A-2C20-4944-973F-67B8F1F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C1A-9A58-42BF-8EF8-C9108B78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ED1-5E2F-4887-B18D-EA5A409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8E9-73B1-4F46-89A7-6DC581C3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9D6-0417-4295-ACFE-D3A929E0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BCF-EBCA-4EBD-8CA4-1169ED7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F61-B473-44A1-956E-57CD2DBD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1FD-298F-4F66-B1D6-4FC02F8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56D-EDE5-4151-9881-9D122865B8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9C4D-1826-44FB-AFFE-81AC1AE7AC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push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3636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79"/>
          <p:cNvGrpSpPr/>
          <p:nvPr/>
        </p:nvGrpSpPr>
        <p:grpSpPr>
          <a:xfrm>
            <a:off x="1187280" y="893520"/>
            <a:ext cx="7128000" cy="4983480"/>
            <a:chOff x="1187280" y="893520"/>
            <a:chExt cx="7128000" cy="4983480"/>
          </a:xfrm>
        </p:grpSpPr>
        <p:grpSp>
          <p:nvGrpSpPr>
            <p:cNvPr id="44" name="组合 80"/>
            <p:cNvGrpSpPr/>
            <p:nvPr/>
          </p:nvGrpSpPr>
          <p:grpSpPr>
            <a:xfrm>
              <a:off x="1187280" y="893520"/>
              <a:ext cx="7128000" cy="4797720"/>
              <a:chOff x="1187280" y="893520"/>
              <a:chExt cx="7128000" cy="4797720"/>
            </a:xfrm>
          </p:grpSpPr>
          <p:sp>
            <p:nvSpPr>
              <p:cNvPr id="45" name="矩形 1"/>
              <p:cNvSpPr/>
              <p:nvPr/>
            </p:nvSpPr>
            <p:spPr>
              <a:xfrm>
                <a:off x="4889160" y="11970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"/>
              <p:cNvSpPr/>
              <p:nvPr/>
            </p:nvSpPr>
            <p:spPr>
              <a:xfrm>
                <a:off x="6591600" y="30402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"/>
              <p:cNvSpPr/>
              <p:nvPr/>
            </p:nvSpPr>
            <p:spPr>
              <a:xfrm>
                <a:off x="1187280" y="316296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1"/>
              <p:cNvSpPr/>
              <p:nvPr/>
            </p:nvSpPr>
            <p:spPr>
              <a:xfrm>
                <a:off x="2821320" y="49482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组合 87"/>
              <p:cNvGrpSpPr/>
              <p:nvPr/>
            </p:nvGrpSpPr>
            <p:grpSpPr>
              <a:xfrm>
                <a:off x="1995120" y="893520"/>
                <a:ext cx="4776840" cy="4797720"/>
                <a:chOff x="1995120" y="893520"/>
                <a:chExt cx="4776840" cy="4797720"/>
              </a:xfrm>
            </p:grpSpPr>
            <p:cxnSp>
              <p:nvCxnSpPr>
                <p:cNvPr id="50" name="肘形连接符 88"/>
                <p:cNvCxnSpPr>
                  <a:stCxn id="51" idx="0"/>
                  <a:endCxn id="52" idx="2"/>
                </p:cNvCxnSpPr>
                <p:nvPr/>
              </p:nvCxnSpPr>
              <p:spPr>
                <a:xfrm flipH="1" flipV="1" rot="5400000">
                  <a:off x="3458160" y="2339640"/>
                  <a:ext cx="1069560" cy="28080"/>
                </a:xfrm>
                <a:prstGeom prst="bentConnector3">
                  <a:avLst>
                    <a:gd name="adj1" fmla="val 50875"/>
                  </a:avLst>
                </a:prstGeom>
                <a:ln cap="rnd" w="25560">
                  <a:solidFill>
                    <a:srgbClr val="eac300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3" name="肘形连接符 89"/>
                <p:cNvCxnSpPr>
                  <a:stCxn id="51" idx="6"/>
                  <a:endCxn id="54" idx="0"/>
                </p:cNvCxnSpPr>
                <p:nvPr/>
              </p:nvCxnSpPr>
              <p:spPr>
                <a:xfrm>
                  <a:off x="4764240" y="2905560"/>
                  <a:ext cx="1069560" cy="76680"/>
                </a:xfrm>
                <a:prstGeom prst="bentConnector3">
                  <a:avLst>
                    <a:gd name="adj1" fmla="val 52323"/>
                  </a:avLst>
                </a:prstGeom>
                <a:ln cap="rnd" w="25560">
                  <a:solidFill>
                    <a:srgbClr val="a50156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5" name="肘形连接符 90"/>
                <p:cNvCxnSpPr>
                  <a:stCxn id="51" idx="4"/>
                  <a:endCxn id="56" idx="6"/>
                </p:cNvCxnSpPr>
                <p:nvPr/>
              </p:nvCxnSpPr>
              <p:spPr>
                <a:xfrm rot="5400000">
                  <a:off x="4204440" y="4194360"/>
                  <a:ext cx="1081080" cy="74880"/>
                </a:xfrm>
                <a:prstGeom prst="bentConnector3">
                  <a:avLst>
                    <a:gd name="adj1" fmla="val 50799"/>
                  </a:avLst>
                </a:prstGeom>
                <a:ln cap="rnd" w="25560">
                  <a:solidFill>
                    <a:srgbClr val="0070c0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7" name="肘形连接符 91"/>
                <p:cNvCxnSpPr>
                  <a:stCxn id="58" idx="4"/>
                  <a:endCxn id="51" idx="2"/>
                </p:cNvCxnSpPr>
                <p:nvPr/>
              </p:nvCxnSpPr>
              <p:spPr>
                <a:xfrm>
                  <a:off x="2921760" y="3582720"/>
                  <a:ext cx="1075320" cy="90720"/>
                </a:xfrm>
                <a:prstGeom prst="bentConnector3">
                  <a:avLst>
                    <a:gd name="adj1" fmla="val 47253"/>
                  </a:avLst>
                </a:prstGeom>
                <a:ln cap="rnd" w="25560">
                  <a:solidFill>
                    <a:srgbClr val="01a2b3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grpSp>
              <p:nvGrpSpPr>
                <p:cNvPr id="59" name="组合 92"/>
                <p:cNvGrpSpPr/>
                <p:nvPr/>
              </p:nvGrpSpPr>
              <p:grpSpPr>
                <a:xfrm>
                  <a:off x="3582000" y="2504160"/>
                  <a:ext cx="1583280" cy="1569960"/>
                  <a:chOff x="3582000" y="2504160"/>
                  <a:chExt cx="1583280" cy="1569960"/>
                </a:xfrm>
              </p:grpSpPr>
              <p:grpSp>
                <p:nvGrpSpPr>
                  <p:cNvPr id="60" name="组合 121"/>
                  <p:cNvGrpSpPr/>
                  <p:nvPr/>
                </p:nvGrpSpPr>
                <p:grpSpPr>
                  <a:xfrm>
                    <a:off x="3582000" y="2504160"/>
                    <a:ext cx="1583280" cy="1569960"/>
                    <a:chOff x="3582000" y="2504160"/>
                    <a:chExt cx="1583280" cy="1569960"/>
                  </a:xfrm>
                </p:grpSpPr>
                <p:grpSp>
                  <p:nvGrpSpPr>
                    <p:cNvPr id="61" name="组合 123"/>
                    <p:cNvGrpSpPr/>
                    <p:nvPr/>
                  </p:nvGrpSpPr>
                  <p:grpSpPr>
                    <a:xfrm>
                      <a:off x="3595320" y="2504160"/>
                      <a:ext cx="1569960" cy="1569960"/>
                      <a:chOff x="3595320" y="2504160"/>
                      <a:chExt cx="1569960" cy="1569960"/>
                    </a:xfrm>
                  </p:grpSpPr>
                  <p:sp>
                    <p:nvSpPr>
                      <p:cNvPr id="51" name="Oval 2737"/>
                      <p:cNvSpPr/>
                      <p:nvPr/>
                    </p:nvSpPr>
                    <p:spPr>
                      <a:xfrm rot="18900000">
                        <a:off x="3837600" y="2721240"/>
                        <a:ext cx="1084680" cy="1135440"/>
                      </a:xfrm>
                      <a:prstGeom prst="ellipse">
                        <a:avLst/>
                      </a:prstGeom>
                      <a:solidFill>
                        <a:srgbClr val="b3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" name="Oval 2737"/>
                      <p:cNvSpPr/>
                      <p:nvPr/>
                    </p:nvSpPr>
                    <p:spPr>
                      <a:xfrm rot="18900000">
                        <a:off x="3825360" y="2754720"/>
                        <a:ext cx="978480" cy="98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" name="Freeform 2754"/>
                    <p:cNvSpPr/>
                    <p:nvPr/>
                  </p:nvSpPr>
                  <p:spPr>
                    <a:xfrm rot="18900000">
                      <a:off x="3751200" y="2829240"/>
                      <a:ext cx="929160" cy="864360"/>
                    </a:xfrm>
                    <a:prstGeom prst="pi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" name="TextBox 122"/>
                  <p:cNvSpPr/>
                  <p:nvPr/>
                </p:nvSpPr>
                <p:spPr>
                  <a:xfrm>
                    <a:off x="4033800" y="2955240"/>
                    <a:ext cx="607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文字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组合 93"/>
                <p:cNvGrpSpPr/>
                <p:nvPr/>
              </p:nvGrpSpPr>
              <p:grpSpPr>
                <a:xfrm>
                  <a:off x="1995120" y="2656080"/>
                  <a:ext cx="1217160" cy="1217160"/>
                  <a:chOff x="1995120" y="2656080"/>
                  <a:chExt cx="1217160" cy="1217160"/>
                </a:xfrm>
              </p:grpSpPr>
              <p:grpSp>
                <p:nvGrpSpPr>
                  <p:cNvPr id="66" name="组合 115"/>
                  <p:cNvGrpSpPr/>
                  <p:nvPr/>
                </p:nvGrpSpPr>
                <p:grpSpPr>
                  <a:xfrm>
                    <a:off x="1995120" y="2656080"/>
                    <a:ext cx="1217160" cy="1217160"/>
                    <a:chOff x="1995120" y="2656080"/>
                    <a:chExt cx="1217160" cy="1217160"/>
                  </a:xfrm>
                </p:grpSpPr>
                <p:grpSp>
                  <p:nvGrpSpPr>
                    <p:cNvPr id="67" name="组合 117"/>
                    <p:cNvGrpSpPr/>
                    <p:nvPr/>
                  </p:nvGrpSpPr>
                  <p:grpSpPr>
                    <a:xfrm>
                      <a:off x="1995120" y="2656080"/>
                      <a:ext cx="1217160" cy="1217160"/>
                      <a:chOff x="1995120" y="2656080"/>
                      <a:chExt cx="1217160" cy="1217160"/>
                    </a:xfrm>
                  </p:grpSpPr>
                  <p:sp>
                    <p:nvSpPr>
                      <p:cNvPr id="58" name="Oval 2737"/>
                      <p:cNvSpPr/>
                      <p:nvPr/>
                    </p:nvSpPr>
                    <p:spPr>
                      <a:xfrm rot="18900000">
                        <a:off x="2192040" y="2815200"/>
                        <a:ext cx="822960" cy="898560"/>
                      </a:xfrm>
                      <a:prstGeom prst="ellipse">
                        <a:avLst/>
                      </a:prstGeom>
                      <a:solidFill>
                        <a:srgbClr val="00b3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" name="Oval 2737"/>
                      <p:cNvSpPr/>
                      <p:nvPr/>
                    </p:nvSpPr>
                    <p:spPr>
                      <a:xfrm rot="18900000">
                        <a:off x="2170440" y="2851560"/>
                        <a:ext cx="7423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" name="Freeform 2754"/>
                    <p:cNvSpPr/>
                    <p:nvPr/>
                  </p:nvSpPr>
                  <p:spPr>
                    <a:xfrm rot="18900000">
                      <a:off x="2133360" y="2888640"/>
                      <a:ext cx="704160" cy="6829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" name="TextBox 116"/>
                  <p:cNvSpPr/>
                  <p:nvPr/>
                </p:nvSpPr>
                <p:spPr>
                  <a:xfrm>
                    <a:off x="2147400" y="2995920"/>
                    <a:ext cx="636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组合 94"/>
                <p:cNvGrpSpPr/>
                <p:nvPr/>
              </p:nvGrpSpPr>
              <p:grpSpPr>
                <a:xfrm>
                  <a:off x="3689280" y="893520"/>
                  <a:ext cx="1242360" cy="1242360"/>
                  <a:chOff x="3689280" y="893520"/>
                  <a:chExt cx="1242360" cy="1242360"/>
                </a:xfrm>
              </p:grpSpPr>
              <p:grpSp>
                <p:nvGrpSpPr>
                  <p:cNvPr id="72" name="组合 109"/>
                  <p:cNvGrpSpPr/>
                  <p:nvPr/>
                </p:nvGrpSpPr>
                <p:grpSpPr>
                  <a:xfrm>
                    <a:off x="3689280" y="893520"/>
                    <a:ext cx="1242360" cy="1242360"/>
                    <a:chOff x="3689280" y="893520"/>
                    <a:chExt cx="1242360" cy="1242360"/>
                  </a:xfrm>
                </p:grpSpPr>
                <p:grpSp>
                  <p:nvGrpSpPr>
                    <p:cNvPr id="73" name="组合 111"/>
                    <p:cNvGrpSpPr/>
                    <p:nvPr/>
                  </p:nvGrpSpPr>
                  <p:grpSpPr>
                    <a:xfrm>
                      <a:off x="3689280" y="893520"/>
                      <a:ext cx="1242360" cy="1242360"/>
                      <a:chOff x="3689280" y="893520"/>
                      <a:chExt cx="1242360" cy="1242360"/>
                    </a:xfrm>
                  </p:grpSpPr>
                  <p:sp>
                    <p:nvSpPr>
                      <p:cNvPr id="52" name="Oval 2737"/>
                      <p:cNvSpPr/>
                      <p:nvPr/>
                    </p:nvSpPr>
                    <p:spPr>
                      <a:xfrm rot="18900000">
                        <a:off x="3881160" y="1065240"/>
                        <a:ext cx="858600" cy="898560"/>
                      </a:xfrm>
                      <a:prstGeom prst="ellipse">
                        <a:avLst/>
                      </a:prstGeom>
                      <a:solidFill>
                        <a:srgbClr val="bea1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Oval 2737"/>
                      <p:cNvSpPr/>
                      <p:nvPr/>
                    </p:nvSpPr>
                    <p:spPr>
                      <a:xfrm rot="18900000">
                        <a:off x="3874320" y="1099080"/>
                        <a:ext cx="7747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" name="Freeform 2754"/>
                    <p:cNvSpPr/>
                    <p:nvPr/>
                  </p:nvSpPr>
                  <p:spPr>
                    <a:xfrm rot="18900000">
                      <a:off x="3823200" y="1140480"/>
                      <a:ext cx="734760" cy="683280"/>
                    </a:xfrm>
                    <a:prstGeom prst="pie">
                      <a:avLst/>
                    </a:prstGeom>
                    <a:blipFill rotWithShape="0">
                      <a:blip r:embed="rId4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" name="TextBox 110"/>
                  <p:cNvSpPr/>
                  <p:nvPr/>
                </p:nvSpPr>
                <p:spPr>
                  <a:xfrm>
                    <a:off x="3888000" y="1234080"/>
                    <a:ext cx="519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组合 95"/>
                <p:cNvGrpSpPr/>
                <p:nvPr/>
              </p:nvGrpSpPr>
              <p:grpSpPr>
                <a:xfrm>
                  <a:off x="5529600" y="2678040"/>
                  <a:ext cx="1242360" cy="1242360"/>
                  <a:chOff x="5529600" y="2678040"/>
                  <a:chExt cx="1242360" cy="1242360"/>
                </a:xfrm>
              </p:grpSpPr>
              <p:grpSp>
                <p:nvGrpSpPr>
                  <p:cNvPr id="78" name="组合 103"/>
                  <p:cNvGrpSpPr/>
                  <p:nvPr/>
                </p:nvGrpSpPr>
                <p:grpSpPr>
                  <a:xfrm>
                    <a:off x="5529600" y="2678040"/>
                    <a:ext cx="1242360" cy="1242360"/>
                    <a:chOff x="5529600" y="2678040"/>
                    <a:chExt cx="1242360" cy="1242360"/>
                  </a:xfrm>
                </p:grpSpPr>
                <p:grpSp>
                  <p:nvGrpSpPr>
                    <p:cNvPr id="79" name="组合 105"/>
                    <p:cNvGrpSpPr/>
                    <p:nvPr/>
                  </p:nvGrpSpPr>
                  <p:grpSpPr>
                    <a:xfrm>
                      <a:off x="5529600" y="2678040"/>
                      <a:ext cx="1242360" cy="1242360"/>
                      <a:chOff x="5529600" y="2678040"/>
                      <a:chExt cx="1242360" cy="1242360"/>
                    </a:xfrm>
                  </p:grpSpPr>
                  <p:sp>
                    <p:nvSpPr>
                      <p:cNvPr id="54" name="Oval 2737"/>
                      <p:cNvSpPr/>
                      <p:nvPr/>
                    </p:nvSpPr>
                    <p:spPr>
                      <a:xfrm rot="18900000">
                        <a:off x="5721480" y="2849760"/>
                        <a:ext cx="858600" cy="898560"/>
                      </a:xfrm>
                      <a:prstGeom prst="ellipse">
                        <a:avLst/>
                      </a:prstGeom>
                      <a:solidFill>
                        <a:srgbClr val="d200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" name="Oval 2737"/>
                      <p:cNvSpPr/>
                      <p:nvPr/>
                    </p:nvSpPr>
                    <p:spPr>
                      <a:xfrm rot="18900000">
                        <a:off x="5706360" y="2881080"/>
                        <a:ext cx="7747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1" name="Freeform 2754"/>
                    <p:cNvSpPr/>
                    <p:nvPr/>
                  </p:nvSpPr>
                  <p:spPr>
                    <a:xfrm rot="18900000">
                      <a:off x="5663520" y="2924640"/>
                      <a:ext cx="735120" cy="683640"/>
                    </a:xfrm>
                    <a:prstGeom prst="pie">
                      <a:avLst/>
                    </a:prstGeom>
                    <a:blipFill rotWithShape="0">
                      <a:blip r:embed="rId5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" name="TextBox 104"/>
                  <p:cNvSpPr/>
                  <p:nvPr/>
                </p:nvSpPr>
                <p:spPr>
                  <a:xfrm>
                    <a:off x="5755680" y="3047400"/>
                    <a:ext cx="513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组合 96"/>
                <p:cNvGrpSpPr/>
                <p:nvPr/>
              </p:nvGrpSpPr>
              <p:grpSpPr>
                <a:xfrm>
                  <a:off x="3782160" y="4454280"/>
                  <a:ext cx="1242720" cy="1236960"/>
                  <a:chOff x="3782160" y="4454280"/>
                  <a:chExt cx="1242720" cy="1236960"/>
                </a:xfrm>
              </p:grpSpPr>
              <p:grpSp>
                <p:nvGrpSpPr>
                  <p:cNvPr id="84" name="组合 97"/>
                  <p:cNvGrpSpPr/>
                  <p:nvPr/>
                </p:nvGrpSpPr>
                <p:grpSpPr>
                  <a:xfrm>
                    <a:off x="3782160" y="4454280"/>
                    <a:ext cx="1242720" cy="1236960"/>
                    <a:chOff x="3782160" y="4454280"/>
                    <a:chExt cx="1242720" cy="1236960"/>
                  </a:xfrm>
                </p:grpSpPr>
                <p:grpSp>
                  <p:nvGrpSpPr>
                    <p:cNvPr id="85" name="组合 99"/>
                    <p:cNvGrpSpPr/>
                    <p:nvPr/>
                  </p:nvGrpSpPr>
                  <p:grpSpPr>
                    <a:xfrm>
                      <a:off x="3787920" y="4454280"/>
                      <a:ext cx="1236960" cy="1236960"/>
                      <a:chOff x="3787920" y="4454280"/>
                      <a:chExt cx="1236960" cy="1236960"/>
                    </a:xfrm>
                  </p:grpSpPr>
                  <p:sp>
                    <p:nvSpPr>
                      <p:cNvPr id="56" name="Oval 2737"/>
                      <p:cNvSpPr/>
                      <p:nvPr/>
                    </p:nvSpPr>
                    <p:spPr>
                      <a:xfrm rot="18900000">
                        <a:off x="3980880" y="4623480"/>
                        <a:ext cx="850680" cy="898560"/>
                      </a:xfrm>
                      <a:prstGeom prst="ellipse">
                        <a:avLst/>
                      </a:prstGeom>
                      <a:solidFill>
                        <a:srgbClr val="005cb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Oval 2737"/>
                      <p:cNvSpPr/>
                      <p:nvPr/>
                    </p:nvSpPr>
                    <p:spPr>
                      <a:xfrm rot="18900000">
                        <a:off x="3972960" y="4646880"/>
                        <a:ext cx="7675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Freeform 2754"/>
                    <p:cNvSpPr/>
                    <p:nvPr/>
                  </p:nvSpPr>
                  <p:spPr>
                    <a:xfrm rot="18900000">
                      <a:off x="3917160" y="4703400"/>
                      <a:ext cx="729360" cy="684720"/>
                    </a:xfrm>
                    <a:prstGeom prst="pie">
                      <a:avLst/>
                    </a:prstGeom>
                    <a:blipFill rotWithShape="0">
                      <a:blip r:embed="rId6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" name="TextBox 98"/>
                  <p:cNvSpPr/>
                  <p:nvPr/>
                </p:nvSpPr>
                <p:spPr>
                  <a:xfrm>
                    <a:off x="4034520" y="4839120"/>
                    <a:ext cx="499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" name="椭圆 81"/>
            <p:cNvSpPr/>
            <p:nvPr/>
          </p:nvSpPr>
          <p:spPr>
            <a:xfrm>
              <a:off x="2634480" y="5678640"/>
              <a:ext cx="4662720" cy="1983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82"/>
            <p:cNvSpPr/>
            <p:nvPr/>
          </p:nvSpPr>
          <p:spPr>
            <a:xfrm>
              <a:off x="2006280" y="5678640"/>
              <a:ext cx="4662720" cy="1983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07720" y="4428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9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7CF-D6B6-48A6-ABBC-C75815AFFAF5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6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9:49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