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B99E-9B30-40C2-9287-CFF23965D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D481-3FB0-45B8-904E-856A4C8E7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822D-2EB1-4645-8DFE-F73237F38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B880-5852-4217-A056-F6494603A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8822-2F89-445C-A222-A8F6105DF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926A-A23B-4843-8451-C60F3C826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30EA-2CD7-47B6-8B24-83DACA1C0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CA6F-C18C-4715-8B8D-19305C302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FCA6-50C0-4E3D-8B87-ED6C0BCA6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787F-7208-4D4F-9492-CFFAD8C60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76DE-E0FC-4DB2-9909-331B74C99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3B8D-BC41-4973-B52D-F1CDCE49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E07B2-2260-41BA-A23E-3EA811CB2642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37E55-CDB1-423C-928A-8913CF4CF3F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-11160" y="793800"/>
            <a:ext cx="9191520" cy="5371920"/>
          </a:xfrm>
          <a:prstGeom prst="rect">
            <a:avLst/>
          </a:prstGeom>
          <a:ln w="0">
            <a:noFill/>
          </a:ln>
        </p:spPr>
      </p:pic>
      <p:sp>
        <p:nvSpPr>
          <p:cNvPr id="42" name="TextBox 8"/>
          <p:cNvSpPr/>
          <p:nvPr/>
        </p:nvSpPr>
        <p:spPr>
          <a:xfrm>
            <a:off x="3348000" y="6346800"/>
            <a:ext cx="5356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组合 1"/>
          <p:cNvGrpSpPr/>
          <p:nvPr/>
        </p:nvGrpSpPr>
        <p:grpSpPr>
          <a:xfrm>
            <a:off x="900000" y="549360"/>
            <a:ext cx="6120000" cy="6046920"/>
            <a:chOff x="900000" y="549360"/>
            <a:chExt cx="6120000" cy="6046920"/>
          </a:xfrm>
        </p:grpSpPr>
        <p:pic>
          <p:nvPicPr>
            <p:cNvPr id="44" name="Object 2207" descr=""/>
            <p:cNvPicPr/>
            <p:nvPr/>
          </p:nvPicPr>
          <p:blipFill>
            <a:blip r:embed="rId2"/>
            <a:stretch/>
          </p:blipFill>
          <p:spPr>
            <a:xfrm>
              <a:off x="900000" y="549360"/>
              <a:ext cx="6120000" cy="4113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" name=""/>
            <p:cNvGrpSpPr/>
            <p:nvPr/>
          </p:nvGrpSpPr>
          <p:grpSpPr>
            <a:xfrm>
              <a:off x="3767040" y="6205680"/>
              <a:ext cx="1440" cy="1440"/>
              <a:chOff x="3767040" y="6205680"/>
              <a:chExt cx="1440" cy="1440"/>
            </a:xfrm>
          </p:grpSpPr>
          <p:sp>
            <p:nvSpPr>
              <p:cNvPr id="46" name="Line 1598"/>
              <p:cNvSpPr/>
              <p:nvPr/>
            </p:nvSpPr>
            <p:spPr>
              <a:xfrm>
                <a:off x="3767040" y="6205680"/>
                <a:ext cx="144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 txBox="1"/>
              <p:nvPr/>
            </p:nvSpPr>
            <p:spPr>
              <a:xfrm>
                <a:off x="3767040" y="620568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" name=""/>
            <p:cNvGrpSpPr/>
            <p:nvPr/>
          </p:nvGrpSpPr>
          <p:grpSpPr>
            <a:xfrm>
              <a:off x="3767040" y="6205680"/>
              <a:ext cx="1440" cy="1440"/>
              <a:chOff x="3767040" y="6205680"/>
              <a:chExt cx="1440" cy="1440"/>
            </a:xfrm>
          </p:grpSpPr>
          <p:sp>
            <p:nvSpPr>
              <p:cNvPr id="49" name="Line 1599"/>
              <p:cNvSpPr/>
              <p:nvPr/>
            </p:nvSpPr>
            <p:spPr>
              <a:xfrm>
                <a:off x="3767040" y="6205680"/>
                <a:ext cx="144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 txBox="1"/>
              <p:nvPr/>
            </p:nvSpPr>
            <p:spPr>
              <a:xfrm>
                <a:off x="3767040" y="620568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3754440" y="6120000"/>
              <a:ext cx="1440" cy="1440"/>
              <a:chOff x="3754440" y="6120000"/>
              <a:chExt cx="1440" cy="1440"/>
            </a:xfrm>
          </p:grpSpPr>
          <p:sp>
            <p:nvSpPr>
              <p:cNvPr id="52" name="Line 1600"/>
              <p:cNvSpPr/>
              <p:nvPr/>
            </p:nvSpPr>
            <p:spPr>
              <a:xfrm>
                <a:off x="3754440" y="6120000"/>
                <a:ext cx="144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 txBox="1"/>
              <p:nvPr/>
            </p:nvSpPr>
            <p:spPr>
              <a:xfrm>
                <a:off x="3754440" y="612000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" name=""/>
            <p:cNvGrpSpPr/>
            <p:nvPr/>
          </p:nvGrpSpPr>
          <p:grpSpPr>
            <a:xfrm>
              <a:off x="3754440" y="6120000"/>
              <a:ext cx="1440" cy="1440"/>
              <a:chOff x="3754440" y="6120000"/>
              <a:chExt cx="1440" cy="1440"/>
            </a:xfrm>
          </p:grpSpPr>
          <p:sp>
            <p:nvSpPr>
              <p:cNvPr id="55" name="Line 1601"/>
              <p:cNvSpPr/>
              <p:nvPr/>
            </p:nvSpPr>
            <p:spPr>
              <a:xfrm>
                <a:off x="3754440" y="6120000"/>
                <a:ext cx="144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 txBox="1"/>
              <p:nvPr/>
            </p:nvSpPr>
            <p:spPr>
              <a:xfrm>
                <a:off x="3754440" y="612000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" name=""/>
            <p:cNvGrpSpPr/>
            <p:nvPr/>
          </p:nvGrpSpPr>
          <p:grpSpPr>
            <a:xfrm>
              <a:off x="3741840" y="6053400"/>
              <a:ext cx="1440" cy="1440"/>
              <a:chOff x="3741840" y="6053400"/>
              <a:chExt cx="1440" cy="1440"/>
            </a:xfrm>
          </p:grpSpPr>
          <p:sp>
            <p:nvSpPr>
              <p:cNvPr id="58" name="Line 1602"/>
              <p:cNvSpPr/>
              <p:nvPr/>
            </p:nvSpPr>
            <p:spPr>
              <a:xfrm>
                <a:off x="3741840" y="6053400"/>
                <a:ext cx="144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 txBox="1"/>
              <p:nvPr/>
            </p:nvSpPr>
            <p:spPr>
              <a:xfrm>
                <a:off x="3741840" y="605340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3741840" y="6053400"/>
              <a:ext cx="1440" cy="1440"/>
              <a:chOff x="3741840" y="6053400"/>
              <a:chExt cx="1440" cy="1440"/>
            </a:xfrm>
          </p:grpSpPr>
          <p:sp>
            <p:nvSpPr>
              <p:cNvPr id="61" name="Line 1603"/>
              <p:cNvSpPr/>
              <p:nvPr/>
            </p:nvSpPr>
            <p:spPr>
              <a:xfrm>
                <a:off x="3741840" y="6053400"/>
                <a:ext cx="144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 txBox="1"/>
              <p:nvPr/>
            </p:nvSpPr>
            <p:spPr>
              <a:xfrm>
                <a:off x="3741840" y="605340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2611440" y="6115320"/>
              <a:ext cx="1440" cy="1440"/>
              <a:chOff x="2611440" y="6115320"/>
              <a:chExt cx="1440" cy="1440"/>
            </a:xfrm>
          </p:grpSpPr>
          <p:sp>
            <p:nvSpPr>
              <p:cNvPr id="64" name="Line 1612"/>
              <p:cNvSpPr/>
              <p:nvPr/>
            </p:nvSpPr>
            <p:spPr>
              <a:xfrm>
                <a:off x="2611440" y="6115320"/>
                <a:ext cx="144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 txBox="1"/>
              <p:nvPr/>
            </p:nvSpPr>
            <p:spPr>
              <a:xfrm>
                <a:off x="2611440" y="611532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2611440" y="6115320"/>
              <a:ext cx="1440" cy="1440"/>
              <a:chOff x="2611440" y="6115320"/>
              <a:chExt cx="1440" cy="1440"/>
            </a:xfrm>
          </p:grpSpPr>
          <p:sp>
            <p:nvSpPr>
              <p:cNvPr id="67" name="Line 1613"/>
              <p:cNvSpPr/>
              <p:nvPr/>
            </p:nvSpPr>
            <p:spPr>
              <a:xfrm>
                <a:off x="2611440" y="6115320"/>
                <a:ext cx="144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 txBox="1"/>
              <p:nvPr/>
            </p:nvSpPr>
            <p:spPr>
              <a:xfrm>
                <a:off x="2611440" y="611532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" name=""/>
            <p:cNvGrpSpPr/>
            <p:nvPr/>
          </p:nvGrpSpPr>
          <p:grpSpPr>
            <a:xfrm>
              <a:off x="2398680" y="6277320"/>
              <a:ext cx="1440" cy="1440"/>
              <a:chOff x="2398680" y="6277320"/>
              <a:chExt cx="1440" cy="1440"/>
            </a:xfrm>
          </p:grpSpPr>
          <p:sp>
            <p:nvSpPr>
              <p:cNvPr id="70" name="Line 1616"/>
              <p:cNvSpPr/>
              <p:nvPr/>
            </p:nvSpPr>
            <p:spPr>
              <a:xfrm>
                <a:off x="2398680" y="6277320"/>
                <a:ext cx="144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 txBox="1"/>
              <p:nvPr/>
            </p:nvSpPr>
            <p:spPr>
              <a:xfrm>
                <a:off x="2398680" y="627732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" name=""/>
            <p:cNvGrpSpPr/>
            <p:nvPr/>
          </p:nvGrpSpPr>
          <p:grpSpPr>
            <a:xfrm>
              <a:off x="2398680" y="6277320"/>
              <a:ext cx="1440" cy="1440"/>
              <a:chOff x="2398680" y="6277320"/>
              <a:chExt cx="1440" cy="1440"/>
            </a:xfrm>
          </p:grpSpPr>
          <p:sp>
            <p:nvSpPr>
              <p:cNvPr id="73" name="Line 1617"/>
              <p:cNvSpPr/>
              <p:nvPr/>
            </p:nvSpPr>
            <p:spPr>
              <a:xfrm>
                <a:off x="2398680" y="6277320"/>
                <a:ext cx="144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 txBox="1"/>
              <p:nvPr/>
            </p:nvSpPr>
            <p:spPr>
              <a:xfrm>
                <a:off x="2398680" y="627732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2385720" y="6191640"/>
              <a:ext cx="1440" cy="1440"/>
              <a:chOff x="2385720" y="6191640"/>
              <a:chExt cx="1440" cy="1440"/>
            </a:xfrm>
          </p:grpSpPr>
          <p:sp>
            <p:nvSpPr>
              <p:cNvPr id="76" name="Line 1620"/>
              <p:cNvSpPr/>
              <p:nvPr/>
            </p:nvSpPr>
            <p:spPr>
              <a:xfrm>
                <a:off x="2385720" y="6191640"/>
                <a:ext cx="144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 txBox="1"/>
              <p:nvPr/>
            </p:nvSpPr>
            <p:spPr>
              <a:xfrm>
                <a:off x="2385720" y="619164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385720" y="6191640"/>
              <a:ext cx="1440" cy="1440"/>
              <a:chOff x="2385720" y="6191640"/>
              <a:chExt cx="1440" cy="1440"/>
            </a:xfrm>
          </p:grpSpPr>
          <p:sp>
            <p:nvSpPr>
              <p:cNvPr id="79" name="Line 1621"/>
              <p:cNvSpPr/>
              <p:nvPr/>
            </p:nvSpPr>
            <p:spPr>
              <a:xfrm>
                <a:off x="2385720" y="6191640"/>
                <a:ext cx="144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 txBox="1"/>
              <p:nvPr/>
            </p:nvSpPr>
            <p:spPr>
              <a:xfrm>
                <a:off x="2385720" y="619164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376360" y="6124680"/>
              <a:ext cx="1440" cy="1440"/>
              <a:chOff x="2376360" y="6124680"/>
              <a:chExt cx="1440" cy="1440"/>
            </a:xfrm>
          </p:grpSpPr>
          <p:sp>
            <p:nvSpPr>
              <p:cNvPr id="82" name="Line 1623"/>
              <p:cNvSpPr/>
              <p:nvPr/>
            </p:nvSpPr>
            <p:spPr>
              <a:xfrm>
                <a:off x="2376360" y="6124680"/>
                <a:ext cx="144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 txBox="1"/>
              <p:nvPr/>
            </p:nvSpPr>
            <p:spPr>
              <a:xfrm>
                <a:off x="2376360" y="612468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" name=""/>
            <p:cNvGrpSpPr/>
            <p:nvPr/>
          </p:nvGrpSpPr>
          <p:grpSpPr>
            <a:xfrm>
              <a:off x="2376360" y="6124680"/>
              <a:ext cx="1440" cy="1440"/>
              <a:chOff x="2376360" y="6124680"/>
              <a:chExt cx="1440" cy="1440"/>
            </a:xfrm>
          </p:grpSpPr>
          <p:sp>
            <p:nvSpPr>
              <p:cNvPr id="85" name="Line 1624"/>
              <p:cNvSpPr/>
              <p:nvPr/>
            </p:nvSpPr>
            <p:spPr>
              <a:xfrm>
                <a:off x="2376360" y="6124680"/>
                <a:ext cx="144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 txBox="1"/>
              <p:nvPr/>
            </p:nvSpPr>
            <p:spPr>
              <a:xfrm>
                <a:off x="2376360" y="612468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2385720" y="6131160"/>
              <a:ext cx="1440" cy="1440"/>
              <a:chOff x="2385720" y="6131160"/>
              <a:chExt cx="1440" cy="1440"/>
            </a:xfrm>
          </p:grpSpPr>
          <p:sp>
            <p:nvSpPr>
              <p:cNvPr id="88" name="Line 1629"/>
              <p:cNvSpPr/>
              <p:nvPr/>
            </p:nvSpPr>
            <p:spPr>
              <a:xfrm>
                <a:off x="2385720" y="6131160"/>
                <a:ext cx="144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 txBox="1"/>
              <p:nvPr/>
            </p:nvSpPr>
            <p:spPr>
              <a:xfrm>
                <a:off x="2385720" y="61311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" name=""/>
            <p:cNvGrpSpPr/>
            <p:nvPr/>
          </p:nvGrpSpPr>
          <p:grpSpPr>
            <a:xfrm>
              <a:off x="2385720" y="6131160"/>
              <a:ext cx="1440" cy="1440"/>
              <a:chOff x="2385720" y="6131160"/>
              <a:chExt cx="1440" cy="1440"/>
            </a:xfrm>
          </p:grpSpPr>
          <p:sp>
            <p:nvSpPr>
              <p:cNvPr id="91" name="Line 1630"/>
              <p:cNvSpPr/>
              <p:nvPr/>
            </p:nvSpPr>
            <p:spPr>
              <a:xfrm>
                <a:off x="2385720" y="6131160"/>
                <a:ext cx="144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 txBox="1"/>
              <p:nvPr/>
            </p:nvSpPr>
            <p:spPr>
              <a:xfrm>
                <a:off x="2385720" y="61311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Text Box 2246"/>
            <p:cNvSpPr/>
            <p:nvPr/>
          </p:nvSpPr>
          <p:spPr>
            <a:xfrm>
              <a:off x="2812320" y="5183280"/>
              <a:ext cx="651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Trebuchet MS"/>
                  <a:ea typeface="Dotum"/>
                </a:rPr>
                <a:t>PART_0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2248"/>
            <p:cNvSpPr/>
            <p:nvPr/>
          </p:nvSpPr>
          <p:spPr>
            <a:xfrm>
              <a:off x="4098240" y="5183280"/>
              <a:ext cx="651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Trebuchet MS"/>
                  <a:ea typeface="Dotum"/>
                </a:rPr>
                <a:t>PART_0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2249"/>
            <p:cNvSpPr/>
            <p:nvPr/>
          </p:nvSpPr>
          <p:spPr>
            <a:xfrm>
              <a:off x="5385960" y="5183280"/>
              <a:ext cx="651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Trebuchet MS"/>
                  <a:ea typeface="Dotum"/>
                </a:rPr>
                <a:t>PART_0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Group 2361"/>
            <p:cNvGrpSpPr/>
            <p:nvPr/>
          </p:nvGrpSpPr>
          <p:grpSpPr>
            <a:xfrm>
              <a:off x="1743840" y="4632480"/>
              <a:ext cx="4662720" cy="1963800"/>
              <a:chOff x="1743840" y="4632480"/>
              <a:chExt cx="4662720" cy="1963800"/>
            </a:xfrm>
          </p:grpSpPr>
          <p:sp>
            <p:nvSpPr>
              <p:cNvPr id="97" name="Text Box 2362"/>
              <p:cNvSpPr/>
              <p:nvPr/>
            </p:nvSpPr>
            <p:spPr>
              <a:xfrm>
                <a:off x="2890440" y="5826240"/>
                <a:ext cx="1468440" cy="68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777777"/>
                    </a:solidFill>
                    <a:latin typeface="Dotum"/>
                    <a:ea typeface="Dotum"/>
                  </a:rPr>
                  <a:t>Strateg Developm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777777"/>
                    </a:solidFill>
                    <a:latin typeface="Dotum"/>
                    <a:ea typeface="Dotum"/>
                  </a:rPr>
                  <a:t>Marketing Strateg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777777"/>
                    </a:solidFill>
                    <a:latin typeface="Dotum"/>
                    <a:ea typeface="Dotum"/>
                  </a:rPr>
                  <a:t>Contents Desig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777777"/>
                    </a:solidFill>
                    <a:latin typeface="Dotum"/>
                    <a:ea typeface="Dotum"/>
                  </a:rPr>
                  <a:t>Information.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2363"/>
              <p:cNvSpPr/>
              <p:nvPr/>
            </p:nvSpPr>
            <p:spPr>
              <a:xfrm>
                <a:off x="1900080" y="4983480"/>
                <a:ext cx="3987720" cy="2919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" name=""/>
              <p:cNvGrpSpPr/>
              <p:nvPr/>
            </p:nvGrpSpPr>
            <p:grpSpPr>
              <a:xfrm>
                <a:off x="4872960" y="4992840"/>
                <a:ext cx="1800" cy="272880"/>
                <a:chOff x="4872960" y="4992840"/>
                <a:chExt cx="1800" cy="272880"/>
              </a:xfrm>
            </p:grpSpPr>
            <p:sp>
              <p:nvSpPr>
                <p:cNvPr id="100" name="Line 2364"/>
                <p:cNvSpPr/>
                <p:nvPr/>
              </p:nvSpPr>
              <p:spPr>
                <a:xfrm flipH="1" flipV="1">
                  <a:off x="4872960" y="4992840"/>
                  <a:ext cx="1800" cy="272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 txBox="1"/>
                <p:nvPr/>
              </p:nvSpPr>
              <p:spPr>
                <a:xfrm rot="10800000">
                  <a:off x="4872960" y="4992840"/>
                  <a:ext cx="1800" cy="27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 anchorCtr="1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" name="Rectangle 2365"/>
              <p:cNvSpPr/>
              <p:nvPr/>
            </p:nvSpPr>
            <p:spPr>
              <a:xfrm>
                <a:off x="2052000" y="5018400"/>
                <a:ext cx="76572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Dotum"/>
                    <a:ea typeface="Dotum"/>
                  </a:rPr>
                  <a:t>compan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" name=""/>
              <p:cNvGrpSpPr/>
              <p:nvPr/>
            </p:nvGrpSpPr>
            <p:grpSpPr>
              <a:xfrm>
                <a:off x="3898800" y="4992840"/>
                <a:ext cx="1440" cy="272880"/>
                <a:chOff x="3898800" y="4992840"/>
                <a:chExt cx="1440" cy="272880"/>
              </a:xfrm>
            </p:grpSpPr>
            <p:sp>
              <p:nvSpPr>
                <p:cNvPr id="104" name="Line 2366"/>
                <p:cNvSpPr/>
                <p:nvPr/>
              </p:nvSpPr>
              <p:spPr>
                <a:xfrm flipH="1" flipV="1">
                  <a:off x="3898800" y="4992840"/>
                  <a:ext cx="1440" cy="272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 txBox="1"/>
                <p:nvPr/>
              </p:nvSpPr>
              <p:spPr>
                <a:xfrm rot="10800000">
                  <a:off x="3898800" y="4992840"/>
                  <a:ext cx="1440" cy="27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 anchorCtr="1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2923920" y="4992840"/>
                <a:ext cx="1440" cy="272880"/>
                <a:chOff x="2923920" y="4992840"/>
                <a:chExt cx="1440" cy="272880"/>
              </a:xfrm>
            </p:grpSpPr>
            <p:sp>
              <p:nvSpPr>
                <p:cNvPr id="107" name="Line 2367"/>
                <p:cNvSpPr/>
                <p:nvPr/>
              </p:nvSpPr>
              <p:spPr>
                <a:xfrm flipH="1" flipV="1">
                  <a:off x="2923920" y="4992840"/>
                  <a:ext cx="1440" cy="272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 txBox="1"/>
                <p:nvPr/>
              </p:nvSpPr>
              <p:spPr>
                <a:xfrm rot="10800000">
                  <a:off x="2923920" y="4992840"/>
                  <a:ext cx="1440" cy="27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 anchorCtr="1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" name="AutoShape 2368"/>
              <p:cNvSpPr/>
              <p:nvPr/>
            </p:nvSpPr>
            <p:spPr>
              <a:xfrm rot="10800000">
                <a:off x="5821200" y="4848480"/>
                <a:ext cx="87120" cy="87120"/>
              </a:xfrm>
              <a:prstGeom prst="triangle">
                <a:avLst>
                  <a:gd name="adj" fmla="val 50000"/>
                </a:avLst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" name=""/>
              <p:cNvGrpSpPr/>
              <p:nvPr/>
            </p:nvGrpSpPr>
            <p:grpSpPr>
              <a:xfrm>
                <a:off x="1895040" y="5334120"/>
                <a:ext cx="4073760" cy="1800"/>
                <a:chOff x="1895040" y="5334120"/>
                <a:chExt cx="4073760" cy="1800"/>
              </a:xfrm>
            </p:grpSpPr>
            <p:sp>
              <p:nvSpPr>
                <p:cNvPr id="111" name="Line 2369"/>
                <p:cNvSpPr/>
                <p:nvPr/>
              </p:nvSpPr>
              <p:spPr>
                <a:xfrm>
                  <a:off x="1895040" y="5334120"/>
                  <a:ext cx="4073760" cy="1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 txBox="1"/>
                <p:nvPr/>
              </p:nvSpPr>
              <p:spPr>
                <a:xfrm>
                  <a:off x="1895040" y="5334120"/>
                  <a:ext cx="4073760" cy="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000" bIns="-450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" name="Rectangle 2370"/>
              <p:cNvSpPr/>
              <p:nvPr/>
            </p:nvSpPr>
            <p:spPr>
              <a:xfrm>
                <a:off x="1846080" y="5330880"/>
                <a:ext cx="18396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2371"/>
              <p:cNvSpPr/>
              <p:nvPr/>
            </p:nvSpPr>
            <p:spPr>
              <a:xfrm>
                <a:off x="3075120" y="5018400"/>
                <a:ext cx="6926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Dotum"/>
                    <a:ea typeface="Dotum"/>
                  </a:rPr>
                  <a:t>service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2372"/>
              <p:cNvSpPr/>
              <p:nvPr/>
            </p:nvSpPr>
            <p:spPr>
              <a:xfrm>
                <a:off x="4087080" y="5018400"/>
                <a:ext cx="6026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Dotum"/>
                    <a:ea typeface="Dotum"/>
                  </a:rPr>
                  <a:t>client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2373"/>
              <p:cNvSpPr/>
              <p:nvPr/>
            </p:nvSpPr>
            <p:spPr>
              <a:xfrm>
                <a:off x="5038200" y="5018400"/>
                <a:ext cx="73368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Dotum"/>
                    <a:ea typeface="Dotum"/>
                  </a:rPr>
                  <a:t>partner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Text Box 2374"/>
              <p:cNvSpPr/>
              <p:nvPr/>
            </p:nvSpPr>
            <p:spPr>
              <a:xfrm>
                <a:off x="1811160" y="5826240"/>
                <a:ext cx="1363680" cy="52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777777"/>
                    </a:solidFill>
                    <a:latin typeface="Dotum"/>
                    <a:ea typeface="Dotum"/>
                  </a:rPr>
                  <a:t>Building Brand Identity 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777777"/>
                    </a:solidFill>
                    <a:latin typeface="Dotum"/>
                    <a:ea typeface="Dotum"/>
                  </a:rPr>
                  <a:t>and Corporate Identit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777777"/>
                    </a:solidFill>
                    <a:latin typeface="Dotum"/>
                    <a:ea typeface="Dotum"/>
                  </a:rPr>
                  <a:t>Style Guid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Text Box 2375"/>
              <p:cNvSpPr/>
              <p:nvPr/>
            </p:nvSpPr>
            <p:spPr>
              <a:xfrm>
                <a:off x="2890440" y="5348520"/>
                <a:ext cx="1414440" cy="32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 Black"/>
                    <a:ea typeface="Gulim"/>
                  </a:rPr>
                  <a:t>SERVICES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Arial Black"/>
                    <a:ea typeface="Gulim"/>
                  </a:rPr>
                  <a:t>Planning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Text Box 2376"/>
              <p:cNvSpPr/>
              <p:nvPr/>
            </p:nvSpPr>
            <p:spPr>
              <a:xfrm>
                <a:off x="3874680" y="5348520"/>
                <a:ext cx="897120" cy="32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 Black"/>
                    <a:ea typeface="Gulim"/>
                  </a:rPr>
                  <a:t>CLIENTS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Arial Black"/>
                    <a:ea typeface="Gulim"/>
                  </a:rPr>
                  <a:t>Desig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Text Box 2377"/>
              <p:cNvSpPr/>
              <p:nvPr/>
            </p:nvSpPr>
            <p:spPr>
              <a:xfrm>
                <a:off x="3879720" y="5826240"/>
                <a:ext cx="930240" cy="77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777777"/>
                    </a:solidFill>
                    <a:latin typeface="Dotum"/>
                    <a:ea typeface="Dotum"/>
                  </a:rPr>
                  <a:t>User Interface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777777"/>
                    </a:solidFill>
                    <a:latin typeface="Dotum"/>
                    <a:ea typeface="Dotum"/>
                  </a:rPr>
                  <a:t>Interaction Desig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777777"/>
                    </a:solidFill>
                    <a:latin typeface="Dotum"/>
                    <a:ea typeface="Dotum"/>
                  </a:rPr>
                  <a:t>Multimedia Desig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" name=""/>
              <p:cNvGrpSpPr/>
              <p:nvPr/>
            </p:nvGrpSpPr>
            <p:grpSpPr>
              <a:xfrm>
                <a:off x="2923920" y="5349960"/>
                <a:ext cx="1440" cy="959040"/>
                <a:chOff x="2923920" y="5349960"/>
                <a:chExt cx="1440" cy="959040"/>
              </a:xfrm>
            </p:grpSpPr>
            <p:sp>
              <p:nvSpPr>
                <p:cNvPr id="122" name="Line 2378"/>
                <p:cNvSpPr/>
                <p:nvPr/>
              </p:nvSpPr>
              <p:spPr>
                <a:xfrm>
                  <a:off x="2923920" y="5349960"/>
                  <a:ext cx="1440" cy="959040"/>
                </a:xfrm>
                <a:prstGeom prst="line">
                  <a:avLst/>
                </a:prstGeom>
                <a:ln cap="rnd" w="9360">
                  <a:solidFill>
                    <a:srgbClr val="777777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 txBox="1"/>
                <p:nvPr/>
              </p:nvSpPr>
              <p:spPr>
                <a:xfrm>
                  <a:off x="2923920" y="5349960"/>
                  <a:ext cx="1440" cy="95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4" name=""/>
              <p:cNvGrpSpPr/>
              <p:nvPr/>
            </p:nvGrpSpPr>
            <p:grpSpPr>
              <a:xfrm>
                <a:off x="3898800" y="5349960"/>
                <a:ext cx="1440" cy="959040"/>
                <a:chOff x="3898800" y="5349960"/>
                <a:chExt cx="1440" cy="959040"/>
              </a:xfrm>
            </p:grpSpPr>
            <p:sp>
              <p:nvSpPr>
                <p:cNvPr id="125" name="Line 2379"/>
                <p:cNvSpPr/>
                <p:nvPr/>
              </p:nvSpPr>
              <p:spPr>
                <a:xfrm>
                  <a:off x="3898800" y="5349960"/>
                  <a:ext cx="1440" cy="959040"/>
                </a:xfrm>
                <a:prstGeom prst="line">
                  <a:avLst/>
                </a:prstGeom>
                <a:ln cap="rnd" w="9360">
                  <a:solidFill>
                    <a:srgbClr val="777777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 txBox="1"/>
                <p:nvPr/>
              </p:nvSpPr>
              <p:spPr>
                <a:xfrm>
                  <a:off x="3898800" y="5349960"/>
                  <a:ext cx="1440" cy="95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7" name=""/>
              <p:cNvGrpSpPr/>
              <p:nvPr/>
            </p:nvGrpSpPr>
            <p:grpSpPr>
              <a:xfrm>
                <a:off x="4878000" y="5349960"/>
                <a:ext cx="1800" cy="959040"/>
                <a:chOff x="4878000" y="5349960"/>
                <a:chExt cx="1800" cy="959040"/>
              </a:xfrm>
            </p:grpSpPr>
            <p:sp>
              <p:nvSpPr>
                <p:cNvPr id="128" name="Line 2380"/>
                <p:cNvSpPr/>
                <p:nvPr/>
              </p:nvSpPr>
              <p:spPr>
                <a:xfrm>
                  <a:off x="4878000" y="5349960"/>
                  <a:ext cx="1800" cy="959040"/>
                </a:xfrm>
                <a:prstGeom prst="line">
                  <a:avLst/>
                </a:prstGeom>
                <a:ln cap="rnd" w="9360">
                  <a:solidFill>
                    <a:srgbClr val="777777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 txBox="1"/>
                <p:nvPr/>
              </p:nvSpPr>
              <p:spPr>
                <a:xfrm>
                  <a:off x="4878000" y="5349960"/>
                  <a:ext cx="1800" cy="959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0" name="Text Box 2381"/>
              <p:cNvSpPr/>
              <p:nvPr/>
            </p:nvSpPr>
            <p:spPr>
              <a:xfrm>
                <a:off x="4852800" y="5343840"/>
                <a:ext cx="1251000" cy="32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 Black"/>
                    <a:ea typeface="Gulim"/>
                  </a:rPr>
                  <a:t>PARTNERS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Arial Black"/>
                    <a:ea typeface="Gulim"/>
                  </a:rPr>
                  <a:t>Developm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Text Box 2382"/>
              <p:cNvSpPr/>
              <p:nvPr/>
            </p:nvSpPr>
            <p:spPr>
              <a:xfrm>
                <a:off x="4858920" y="5826240"/>
                <a:ext cx="1398600" cy="52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777777"/>
                    </a:solidFill>
                    <a:latin typeface="Dotum"/>
                    <a:ea typeface="Dotum"/>
                  </a:rPr>
                  <a:t>HTML, DHTM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777777"/>
                    </a:solidFill>
                    <a:latin typeface="Dotum"/>
                    <a:ea typeface="Dotum"/>
                  </a:rPr>
                  <a:t>Java Script Developm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777777"/>
                    </a:solidFill>
                    <a:latin typeface="Dotum"/>
                    <a:ea typeface="Dotum"/>
                  </a:rPr>
                  <a:t>Asp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Text Box 2383"/>
              <p:cNvSpPr/>
              <p:nvPr/>
            </p:nvSpPr>
            <p:spPr>
              <a:xfrm>
                <a:off x="1815840" y="5348520"/>
                <a:ext cx="1413000" cy="32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4600" rIns="84600" tIns="42480" bIns="4248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 Black"/>
                    <a:ea typeface="Gulim"/>
                  </a:rPr>
                  <a:t>COMPANY</a:t>
                </a:r>
                <a:br>
                  <a:rPr sz="800"/>
                </a:br>
                <a:r>
                  <a:rPr b="0" lang="en-US" sz="800" spc="-1" strike="noStrike">
                    <a:solidFill>
                      <a:srgbClr val="000000"/>
                    </a:solidFill>
                    <a:latin typeface="Arial Black"/>
                    <a:ea typeface="Gulim"/>
                  </a:rPr>
                  <a:t>Identit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Text Box 2384"/>
              <p:cNvSpPr/>
              <p:nvPr/>
            </p:nvSpPr>
            <p:spPr>
              <a:xfrm>
                <a:off x="1743840" y="4648320"/>
                <a:ext cx="983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808080"/>
                    </a:solidFill>
                    <a:latin typeface="Dotum"/>
                    <a:ea typeface="Dotum"/>
                  </a:rPr>
                  <a:t>Used Things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Text Box 2385"/>
              <p:cNvSpPr/>
              <p:nvPr/>
            </p:nvSpPr>
            <p:spPr>
              <a:xfrm>
                <a:off x="2769120" y="4648320"/>
                <a:ext cx="768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808080"/>
                    </a:solidFill>
                    <a:latin typeface="Dotum"/>
                    <a:ea typeface="Dotum"/>
                  </a:rPr>
                  <a:t>Trade-in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Text Box 2386"/>
              <p:cNvSpPr/>
              <p:nvPr/>
            </p:nvSpPr>
            <p:spPr>
              <a:xfrm>
                <a:off x="3728520" y="4648320"/>
                <a:ext cx="851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808080"/>
                    </a:solidFill>
                    <a:latin typeface="Dotum"/>
                    <a:ea typeface="Dotum"/>
                  </a:rPr>
                  <a:t>Insurance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Rectangle 2387"/>
              <p:cNvSpPr/>
              <p:nvPr/>
            </p:nvSpPr>
            <p:spPr>
              <a:xfrm>
                <a:off x="4715640" y="4657320"/>
                <a:ext cx="672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827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808080"/>
                    </a:solidFill>
                    <a:latin typeface="Dotum"/>
                    <a:ea typeface="Dotum"/>
                  </a:rPr>
                  <a:t>Financ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Rectangle 2388"/>
              <p:cNvSpPr/>
              <p:nvPr/>
            </p:nvSpPr>
            <p:spPr>
              <a:xfrm>
                <a:off x="5722920" y="4657320"/>
                <a:ext cx="683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827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808080"/>
                    </a:solidFill>
                    <a:latin typeface="Dotum"/>
                    <a:ea typeface="Dotum"/>
                  </a:rPr>
                  <a:t>Reserch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" name=""/>
              <p:cNvGrpSpPr/>
              <p:nvPr/>
            </p:nvGrpSpPr>
            <p:grpSpPr>
              <a:xfrm>
                <a:off x="1763280" y="4632480"/>
                <a:ext cx="4537080" cy="1440"/>
                <a:chOff x="1763280" y="4632480"/>
                <a:chExt cx="4537080" cy="1440"/>
              </a:xfrm>
            </p:grpSpPr>
            <p:sp>
              <p:nvSpPr>
                <p:cNvPr id="139" name="Line 2389"/>
                <p:cNvSpPr/>
                <p:nvPr/>
              </p:nvSpPr>
              <p:spPr>
                <a:xfrm>
                  <a:off x="1763280" y="4632480"/>
                  <a:ext cx="4537080" cy="1440"/>
                </a:xfrm>
                <a:prstGeom prst="line">
                  <a:avLst/>
                </a:prstGeom>
                <a:ln cap="rnd" w="15840">
                  <a:solidFill>
                    <a:srgbClr val="808080"/>
                  </a:solidFill>
                  <a:custDash>
                    <a:ds d="100000" sp="1000"/>
                  </a:custDash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 txBox="1"/>
                <p:nvPr/>
              </p:nvSpPr>
              <p:spPr>
                <a:xfrm>
                  <a:off x="1763280" y="4632480"/>
                  <a:ext cx="453708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1" name="AutoShape 2390"/>
              <p:cNvSpPr/>
              <p:nvPr/>
            </p:nvSpPr>
            <p:spPr>
              <a:xfrm rot="10800000">
                <a:off x="4834800" y="4848480"/>
                <a:ext cx="87480" cy="87120"/>
              </a:xfrm>
              <a:prstGeom prst="triangle">
                <a:avLst>
                  <a:gd name="adj" fmla="val 50000"/>
                </a:avLst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AutoShape 2391"/>
              <p:cNvSpPr/>
              <p:nvPr/>
            </p:nvSpPr>
            <p:spPr>
              <a:xfrm rot="10800000">
                <a:off x="3852720" y="4848480"/>
                <a:ext cx="87120" cy="87120"/>
              </a:xfrm>
              <a:prstGeom prst="triangle">
                <a:avLst>
                  <a:gd name="adj" fmla="val 50000"/>
                </a:avLst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AutoShape 2392"/>
              <p:cNvSpPr/>
              <p:nvPr/>
            </p:nvSpPr>
            <p:spPr>
              <a:xfrm rot="10800000">
                <a:off x="2882160" y="4848480"/>
                <a:ext cx="87480" cy="87120"/>
              </a:xfrm>
              <a:prstGeom prst="triangle">
                <a:avLst>
                  <a:gd name="adj" fmla="val 50000"/>
                </a:avLst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AutoShape 2393"/>
              <p:cNvSpPr/>
              <p:nvPr/>
            </p:nvSpPr>
            <p:spPr>
              <a:xfrm rot="10800000">
                <a:off x="1846080" y="4848480"/>
                <a:ext cx="87120" cy="87120"/>
              </a:xfrm>
              <a:prstGeom prst="triangle">
                <a:avLst>
                  <a:gd name="adj" fmla="val 50000"/>
                </a:avLst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Freeform 2398"/>
            <p:cNvSpPr/>
            <p:nvPr/>
          </p:nvSpPr>
          <p:spPr>
            <a:xfrm>
              <a:off x="2752560" y="3065400"/>
              <a:ext cx="234720" cy="233280"/>
            </a:xfrm>
            <a:prstGeom prst="pi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2400"/>
            <p:cNvSpPr/>
            <p:nvPr/>
          </p:nvSpPr>
          <p:spPr>
            <a:xfrm>
              <a:off x="3886200" y="2843280"/>
              <a:ext cx="287280" cy="288720"/>
            </a:xfrm>
            <a:prstGeom prst="pie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401"/>
            <p:cNvSpPr/>
            <p:nvPr/>
          </p:nvSpPr>
          <p:spPr>
            <a:xfrm>
              <a:off x="1658880" y="3286080"/>
              <a:ext cx="214200" cy="215640"/>
            </a:xfrm>
            <a:prstGeom prst="pi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2403"/>
            <p:cNvSpPr/>
            <p:nvPr/>
          </p:nvSpPr>
          <p:spPr>
            <a:xfrm>
              <a:off x="1798560" y="3357720"/>
              <a:ext cx="811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Gulim"/>
                  <a:ea typeface="Gulim"/>
                </a:rPr>
                <a:t>Search catalogs,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Gulim"/>
                  <a:ea typeface="Gulim"/>
                </a:rPr>
                <a:t>Fin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2404"/>
            <p:cNvSpPr/>
            <p:nvPr/>
          </p:nvSpPr>
          <p:spPr>
            <a:xfrm>
              <a:off x="2679120" y="3309840"/>
              <a:ext cx="584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Gulim"/>
                  <a:ea typeface="Gulim"/>
                </a:rPr>
                <a:t>You can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Gulim"/>
                  <a:ea typeface="Gulim"/>
                </a:rPr>
                <a:t>find the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Gulim"/>
                  <a:ea typeface="Gulim"/>
                </a:rPr>
                <a:t>curren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Gulim"/>
                  <a:ea typeface="Gulim"/>
                </a:rPr>
                <a:t>releas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2405"/>
            <p:cNvSpPr/>
            <p:nvPr/>
          </p:nvSpPr>
          <p:spPr>
            <a:xfrm>
              <a:off x="3784320" y="3089160"/>
              <a:ext cx="9306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Gulim"/>
                  <a:ea typeface="Gulim"/>
                </a:rPr>
                <a:t>I invite you to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Gulim"/>
                  <a:ea typeface="Gulim"/>
                </a:rPr>
                <a:t>take you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Gulim"/>
                  <a:ea typeface="Gulim"/>
                </a:rPr>
                <a:t>time exploring 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Gulim"/>
                  <a:ea typeface="Gulim"/>
                </a:rPr>
                <a:t>images on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Gulim"/>
                  <a:ea typeface="Gulim"/>
                </a:rPr>
                <a:t>these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Gulim"/>
                  <a:ea typeface="Gulim"/>
                </a:rPr>
                <a:t>pag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3564000" y="112536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-23760" y="117360"/>
            <a:ext cx="465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图表模版下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81A5-F2D8-48BA-9837-060A112B617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07:30:16Z</dcterms:modified>
  <cp:revision>108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</Properties>
</file>