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65B7-2117-4780-8FC7-4164D7CB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ABE4-30F6-4227-90A2-E3A6AB6B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F99D-A560-40E3-B457-A41D02C8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A516-C533-4904-8879-D4ECCE57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C432-4385-4C10-B8C6-1E98BC37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3C7F-015F-44FA-A30D-4CB2B488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A064-9661-46AD-85C0-3620B80D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FD85-5B34-488A-BC36-2C715519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1C59-8D1E-440F-B48F-686A14AD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5A5B-05C3-4E09-B0E8-A0E19CEF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8141-C79A-47A1-9FB4-15F8C158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4C33-1720-486F-BA14-798B29A9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0053-678D-4EBE-AE2D-519BF98ECD4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3077-99F9-44AE-883A-E13186DBC27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Administrator\Desktop\46aa448b051e1ff6525de1b8093de8e4.jpg"/>
          <p:cNvPicPr/>
          <p:nvPr/>
        </p:nvPicPr>
        <p:blipFill>
          <a:blip r:embed="rId1"/>
          <a:stretch/>
        </p:blipFill>
        <p:spPr>
          <a:xfrm>
            <a:off x="0" y="-243000"/>
            <a:ext cx="9540720" cy="7272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90240" y="1054080"/>
            <a:ext cx="31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图片素材免费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Administrator\Desktop\91131a1d14fa1d75612b89f67ab382d3.jpg"/>
          <p:cNvPicPr/>
          <p:nvPr/>
        </p:nvPicPr>
        <p:blipFill>
          <a:blip r:embed="rId1"/>
          <a:stretch/>
        </p:blipFill>
        <p:spPr>
          <a:xfrm>
            <a:off x="-324000" y="-301680"/>
            <a:ext cx="9722160" cy="7408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9058-0F3E-484E-916C-182BB4576A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Administrator\Desktop\46aa448b051e1ff6525de1b8093de8e4.jpg"/>
          <p:cNvPicPr/>
          <p:nvPr/>
        </p:nvPicPr>
        <p:blipFill>
          <a:blip r:embed="rId1"/>
          <a:stretch/>
        </p:blipFill>
        <p:spPr>
          <a:xfrm>
            <a:off x="0" y="-55440"/>
            <a:ext cx="9144000" cy="69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2T09:31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5:46:2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