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A55-74DB-468C-8D85-A727CA77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747-2B65-47DA-B61E-0D5F4B03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8AA-D0F1-4E04-95B0-E333F334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038-3597-4D61-8159-E30A0446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C8D5-97E3-49CA-A11A-BE4E269E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6B05-30B2-4CAC-A529-C1995EB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30C7-6F04-4B5E-9029-EAE9AF77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D87E-69F3-4B24-BF83-0E9FB6A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A04E-2260-4F16-8052-886FD0E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75B7-8387-49E4-B588-B4FD9912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6489-85EB-4567-90EC-CBD719D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0CA-18E3-41A7-8570-2CCB2DE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815-B469-4F77-8A97-3C7ED65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0967-443E-4E2F-B25B-AC9C81AC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70BD-D702-4C9C-AD55-24BAD2CF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7AE4-CA9D-4C37-8612-65DCA224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D9B5-90ED-4E75-82A3-AB48012C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C5F4-479F-4847-84CE-467CC0A6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B1D3-6090-4911-AA6E-394CDCB3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73C5-0458-45B8-871B-0E0D392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7E7A-CA6E-4B34-ACD1-9586EBEA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B926-80CA-4472-858D-B0A5668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1EB-F3DD-49AD-AC2E-9E2D2032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E8BB-7D53-4A40-94E7-2CC19A07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BFF60-E3B1-450E-B297-2F840C8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5C12-239D-424F-AB16-B2507149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C36A-6376-4962-9031-53C190C1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4809-54F6-4105-894A-6F4093B7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D5ED-67E1-43E0-BF2B-7992726E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FB8FE-0F7C-4F67-8FA5-60EDE49F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6DEE-1C19-4FF9-A458-3B9B9533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E72D3-EFCA-4976-9CF5-8912674E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29D4F-9FD9-43CA-BB5D-6026A643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9AB-1F03-4071-92EC-D5D15BA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8F4DB-0698-4EFF-AAEA-78FB60DF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39032-B208-4AF3-8488-24B680B0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E0EE8-0477-4A24-9B4F-4C82531F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9EA8-DF4C-4112-BBFE-13FA4FE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823A-F099-4164-8300-64AFC94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F5FB-DAE2-4002-9679-A855950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4E98F-9F7A-4F00-8392-1A5BD319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8F16-E675-4915-A8DB-2DEC3D2F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3764-F700-49D3-9C4B-AEDEB7A4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E90-4BF3-4A0F-99B9-D1F0042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ABE-1550-4FC9-9E8E-C5A1241C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F17-15E8-4EB1-B6CD-4CBF6E97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EEE-425A-4682-8F67-D3F2A4C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586-9219-4759-A9B0-F88B8A3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1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F81D-2558-49BF-BF05-DA4397B6FEE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AF7-1A19-4E10-807B-F4E849BC971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5831-19D9-4C6C-8597-97D7F92B481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7D4-F5F3-406D-ABB1-C20D6352A974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my.com.cn/image1.asp?img=images/1hk00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0"/>
          <p:cNvSpPr/>
          <p:nvPr/>
        </p:nvSpPr>
        <p:spPr>
          <a:xfrm>
            <a:off x="2637000" y="1844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66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Picture 4" descr="F:\ppt\705a\人教版四年级语文上册《秦兵马俑》PPT课件\48012_20130105222934513396_1 (1).jpg"/>
          <p:cNvPicPr/>
          <p:nvPr/>
        </p:nvPicPr>
        <p:blipFill>
          <a:blip r:embed="rId17"/>
          <a:srcRect l="0" t="3439" r="4832" b="0"/>
          <a:stretch/>
        </p:blipFill>
        <p:spPr>
          <a:xfrm>
            <a:off x="2627280" y="1700280"/>
            <a:ext cx="3313080" cy="480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8600" y="693720"/>
            <a:ext cx="29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《秦兵马俑》</a:t>
            </a: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Times New Roman"/>
              </a:rPr>
              <a:t>课件</a:t>
            </a:r>
            <a:r>
              <a:rPr b="0" lang="zh-CN" sz="4000" spc="-1" strike="noStrike">
                <a:solidFill>
                  <a:srgbClr val="4d4d4d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ety27"/>
          <p:cNvPicPr/>
          <p:nvPr/>
        </p:nvPicPr>
        <p:blipFill>
          <a:blip r:embed="rId2"/>
          <a:stretch/>
        </p:blipFill>
        <p:spPr>
          <a:xfrm>
            <a:off x="6227640" y="2781360"/>
            <a:ext cx="959040" cy="2514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车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车兵俑则分为驭手和军士，驭手居中而立，驾驭着战车，军士分列在战车两侧，保护着驭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5" name="Picture 5" descr="tcm2"/>
          <p:cNvPicPr/>
          <p:nvPr/>
        </p:nvPicPr>
        <p:blipFill>
          <a:blip r:embed="rId3"/>
          <a:stretch/>
        </p:blipFill>
        <p:spPr>
          <a:xfrm>
            <a:off x="3419640" y="2276640"/>
            <a:ext cx="5486400" cy="35496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7">
            <a:hlinkClick r:id="" action="ppaction://hlinkshowjump?jump=lastslide"/>
          </p:cNvPr>
          <p:cNvSpPr/>
          <p:nvPr/>
        </p:nvSpPr>
        <p:spPr>
          <a:xfrm>
            <a:off x="8686800" y="624852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8">
            <a:hlinkClick r:id="" action="ppaction://hlinkshowjump?jump=firstslide"/>
          </p:cNvPr>
          <p:cNvSpPr/>
          <p:nvPr/>
        </p:nvSpPr>
        <p:spPr>
          <a:xfrm>
            <a:off x="7924680" y="624852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10800" y="6487"/>
                </a:moveTo>
                <a:lnTo>
                  <a:pt x="13390" y="9112"/>
                </a:ln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lnTo>
                  <a:pt x="17800" y="13487"/>
                </a:lnTo>
                <a:lnTo>
                  <a:pt x="16138" y="13487"/>
                </a:lnTo>
                <a:lnTo>
                  <a:pt x="16138" y="20715"/>
                </a:lnTo>
                <a:lnTo>
                  <a:pt x="5463" y="20715"/>
                </a:lnTo>
                <a:lnTo>
                  <a:pt x="5463" y="13487"/>
                </a:lnTo>
                <a:lnTo>
                  <a:pt x="3800" y="13487"/>
                </a:lnTo>
                <a:close/>
              </a:path>
              <a:path fill="darkenLess" w="21600" h="26975">
                <a:moveTo>
                  <a:pt x="13390" y="9112"/>
                </a:move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close/>
              </a:path>
              <a:path fill="darkenLess" w="21600" h="26975">
                <a:moveTo>
                  <a:pt x="9873" y="17005"/>
                </a:moveTo>
                <a:lnTo>
                  <a:pt x="11728" y="17005"/>
                </a:lnTo>
                <a:lnTo>
                  <a:pt x="11728" y="20715"/>
                </a:lnTo>
                <a:lnTo>
                  <a:pt x="16138" y="20715"/>
                </a:lnTo>
                <a:lnTo>
                  <a:pt x="16138" y="13487"/>
                </a:lnTo>
                <a:lnTo>
                  <a:pt x="5463" y="13487"/>
                </a:lnTo>
                <a:lnTo>
                  <a:pt x="5463" y="20715"/>
                </a:lnTo>
                <a:lnTo>
                  <a:pt x="9873" y="20715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9" name="Picture 9" descr="ety27"/>
          <p:cNvPicPr/>
          <p:nvPr/>
        </p:nvPicPr>
        <p:blipFill>
          <a:blip r:embed="rId4"/>
          <a:stretch/>
        </p:blipFill>
        <p:spPr>
          <a:xfrm>
            <a:off x="7596360" y="3068640"/>
            <a:ext cx="958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31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Picture 4" descr="E:\王志科\1\兵马俑图片\ety2.jpg"/>
          <p:cNvPicPr/>
          <p:nvPr/>
        </p:nvPicPr>
        <p:blipFill>
          <a:blip r:embed="rId2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E:\王志科\1\兵马俑图片\ety1.jpg"/>
          <p:cNvPicPr/>
          <p:nvPr/>
        </p:nvPicPr>
        <p:blipFill>
          <a:blip r:embed="rId3"/>
          <a:stretch/>
        </p:blipFill>
        <p:spPr>
          <a:xfrm>
            <a:off x="3809880" y="1752480"/>
            <a:ext cx="25448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304560" cy="45720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50" y="31063"/>
                </a:lnTo>
                <a:lnTo>
                  <a:pt x="20250" y="135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350" y="31063"/>
                </a:lnTo>
                <a:lnTo>
                  <a:pt x="20250" y="3106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350" y="1350"/>
                </a:lnTo>
                <a:lnTo>
                  <a:pt x="1350" y="31063"/>
                </a:lnTo>
                <a:close/>
              </a:path>
              <a:path fill="darken" w="21600" h="32413">
                <a:moveTo>
                  <a:pt x="3756" y="9163"/>
                </a:moveTo>
                <a:lnTo>
                  <a:pt x="17844" y="16206"/>
                </a:lnTo>
                <a:lnTo>
                  <a:pt x="3756" y="2325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7">
            <a:hlinkClick r:id="" action="ppaction://hlinkshowjump?jump=lastslide"/>
          </p:cNvPr>
          <p:cNvSpPr/>
          <p:nvPr/>
        </p:nvSpPr>
        <p:spPr>
          <a:xfrm>
            <a:off x="8686800" y="617220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8">
            <a:hlinkClick r:id="" action="ppaction://hlinkshowjump?jump=firstslide"/>
          </p:cNvPr>
          <p:cNvSpPr/>
          <p:nvPr/>
        </p:nvSpPr>
        <p:spPr>
          <a:xfrm>
            <a:off x="7924680" y="6172200"/>
            <a:ext cx="304920" cy="38088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50" y="25625"/>
                </a:lnTo>
                <a:lnTo>
                  <a:pt x="20250" y="135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350" y="25625"/>
                </a:lnTo>
                <a:lnTo>
                  <a:pt x="20250" y="2562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25"/>
                </a:lnTo>
                <a:close/>
              </a:path>
              <a:path fill="darken" w="21600" h="26975">
                <a:moveTo>
                  <a:pt x="10800" y="6487"/>
                </a:moveTo>
                <a:lnTo>
                  <a:pt x="13390" y="9112"/>
                </a:ln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lnTo>
                  <a:pt x="17800" y="13487"/>
                </a:lnTo>
                <a:lnTo>
                  <a:pt x="16138" y="13487"/>
                </a:lnTo>
                <a:lnTo>
                  <a:pt x="16138" y="20715"/>
                </a:lnTo>
                <a:lnTo>
                  <a:pt x="5463" y="20715"/>
                </a:lnTo>
                <a:lnTo>
                  <a:pt x="5463" y="13487"/>
                </a:lnTo>
                <a:lnTo>
                  <a:pt x="3800" y="13487"/>
                </a:lnTo>
                <a:close/>
              </a:path>
              <a:path fill="darkenLess" w="21600" h="26975">
                <a:moveTo>
                  <a:pt x="13390" y="9112"/>
                </a:moveTo>
                <a:lnTo>
                  <a:pt x="13390" y="7362"/>
                </a:lnTo>
                <a:lnTo>
                  <a:pt x="15175" y="7362"/>
                </a:lnTo>
                <a:lnTo>
                  <a:pt x="15175" y="10897"/>
                </a:lnTo>
                <a:close/>
              </a:path>
              <a:path fill="darkenLess" w="21600" h="26975">
                <a:moveTo>
                  <a:pt x="9873" y="17005"/>
                </a:moveTo>
                <a:lnTo>
                  <a:pt x="11728" y="17005"/>
                </a:lnTo>
                <a:lnTo>
                  <a:pt x="11728" y="20715"/>
                </a:lnTo>
                <a:lnTo>
                  <a:pt x="16138" y="20715"/>
                </a:lnTo>
                <a:lnTo>
                  <a:pt x="16138" y="13487"/>
                </a:lnTo>
                <a:lnTo>
                  <a:pt x="5463" y="13487"/>
                </a:lnTo>
                <a:lnTo>
                  <a:pt x="5463" y="20715"/>
                </a:lnTo>
                <a:lnTo>
                  <a:pt x="9873" y="20715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Picture 4" descr="E:\王志科\1\兵马俑图片\马.jpg"/>
          <p:cNvPicPr/>
          <p:nvPr/>
        </p:nvPicPr>
        <p:blipFill>
          <a:blip r:embed="rId2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234" name="Picture 3" descr="斜头"/>
            <p:cNvPicPr/>
            <p:nvPr/>
          </p:nvPicPr>
          <p:blipFill>
            <a:blip r:embed="rId2"/>
            <a:stretch/>
          </p:blipFill>
          <p:spPr>
            <a:xfrm>
              <a:off x="1042920" y="4138920"/>
              <a:ext cx="15685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Group 5"/>
          <p:cNvGrpSpPr/>
          <p:nvPr/>
        </p:nvGrpSpPr>
        <p:grpSpPr>
          <a:xfrm>
            <a:off x="900000" y="577800"/>
            <a:ext cx="3962520" cy="2453040"/>
            <a:chOff x="900000" y="577800"/>
            <a:chExt cx="3962520" cy="2453040"/>
          </a:xfrm>
        </p:grpSpPr>
        <p:pic>
          <p:nvPicPr>
            <p:cNvPr id="237" name="Picture 6" descr="深思"/>
            <p:cNvPicPr/>
            <p:nvPr/>
          </p:nvPicPr>
          <p:blipFill>
            <a:blip r:embed="rId3"/>
            <a:stretch/>
          </p:blipFill>
          <p:spPr>
            <a:xfrm>
              <a:off x="1260360" y="793800"/>
              <a:ext cx="15415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7"/>
            <p:cNvSpPr/>
            <p:nvPr/>
          </p:nvSpPr>
          <p:spPr>
            <a:xfrm>
              <a:off x="1404720" y="577800"/>
              <a:ext cx="34578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首低垂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若有所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Text Box 8"/>
            <p:cNvSpPr/>
            <p:nvPr/>
          </p:nvSpPr>
          <p:spPr>
            <a:xfrm>
              <a:off x="900000" y="244944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考虑如何相互配合，战胜敌手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0" name="Group 9"/>
          <p:cNvGrpSpPr/>
          <p:nvPr/>
        </p:nvGrpSpPr>
        <p:grpSpPr>
          <a:xfrm>
            <a:off x="5074920" y="333360"/>
            <a:ext cx="3600720" cy="3431160"/>
            <a:chOff x="5074920" y="333360"/>
            <a:chExt cx="3600720" cy="3431160"/>
          </a:xfrm>
        </p:grpSpPr>
        <p:pic>
          <p:nvPicPr>
            <p:cNvPr id="241" name="Picture 10" descr="发火"/>
            <p:cNvPicPr/>
            <p:nvPr/>
          </p:nvPicPr>
          <p:blipFill>
            <a:blip r:embed="rId4"/>
            <a:stretch/>
          </p:blipFill>
          <p:spPr>
            <a:xfrm>
              <a:off x="5087880" y="407880"/>
              <a:ext cx="15714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11"/>
            <p:cNvSpPr/>
            <p:nvPr/>
          </p:nvSpPr>
          <p:spPr>
            <a:xfrm>
              <a:off x="5074920" y="333360"/>
              <a:ext cx="36007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Text Box 12"/>
            <p:cNvSpPr/>
            <p:nvPr/>
          </p:nvSpPr>
          <p:spPr>
            <a:xfrm>
              <a:off x="531720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5003640" y="4076640"/>
            <a:ext cx="3406680" cy="2197080"/>
            <a:chOff x="5003640" y="4076640"/>
            <a:chExt cx="3406680" cy="2197080"/>
          </a:xfrm>
        </p:grpSpPr>
        <p:pic>
          <p:nvPicPr>
            <p:cNvPr id="245" name="Picture 14" descr="远方"/>
            <p:cNvPicPr/>
            <p:nvPr/>
          </p:nvPicPr>
          <p:blipFill>
            <a:blip r:embed="rId5"/>
            <a:stretch/>
          </p:blipFill>
          <p:spPr>
            <a:xfrm>
              <a:off x="5003640" y="4186080"/>
              <a:ext cx="158580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5"/>
            <p:cNvSpPr/>
            <p:nvPr/>
          </p:nvSpPr>
          <p:spPr>
            <a:xfrm>
              <a:off x="701028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7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神态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Picture 4" descr="E:\王志科\1\兵马俑图片\低头.jpg"/>
          <p:cNvPicPr/>
          <p:nvPr/>
        </p:nvPicPr>
        <p:blipFill>
          <a:blip r:embed="rId2"/>
          <a:stretch/>
        </p:blipFill>
        <p:spPr>
          <a:xfrm>
            <a:off x="678168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E:\王志科\1\兵马俑图片\愁眉苦脸.jpg"/>
          <p:cNvPicPr/>
          <p:nvPr/>
        </p:nvPicPr>
        <p:blipFill>
          <a:blip r:embed="rId3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E:\王志科\1\兵马俑图片\出征.jpg"/>
          <p:cNvPicPr/>
          <p:nvPr/>
        </p:nvPicPr>
        <p:blipFill>
          <a:blip r:embed="rId4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E:\王志科\1\兵马俑图片\打仗.jpg"/>
          <p:cNvPicPr/>
          <p:nvPr/>
        </p:nvPicPr>
        <p:blipFill>
          <a:blip r:embed="rId5"/>
          <a:stretch/>
        </p:blipFill>
        <p:spPr>
          <a:xfrm>
            <a:off x="228600" y="0"/>
            <a:ext cx="2197080" cy="3429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王志科\1\兵马俑图片\光头.jpg"/>
          <p:cNvPicPr/>
          <p:nvPr/>
        </p:nvPicPr>
        <p:blipFill>
          <a:blip r:embed="rId6"/>
          <a:stretch/>
        </p:blipFill>
        <p:spPr>
          <a:xfrm>
            <a:off x="228600" y="3429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E:\王志科\1\兵马俑图片\老头.jpg"/>
          <p:cNvPicPr/>
          <p:nvPr/>
        </p:nvPicPr>
        <p:blipFill>
          <a:blip r:embed="rId7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10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50" y="25656"/>
                </a:lnTo>
                <a:lnTo>
                  <a:pt x="20250" y="135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350" y="25656"/>
                </a:lnTo>
                <a:lnTo>
                  <a:pt x="20250" y="2565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6"/>
                </a:lnTo>
                <a:close/>
              </a:path>
              <a:path fill="darken" w="21600" h="27006">
                <a:moveTo>
                  <a:pt x="3756" y="6459"/>
                </a:moveTo>
                <a:lnTo>
                  <a:pt x="17844" y="13503"/>
                </a:lnTo>
                <a:lnTo>
                  <a:pt x="3756" y="20547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11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0880"/>
              <a:gd name="textAreaBottom" fmla="*/ 36684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50" y="34616"/>
                </a:lnTo>
                <a:lnTo>
                  <a:pt x="20250" y="135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350" y="34616"/>
                </a:lnTo>
                <a:lnTo>
                  <a:pt x="20250" y="3461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16"/>
                </a:lnTo>
                <a:close/>
              </a:path>
              <a:path fill="darken" w="21600" h="35966">
                <a:moveTo>
                  <a:pt x="14318" y="17983"/>
                </a:moveTo>
                <a:lnTo>
                  <a:pt x="3756" y="25027"/>
                </a:lnTo>
                <a:lnTo>
                  <a:pt x="3756" y="10939"/>
                </a:lnTo>
                <a:close/>
              </a:path>
              <a:path fill="darken" w="21600" h="35966">
                <a:moveTo>
                  <a:pt x="16173" y="10939"/>
                </a:moveTo>
                <a:lnTo>
                  <a:pt x="16173" y="25027"/>
                </a:lnTo>
                <a:lnTo>
                  <a:pt x="17844" y="25027"/>
                </a:lnTo>
                <a:lnTo>
                  <a:pt x="17844" y="1093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AutoShape 12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0880"/>
              <a:gd name="textAreaBottom" fmla="*/ 36216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50" y="25656"/>
                </a:lnTo>
                <a:lnTo>
                  <a:pt x="20250" y="135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350" y="25656"/>
                </a:lnTo>
                <a:lnTo>
                  <a:pt x="20250" y="2565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6"/>
                </a:lnTo>
                <a:close/>
              </a:path>
              <a:path fill="darken" w="21600" h="27006">
                <a:moveTo>
                  <a:pt x="10800" y="6503"/>
                </a:moveTo>
                <a:lnTo>
                  <a:pt x="13390" y="9128"/>
                </a:lnTo>
                <a:lnTo>
                  <a:pt x="13390" y="7378"/>
                </a:lnTo>
                <a:lnTo>
                  <a:pt x="15175" y="7378"/>
                </a:lnTo>
                <a:lnTo>
                  <a:pt x="15175" y="10913"/>
                </a:lnTo>
                <a:lnTo>
                  <a:pt x="17800" y="13503"/>
                </a:lnTo>
                <a:lnTo>
                  <a:pt x="16138" y="13503"/>
                </a:lnTo>
                <a:lnTo>
                  <a:pt x="16138" y="20731"/>
                </a:lnTo>
                <a:lnTo>
                  <a:pt x="5463" y="20731"/>
                </a:lnTo>
                <a:lnTo>
                  <a:pt x="5463" y="13503"/>
                </a:lnTo>
                <a:lnTo>
                  <a:pt x="3800" y="13503"/>
                </a:lnTo>
                <a:close/>
              </a:path>
              <a:path fill="darkenLess" w="21600" h="27006">
                <a:moveTo>
                  <a:pt x="13390" y="9128"/>
                </a:moveTo>
                <a:lnTo>
                  <a:pt x="13390" y="7378"/>
                </a:lnTo>
                <a:lnTo>
                  <a:pt x="15175" y="7378"/>
                </a:lnTo>
                <a:lnTo>
                  <a:pt x="15175" y="10913"/>
                </a:lnTo>
                <a:close/>
              </a:path>
              <a:path fill="darkenLess" w="21600" h="27006">
                <a:moveTo>
                  <a:pt x="9873" y="17021"/>
                </a:moveTo>
                <a:lnTo>
                  <a:pt x="11728" y="17021"/>
                </a:lnTo>
                <a:lnTo>
                  <a:pt x="11728" y="20731"/>
                </a:lnTo>
                <a:lnTo>
                  <a:pt x="16138" y="20731"/>
                </a:lnTo>
                <a:lnTo>
                  <a:pt x="16138" y="13503"/>
                </a:lnTo>
                <a:lnTo>
                  <a:pt x="5463" y="13503"/>
                </a:lnTo>
                <a:lnTo>
                  <a:pt x="5463" y="20731"/>
                </a:lnTo>
                <a:lnTo>
                  <a:pt x="9873" y="20731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0" name="Picture 13" descr="E:\王志科\1\兵马俑图片\思考.jpg"/>
          <p:cNvPicPr/>
          <p:nvPr/>
        </p:nvPicPr>
        <p:blipFill>
          <a:blip r:embed="rId8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4" descr="E:\王志科\1\兵马俑图片\铜铃.jpg"/>
          <p:cNvPicPr/>
          <p:nvPr/>
        </p:nvPicPr>
        <p:blipFill>
          <a:blip r:embed="rId9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15">
            <a:hlinkClick r:id="" action="ppaction://hlinkshowjump?jump=nextslide"/>
          </p:cNvPr>
          <p:cNvSpPr/>
          <p:nvPr/>
        </p:nvSpPr>
        <p:spPr>
          <a:xfrm>
            <a:off x="8610480" y="655308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4" descr="E:\王志科\1\兵马俑图片\欢迎登陆秦始皇兵马俑博物馆网站.files\1hk01.jpg"/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58942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6381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C0EE-4686-4743-8EF7-3C5B01CAD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Rectangle 5">
            <a:hlinkClick r:id="rId2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6" descr="E:\王志科\1\兵马俑图片\新建文件夹\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8" name="Picture 4" descr="E:\王志科\1\兵马俑图片\新建文件夹\5.jpg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头戴金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身披铠甲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手握宝剑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昂首挺胸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站在队伍前列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像是在指挥身后的军吏和士兵行进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那神态自若的样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一看就知道是久经沙场、身负重任的高级将领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Picture 4" descr="yty23"/>
          <p:cNvPicPr/>
          <p:nvPr/>
        </p:nvPicPr>
        <p:blipFill>
          <a:blip r:embed="rId2"/>
          <a:stretch/>
        </p:blipFill>
        <p:spPr>
          <a:xfrm>
            <a:off x="5029200" y="1523880"/>
            <a:ext cx="1965240" cy="53341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士俑高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Picture 4" descr="E:\王志科\1\兵马俑图片\ety24.jpg"/>
          <p:cNvPicPr/>
          <p:nvPr/>
        </p:nvPicPr>
        <p:blipFill>
          <a:blip r:embed="rId2"/>
          <a:stretch/>
        </p:blipFill>
        <p:spPr>
          <a:xfrm>
            <a:off x="4876920" y="1676520"/>
            <a:ext cx="2555640" cy="51814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Picture 4" descr="E:\王志科\1\兵马俑图片\ety25.jpg"/>
          <p:cNvPicPr/>
          <p:nvPr/>
        </p:nvPicPr>
        <p:blipFill>
          <a:blip r:embed="rId2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8720 w 304560"/>
              <a:gd name="textAreaRight" fmla="*/ 285840 w 304560"/>
              <a:gd name="textAreaTop" fmla="*/ 1872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50" y="25682"/>
                </a:lnTo>
                <a:lnTo>
                  <a:pt x="20250" y="135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350" y="25682"/>
                </a:lnTo>
                <a:lnTo>
                  <a:pt x="20250" y="2568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82"/>
                </a:lnTo>
                <a:close/>
              </a:path>
              <a:path fill="darken" w="21600" h="27032">
                <a:moveTo>
                  <a:pt x="3756" y="6472"/>
                </a:moveTo>
                <a:lnTo>
                  <a:pt x="17844" y="13516"/>
                </a:lnTo>
                <a:lnTo>
                  <a:pt x="3756" y="2056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381240"/>
              <a:gd name="textAreaBottom" fmla="*/ 36720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50" y="34650"/>
                </a:lnTo>
                <a:lnTo>
                  <a:pt x="20250" y="135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350" y="34650"/>
                </a:lnTo>
                <a:lnTo>
                  <a:pt x="20250" y="3465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34650"/>
                </a:lnTo>
                <a:close/>
              </a:path>
              <a:path fill="darken" w="21600" h="36000">
                <a:moveTo>
                  <a:pt x="14318" y="18000"/>
                </a:moveTo>
                <a:lnTo>
                  <a:pt x="3756" y="25044"/>
                </a:lnTo>
                <a:lnTo>
                  <a:pt x="3756" y="10956"/>
                </a:lnTo>
                <a:close/>
              </a:path>
              <a:path fill="darken" w="21600" h="36000">
                <a:moveTo>
                  <a:pt x="16173" y="10956"/>
                </a:moveTo>
                <a:lnTo>
                  <a:pt x="16173" y="25044"/>
                </a:lnTo>
                <a:lnTo>
                  <a:pt x="17844" y="25044"/>
                </a:lnTo>
                <a:lnTo>
                  <a:pt x="17844" y="10956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81240"/>
              <a:gd name="textAreaBottom" fmla="*/ 36252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50" y="25650"/>
                </a:lnTo>
                <a:lnTo>
                  <a:pt x="20250" y="135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350" y="25650"/>
                </a:lnTo>
                <a:lnTo>
                  <a:pt x="20250" y="2565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5650"/>
                </a:lnTo>
                <a:close/>
              </a:path>
              <a:path fill="darken" w="21600" h="27000">
                <a:moveTo>
                  <a:pt x="10800" y="6500"/>
                </a:moveTo>
                <a:lnTo>
                  <a:pt x="13390" y="9125"/>
                </a:ln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lnTo>
                  <a:pt x="17800" y="13500"/>
                </a:lnTo>
                <a:lnTo>
                  <a:pt x="16138" y="13500"/>
                </a:lnTo>
                <a:lnTo>
                  <a:pt x="16138" y="20728"/>
                </a:lnTo>
                <a:lnTo>
                  <a:pt x="5463" y="20728"/>
                </a:lnTo>
                <a:lnTo>
                  <a:pt x="5463" y="13500"/>
                </a:lnTo>
                <a:lnTo>
                  <a:pt x="3800" y="13500"/>
                </a:lnTo>
                <a:close/>
              </a:path>
              <a:path fill="darkenLess" w="21600" h="27000">
                <a:moveTo>
                  <a:pt x="13390" y="9125"/>
                </a:moveTo>
                <a:lnTo>
                  <a:pt x="13390" y="7375"/>
                </a:lnTo>
                <a:lnTo>
                  <a:pt x="15175" y="7375"/>
                </a:lnTo>
                <a:lnTo>
                  <a:pt x="15175" y="10910"/>
                </a:lnTo>
                <a:close/>
              </a:path>
              <a:path fill="darkenLess" w="21600" h="27000">
                <a:moveTo>
                  <a:pt x="9873" y="17018"/>
                </a:moveTo>
                <a:lnTo>
                  <a:pt x="11728" y="17018"/>
                </a:lnTo>
                <a:lnTo>
                  <a:pt x="11728" y="20728"/>
                </a:lnTo>
                <a:lnTo>
                  <a:pt x="16138" y="20728"/>
                </a:lnTo>
                <a:lnTo>
                  <a:pt x="16138" y="13500"/>
                </a:lnTo>
                <a:lnTo>
                  <a:pt x="5463" y="13500"/>
                </a:lnTo>
                <a:lnTo>
                  <a:pt x="5463" y="20728"/>
                </a:lnTo>
                <a:lnTo>
                  <a:pt x="9873" y="20728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0:00:2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32:4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