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.jpeg" ContentType="image/jpeg"/>
  <Override PartName="/ppt/media/image15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EC5549-1CA6-49CE-8731-29AEB40C2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52A85F-0E80-45DE-9379-77AE4EAF9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5833F2-0F81-45F3-9988-B107D16FB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B83F29-50EC-4A84-99D0-67D3EA549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606C8D-6569-4FA4-98E1-1DBA0EB10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0844CA-B083-40AC-85B3-695A471D0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BC0BB1-4FE6-4DF2-BB25-4F32908FF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87585A-89F9-422D-98F3-4D20E7AB4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6E9151-A816-4990-BDAC-B1B814956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EACE7C-8A86-4F55-AE52-AC750D2C8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366506-2D3C-4B80-99CD-CF6B23019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8C1630-0423-4AFC-B4FC-2E1CE65BF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f0f0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511b00"/>
                </a:gs>
                <a:gs pos="50000">
                  <a:srgbClr val="602000"/>
                </a:gs>
                <a:gs pos="100000">
                  <a:srgbClr val="511b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c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5d1f00"/>
                </a:gs>
                <a:gs pos="50000">
                  <a:srgbClr val="602000"/>
                </a:gs>
                <a:gs pos="100000">
                  <a:srgbClr val="5d1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5000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5d1f00"/>
                </a:gs>
                <a:gs pos="50000">
                  <a:srgbClr val="602000"/>
                </a:gs>
                <a:gs pos="100000">
                  <a:srgbClr val="5d1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80808"/>
                </a:gs>
                <a:gs pos="50000">
                  <a:srgbClr val="000000"/>
                </a:gs>
                <a:gs pos="100000">
                  <a:srgbClr val="08080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3CF69-429F-40CF-A9C7-BEFA73B500DA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:\&#12298;&#21315;&#24180;&#26790;&#22278;&#22312;&#20170;&#26397;&#12299;\ea0b6bd370eb8fcf7e943887488daa4dc80e4a47e11841c07f8312e9a0259135b211da2209a043a1.flv" TargetMode="External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D:\&#35838;&#20214;&#25991;&#20214;\&#12298;&#21315;&#24180;&#26790;&#22278;&#22312;&#20170;&#26397;&#12299;\1ecd28df3dc47ccd9045c3181e3fb4af2338456.flv" TargetMode="Externa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hyperlink" Target="H:\&#12298;&#21315;&#24180;&#26790;&#22278;&#22312;&#20170;&#26397;&#12299;\&#26143;&#31354;.mp3" TargetMode="Externa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hyperlink" Target="H:\&#12298;&#21315;&#24180;&#26790;&#22278;&#22312;&#20170;&#26397;&#12299;\&#23270;&#23077;&#22868;&#26376;.mp3" TargetMode="External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kejian/" TargetMode="External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:\&#12298;&#21315;&#24180;&#26790;&#22278;&#22312;&#20170;&#26397;&#12299;\642c8079208233f330947e9bcb87289c7824249.flv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页脚占位符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4" name="Picture 2" descr="【祝神舟六号载人飞船成功发射！第三辑】---遨游太空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AutoShape 6">
            <a:hlinkClick r:id="rId2"/>
          </p:cNvPr>
          <p:cNvSpPr/>
          <p:nvPr/>
        </p:nvSpPr>
        <p:spPr>
          <a:xfrm>
            <a:off x="228600" y="6248520"/>
            <a:ext cx="360360" cy="360360"/>
          </a:xfrm>
          <a:custGeom>
            <a:avLst/>
            <a:gdLst>
              <a:gd name="textAreaLeft" fmla="*/ 22320 w 360360"/>
              <a:gd name="textAreaRight" fmla="*/ 338040 w 360360"/>
              <a:gd name="textAreaTop" fmla="*/ 22320 h 360360"/>
              <a:gd name="textAreaBottom" fmla="*/ 33804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50" y="1350"/>
                </a:lnTo>
                <a:lnTo>
                  <a:pt x="1350" y="135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50" y="20250"/>
                </a:lnTo>
                <a:lnTo>
                  <a:pt x="20250" y="135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0250" y="2025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1600" h="21600">
                <a:moveTo>
                  <a:pt x="3756" y="8394"/>
                </a:moveTo>
                <a:lnTo>
                  <a:pt x="8210" y="8394"/>
                </a:lnTo>
                <a:lnTo>
                  <a:pt x="12655" y="3756"/>
                </a:lnTo>
                <a:lnTo>
                  <a:pt x="12655" y="17844"/>
                </a:lnTo>
                <a:lnTo>
                  <a:pt x="8210" y="13206"/>
                </a:lnTo>
                <a:lnTo>
                  <a:pt x="3756" y="13206"/>
                </a:lnTo>
                <a:close/>
              </a:path>
              <a:path fill="darken" w="21600" h="21600">
                <a:moveTo>
                  <a:pt x="14318" y="10800"/>
                </a:moveTo>
                <a:lnTo>
                  <a:pt x="17844" y="10800"/>
                </a:lnTo>
              </a:path>
              <a:path fill="darken" w="21600" h="21600">
                <a:moveTo>
                  <a:pt x="14318" y="8394"/>
                </a:moveTo>
                <a:lnTo>
                  <a:pt x="17844" y="5611"/>
                </a:lnTo>
              </a:path>
              <a:path fill="darken" w="21600" h="21600">
                <a:moveTo>
                  <a:pt x="14318" y="13206"/>
                </a:moveTo>
                <a:lnTo>
                  <a:pt x="17844" y="15989"/>
                </a:lnTo>
              </a:path>
            </a:pathLst>
          </a:cu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"/>
          <p:cNvSpPr/>
          <p:nvPr/>
        </p:nvSpPr>
        <p:spPr>
          <a:xfrm>
            <a:off x="538200" y="61945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"/>
          <p:cNvSpPr/>
          <p:nvPr/>
        </p:nvSpPr>
        <p:spPr>
          <a:xfrm>
            <a:off x="3539520" y="2514600"/>
            <a:ext cx="2391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ahoma"/>
              </a:rPr>
              <a:t>《千年梦圆在今朝》课件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Tahoma"/>
              </a:rPr>
              <a:t>模板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页脚占位符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2" name="Picture 7" descr="搜狐社区网友上传图片"/>
          <p:cNvPicPr/>
          <p:nvPr/>
        </p:nvPicPr>
        <p:blipFill>
          <a:blip r:embed="rId1"/>
          <a:srcRect l="0" t="0" r="0" b="444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2"/>
          <p:cNvSpPr/>
          <p:nvPr/>
        </p:nvSpPr>
        <p:spPr>
          <a:xfrm>
            <a:off x="685800" y="533520"/>
            <a:ext cx="792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en-US" sz="3200" spc="-1" strike="noStrike">
                <a:solidFill>
                  <a:srgbClr val="66ff33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66ff33"/>
                </a:solidFill>
                <a:latin typeface="Arial"/>
              </a:rPr>
              <a:t>神州五号”载人飞船的发射成功的历史意义：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457200" y="1752480"/>
            <a:ext cx="8458200" cy="17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ff"/>
                </a:solidFill>
                <a:latin typeface="Arial"/>
                <a:ea typeface="楷体_GB2312"/>
              </a:rPr>
              <a:t>        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神舟五号发射成功，标志着中国攀登世界科技高峰迈出具有重大历史意义的一步，象征着伟大中华民族复兴进程跃上一个新的起点。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　　神舟五号发射成功，是中国进入太空新时代的里程碑。中国由此跻身于世界上实现载人航天飞行的三个国家之列，显示出中国日益强大的科技实力。　　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楷体_GB2312"/>
              </a:rPr>
              <a:t>　　今天的飞天梦圆，预示着明天的强国梦圆。神舟五号发射成功，极大地鼓舞着全世界的炎黄子孙，增强了中华儿女的认同感、自豪感和凝聚力，中华民族将以更加自信的姿态屹立于世界民族之林。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  <a:ea typeface="楷体_GB2312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WordArt 4"/>
          <p:cNvSpPr txBox="1"/>
          <p:nvPr/>
        </p:nvSpPr>
        <p:spPr>
          <a:xfrm>
            <a:off x="0" y="-685800"/>
            <a:ext cx="18288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华文新魏"/>
              </a:rPr>
              <a:t>理解体会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116" name="AutoShape 9">
            <a:hlinkClick r:id="rId2"/>
          </p:cNvPr>
          <p:cNvSpPr/>
          <p:nvPr/>
        </p:nvSpPr>
        <p:spPr>
          <a:xfrm>
            <a:off x="228600" y="152280"/>
            <a:ext cx="457200" cy="457200"/>
          </a:xfrm>
          <a:custGeom>
            <a:avLst/>
            <a:gdLst>
              <a:gd name="textAreaLeft" fmla="*/ 28440 w 457200"/>
              <a:gd name="textAreaRight" fmla="*/ 428760 w 457200"/>
              <a:gd name="textAreaTop" fmla="*/ 28440 h 457200"/>
              <a:gd name="textAreaBottom" fmla="*/ 428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50" y="1350"/>
                </a:lnTo>
                <a:lnTo>
                  <a:pt x="1350" y="135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50" y="20250"/>
                </a:lnTo>
                <a:lnTo>
                  <a:pt x="20250" y="135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0250" y="2025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1600" h="21600">
                <a:moveTo>
                  <a:pt x="3756" y="7283"/>
                </a:moveTo>
                <a:lnTo>
                  <a:pt x="4675" y="7283"/>
                </a:lnTo>
                <a:lnTo>
                  <a:pt x="5060" y="7650"/>
                </a:lnTo>
                <a:lnTo>
                  <a:pt x="14318" y="7650"/>
                </a:lnTo>
                <a:lnTo>
                  <a:pt x="14878" y="8210"/>
                </a:lnTo>
                <a:lnTo>
                  <a:pt x="14878" y="8761"/>
                </a:lnTo>
                <a:lnTo>
                  <a:pt x="16733" y="8761"/>
                </a:lnTo>
                <a:lnTo>
                  <a:pt x="17100" y="8210"/>
                </a:lnTo>
                <a:lnTo>
                  <a:pt x="17844" y="8210"/>
                </a:lnTo>
                <a:lnTo>
                  <a:pt x="17844" y="13390"/>
                </a:lnTo>
                <a:lnTo>
                  <a:pt x="17100" y="13390"/>
                </a:lnTo>
                <a:lnTo>
                  <a:pt x="16733" y="12839"/>
                </a:lnTo>
                <a:lnTo>
                  <a:pt x="14878" y="12839"/>
                </a:lnTo>
                <a:lnTo>
                  <a:pt x="14878" y="14125"/>
                </a:lnTo>
                <a:lnTo>
                  <a:pt x="5244" y="14125"/>
                </a:lnTo>
                <a:lnTo>
                  <a:pt x="5244" y="9873"/>
                </a:lnTo>
                <a:lnTo>
                  <a:pt x="5060" y="9873"/>
                </a:lnTo>
                <a:lnTo>
                  <a:pt x="4675" y="10240"/>
                </a:lnTo>
                <a:lnTo>
                  <a:pt x="3756" y="1024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8" name="Picture 2" descr="yzxq-107"/>
          <p:cNvPicPr/>
          <p:nvPr/>
        </p:nvPicPr>
        <p:blipFill>
          <a:blip r:embed="rId1"/>
          <a:stretch/>
        </p:blipFill>
        <p:spPr>
          <a:xfrm>
            <a:off x="0" y="0"/>
            <a:ext cx="9829800" cy="682956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3"/>
          <p:cNvSpPr/>
          <p:nvPr/>
        </p:nvSpPr>
        <p:spPr>
          <a:xfrm>
            <a:off x="533520" y="1066680"/>
            <a:ext cx="88390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神州五号成功飞天，让我们激动地告诉全世界 ：千年梦，今朝圆了！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神州六号安全返回，让我们自豪地告诉全世界：千年梦，今朝再圆！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嫦娥一号顺利升空，让我们骄傲地告诉全世界：千年梦，今朝又圆！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1" name="Picture 2" descr="xin_c7fa08c2fa16413abdd9a305fba42f57"/>
          <p:cNvPicPr/>
          <p:nvPr/>
        </p:nvPicPr>
        <p:blipFill>
          <a:blip r:embed="rId1"/>
          <a:stretch/>
        </p:blipFill>
        <p:spPr>
          <a:xfrm>
            <a:off x="0" y="0"/>
            <a:ext cx="9144000" cy="7458120"/>
          </a:xfrm>
          <a:prstGeom prst="rect">
            <a:avLst/>
          </a:prstGeom>
          <a:ln w="0">
            <a:noFill/>
          </a:ln>
        </p:spPr>
      </p:pic>
      <p:sp>
        <p:nvSpPr>
          <p:cNvPr id="122" name="Rectangle 3"/>
          <p:cNvSpPr/>
          <p:nvPr/>
        </p:nvSpPr>
        <p:spPr>
          <a:xfrm>
            <a:off x="5181480" y="0"/>
            <a:ext cx="4572000" cy="62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炎黄飞天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00"/>
                </a:solidFill>
                <a:latin typeface="Arial"/>
              </a:rPr>
              <a:t>蔡桂林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Arial"/>
              </a:rPr>
              <a:t>嫦娥奔月，那是神话；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Arial"/>
              </a:rPr>
              <a:t>女娲补天，更是传说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Arial"/>
              </a:rPr>
              <a:t>九万里遥想，九万里追求，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Arial"/>
              </a:rPr>
              <a:t>一朝相约！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Arial"/>
              </a:rPr>
              <a:t>听天风浩浩，迎接远客；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Arial"/>
              </a:rPr>
              <a:t>看天庭结彩，与我伴歌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Arial"/>
              </a:rPr>
              <a:t>哪里是我的长城？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Arial"/>
              </a:rPr>
              <a:t>哪里是我的黄河？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Arial"/>
              </a:rPr>
              <a:t>站在星河岸边，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Arial"/>
              </a:rPr>
              <a:t>亲亲的唤一声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—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Arial"/>
              </a:rPr>
              <a:t>我的中国！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Arial"/>
              </a:rPr>
              <a:t>啊，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Arial"/>
              </a:rPr>
              <a:t>一瞬间的改变，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Arial"/>
              </a:rPr>
              <a:t>一瞬间的飞跃，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Arial"/>
              </a:rPr>
              <a:t>五千年的梦啊！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Arial"/>
              </a:rPr>
              <a:t>今天圆了！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AutoShape 5">
            <a:hlinkClick r:id="rId2"/>
          </p:cNvPr>
          <p:cNvSpPr/>
          <p:nvPr/>
        </p:nvSpPr>
        <p:spPr>
          <a:xfrm>
            <a:off x="228600" y="5791320"/>
            <a:ext cx="304920" cy="304560"/>
          </a:xfrm>
          <a:custGeom>
            <a:avLst/>
            <a:gdLst>
              <a:gd name="textAreaLeft" fmla="*/ 18720 w 304920"/>
              <a:gd name="textAreaRight" fmla="*/ 286200 w 304920"/>
              <a:gd name="textAreaTop" fmla="*/ 18720 h 304560"/>
              <a:gd name="textAreaBottom" fmla="*/ 285840 h 304560"/>
            </a:gdLst>
            <a:ahLst/>
            <a:rect l="textAreaLeft" t="textAreaTop" r="textAreaRight" b="textAreaBottom"/>
            <a:pathLst>
              <a:path w="21626" h="21600">
                <a:moveTo>
                  <a:pt x="0" y="0"/>
                </a:moveTo>
                <a:lnTo>
                  <a:pt x="21626" y="0"/>
                </a:lnTo>
                <a:lnTo>
                  <a:pt x="21626" y="21600"/>
                </a:lnTo>
                <a:lnTo>
                  <a:pt x="0" y="21600"/>
                </a:lnTo>
                <a:close/>
              </a:path>
              <a:path fill="lightenLess" w="21626" h="21600">
                <a:moveTo>
                  <a:pt x="0" y="0"/>
                </a:moveTo>
                <a:lnTo>
                  <a:pt x="21626" y="0"/>
                </a:lnTo>
                <a:lnTo>
                  <a:pt x="20276" y="1350"/>
                </a:lnTo>
                <a:lnTo>
                  <a:pt x="1350" y="1350"/>
                </a:lnTo>
                <a:close/>
              </a:path>
              <a:path fill="darken" w="21626" h="21600">
                <a:moveTo>
                  <a:pt x="21626" y="0"/>
                </a:moveTo>
                <a:lnTo>
                  <a:pt x="21626" y="21600"/>
                </a:lnTo>
                <a:lnTo>
                  <a:pt x="20276" y="20250"/>
                </a:lnTo>
                <a:lnTo>
                  <a:pt x="20276" y="1350"/>
                </a:lnTo>
                <a:close/>
              </a:path>
              <a:path fill="darkenLess" w="21626" h="21600">
                <a:moveTo>
                  <a:pt x="21626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0276" y="20250"/>
                </a:lnTo>
                <a:close/>
              </a:path>
              <a:path fill="lighten" w="21626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1626" h="21600">
                <a:moveTo>
                  <a:pt x="3769" y="8394"/>
                </a:moveTo>
                <a:lnTo>
                  <a:pt x="8223" y="8394"/>
                </a:lnTo>
                <a:lnTo>
                  <a:pt x="12668" y="3756"/>
                </a:lnTo>
                <a:lnTo>
                  <a:pt x="12668" y="17844"/>
                </a:lnTo>
                <a:lnTo>
                  <a:pt x="8223" y="13206"/>
                </a:lnTo>
                <a:lnTo>
                  <a:pt x="3769" y="13206"/>
                </a:lnTo>
                <a:close/>
              </a:path>
              <a:path fill="darken" w="21626" h="21600">
                <a:moveTo>
                  <a:pt x="14330" y="10800"/>
                </a:moveTo>
                <a:lnTo>
                  <a:pt x="17857" y="10800"/>
                </a:lnTo>
              </a:path>
              <a:path fill="darken" w="21626" h="21600">
                <a:moveTo>
                  <a:pt x="14330" y="8394"/>
                </a:moveTo>
                <a:lnTo>
                  <a:pt x="17857" y="5611"/>
                </a:lnTo>
              </a:path>
              <a:path fill="darken" w="21626" h="21600">
                <a:moveTo>
                  <a:pt x="14330" y="13206"/>
                </a:moveTo>
                <a:lnTo>
                  <a:pt x="17857" y="15989"/>
                </a:lnTo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页脚占位符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5" name="Picture 7" descr="shenzhou"/>
          <p:cNvPicPr/>
          <p:nvPr/>
        </p:nvPicPr>
        <p:blipFill>
          <a:blip r:embed="rId1">
            <a:lum bright="6000"/>
          </a:blip>
          <a:srcRect l="0" t="13298" r="0" b="0"/>
          <a:stretch/>
        </p:blipFill>
        <p:spPr>
          <a:xfrm>
            <a:off x="0" y="-20520"/>
            <a:ext cx="9144000" cy="687852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457200" y="3276360"/>
            <a:ext cx="81532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9900"/>
                </a:solidFill>
                <a:latin typeface="Tahoma"/>
              </a:rPr>
              <a:t>          </a:t>
            </a:r>
            <a:r>
              <a:rPr b="1" lang="zh-CN" sz="3200" spc="-1" strike="noStrike">
                <a:solidFill>
                  <a:srgbClr val="990033"/>
                </a:solidFill>
                <a:latin typeface="Tahoma"/>
              </a:rPr>
              <a:t>时代在发展，科学在进步。</a:t>
            </a:r>
            <a:r>
              <a:rPr b="1" lang="zh-CN" sz="3200" spc="-1" strike="noStrike">
                <a:solidFill>
                  <a:srgbClr val="990033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990033"/>
                </a:solidFill>
                <a:latin typeface="Tahoma"/>
              </a:rPr>
              <a:t>神州五号</a:t>
            </a:r>
            <a:r>
              <a:rPr b="1" lang="zh-CN" sz="3200" spc="-1" strike="noStrike">
                <a:solidFill>
                  <a:srgbClr val="990033"/>
                </a:solidFill>
                <a:latin typeface="Arial"/>
              </a:rPr>
              <a:t>”</a:t>
            </a:r>
            <a:r>
              <a:rPr b="1" lang="zh-CN" sz="3200" spc="-1" strike="noStrike">
                <a:solidFill>
                  <a:srgbClr val="990033"/>
                </a:solidFill>
                <a:latin typeface="Tahoma"/>
              </a:rPr>
              <a:t> 飞行成功仅仅两年，</a:t>
            </a:r>
            <a:r>
              <a:rPr b="1" lang="zh-CN" sz="3200" spc="-1" strike="noStrike">
                <a:solidFill>
                  <a:srgbClr val="990033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990033"/>
                </a:solidFill>
                <a:latin typeface="Tahoma"/>
              </a:rPr>
              <a:t>神州六号</a:t>
            </a:r>
            <a:r>
              <a:rPr b="1" lang="zh-CN" sz="3200" spc="-1" strike="noStrike">
                <a:solidFill>
                  <a:srgbClr val="990033"/>
                </a:solidFill>
                <a:latin typeface="Arial"/>
              </a:rPr>
              <a:t>”</a:t>
            </a:r>
            <a:r>
              <a:rPr b="1" lang="zh-CN" sz="3200" spc="-1" strike="noStrike">
                <a:solidFill>
                  <a:srgbClr val="990033"/>
                </a:solidFill>
                <a:latin typeface="Tahoma"/>
              </a:rPr>
              <a:t>载人航天飞船又飞上了太空。同学们，请你来为本文作者填补这一空白：把</a:t>
            </a:r>
            <a:r>
              <a:rPr b="1" lang="zh-CN" sz="3200" spc="-1" strike="noStrike">
                <a:solidFill>
                  <a:srgbClr val="990033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990033"/>
                </a:solidFill>
                <a:latin typeface="Tahoma"/>
              </a:rPr>
              <a:t>神州六号</a:t>
            </a:r>
            <a:r>
              <a:rPr b="1" lang="zh-CN" sz="3200" spc="-1" strike="noStrike">
                <a:solidFill>
                  <a:srgbClr val="990033"/>
                </a:solidFill>
                <a:latin typeface="Arial"/>
              </a:rPr>
              <a:t>”</a:t>
            </a:r>
            <a:r>
              <a:rPr b="1" lang="zh-CN" sz="3200" spc="-1" strike="noStrike">
                <a:solidFill>
                  <a:srgbClr val="990033"/>
                </a:solidFill>
                <a:latin typeface="Tahoma"/>
              </a:rPr>
              <a:t> 载人航天飞船的成功也写进课文中，加在你认为合适的地方。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WordArt 5"/>
          <p:cNvSpPr txBox="1"/>
          <p:nvPr/>
        </p:nvSpPr>
        <p:spPr>
          <a:xfrm>
            <a:off x="228600" y="-609480"/>
            <a:ext cx="228600" cy="75960"/>
          </a:xfrm>
          <a:prstGeom prst="rect">
            <a:avLst/>
          </a:prstGeom>
        </p:spPr>
        <p:txBody>
          <a:bodyPr wrap="none" lIns="90000" rIns="90000" tIns="29520" bIns="2952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华文新魏"/>
              </a:rPr>
              <a:t>理解感悟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128" name="AutoShape 9">
            <a:hlinkClick r:id="rId2"/>
          </p:cNvPr>
          <p:cNvSpPr/>
          <p:nvPr/>
        </p:nvSpPr>
        <p:spPr>
          <a:xfrm>
            <a:off x="8534520" y="6248520"/>
            <a:ext cx="304560" cy="380880"/>
          </a:xfrm>
          <a:custGeom>
            <a:avLst/>
            <a:gdLst>
              <a:gd name="textAreaLeft" fmla="*/ 18720 w 304560"/>
              <a:gd name="textAreaRight" fmla="*/ 285840 w 304560"/>
              <a:gd name="textAreaTop" fmla="*/ 18720 h 380880"/>
              <a:gd name="textAreaBottom" fmla="*/ 362160 h 380880"/>
            </a:gdLst>
            <a:ahLst/>
            <a:rect l="textAreaLeft" t="textAreaTop" r="textAreaRight" b="textAreaBottom"/>
            <a:pathLst>
              <a:path w="21600" h="27006">
                <a:moveTo>
                  <a:pt x="0" y="0"/>
                </a:moveTo>
                <a:lnTo>
                  <a:pt x="21600" y="0"/>
                </a:lnTo>
                <a:lnTo>
                  <a:pt x="21600" y="27006"/>
                </a:lnTo>
                <a:lnTo>
                  <a:pt x="0" y="27006"/>
                </a:lnTo>
                <a:close/>
              </a:path>
              <a:path fill="lightenLess" w="21600" h="27006">
                <a:moveTo>
                  <a:pt x="0" y="0"/>
                </a:moveTo>
                <a:lnTo>
                  <a:pt x="21600" y="0"/>
                </a:lnTo>
                <a:lnTo>
                  <a:pt x="20250" y="1350"/>
                </a:lnTo>
                <a:lnTo>
                  <a:pt x="1350" y="1350"/>
                </a:lnTo>
                <a:close/>
              </a:path>
              <a:path fill="darken" w="21600" h="27006">
                <a:moveTo>
                  <a:pt x="21600" y="0"/>
                </a:moveTo>
                <a:lnTo>
                  <a:pt x="21600" y="27006"/>
                </a:lnTo>
                <a:lnTo>
                  <a:pt x="20250" y="25656"/>
                </a:lnTo>
                <a:lnTo>
                  <a:pt x="20250" y="1350"/>
                </a:lnTo>
                <a:close/>
              </a:path>
              <a:path fill="darkenLess" w="21600" h="27006">
                <a:moveTo>
                  <a:pt x="21600" y="27006"/>
                </a:moveTo>
                <a:lnTo>
                  <a:pt x="0" y="27006"/>
                </a:lnTo>
                <a:lnTo>
                  <a:pt x="1350" y="25656"/>
                </a:lnTo>
                <a:lnTo>
                  <a:pt x="20250" y="25656"/>
                </a:lnTo>
                <a:close/>
              </a:path>
              <a:path fill="lighten" w="21600" h="27006">
                <a:moveTo>
                  <a:pt x="0" y="27006"/>
                </a:moveTo>
                <a:lnTo>
                  <a:pt x="0" y="0"/>
                </a:lnTo>
                <a:lnTo>
                  <a:pt x="1350" y="1350"/>
                </a:lnTo>
                <a:lnTo>
                  <a:pt x="1350" y="25656"/>
                </a:lnTo>
                <a:close/>
              </a:path>
              <a:path fill="darken" w="21600" h="27006">
                <a:moveTo>
                  <a:pt x="3756" y="11097"/>
                </a:moveTo>
                <a:lnTo>
                  <a:pt x="8210" y="11097"/>
                </a:lnTo>
                <a:lnTo>
                  <a:pt x="12655" y="6459"/>
                </a:lnTo>
                <a:lnTo>
                  <a:pt x="12655" y="20547"/>
                </a:lnTo>
                <a:lnTo>
                  <a:pt x="8210" y="15909"/>
                </a:lnTo>
                <a:lnTo>
                  <a:pt x="3756" y="15909"/>
                </a:lnTo>
                <a:close/>
              </a:path>
              <a:path fill="darken" w="21600" h="27006">
                <a:moveTo>
                  <a:pt x="14318" y="13503"/>
                </a:moveTo>
                <a:lnTo>
                  <a:pt x="17844" y="13503"/>
                </a:lnTo>
              </a:path>
              <a:path fill="darken" w="21600" h="27006">
                <a:moveTo>
                  <a:pt x="14318" y="11097"/>
                </a:moveTo>
                <a:lnTo>
                  <a:pt x="17844" y="8314"/>
                </a:lnTo>
              </a:path>
              <a:path fill="darken" w="21600" h="27006">
                <a:moveTo>
                  <a:pt x="14318" y="15909"/>
                </a:moveTo>
                <a:lnTo>
                  <a:pt x="17844" y="18692"/>
                </a:lnTo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页脚占位符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0" name="Picture 5" descr="搜狐社区网友上传图片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WordArt 6"/>
          <p:cNvSpPr txBox="1"/>
          <p:nvPr/>
        </p:nvSpPr>
        <p:spPr>
          <a:xfrm>
            <a:off x="2514600" y="914400"/>
            <a:ext cx="41148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6000"/>
                    </a:srgbClr>
                  </a:outerShdw>
                </a:effectLst>
                <a:latin typeface="华文新魏"/>
              </a:rPr>
              <a:t>神舟回顾</a:t>
            </a:r>
            <a:endParaRPr b="0" lang="en-US" sz="1800" spc="-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76000"/>
                  </a:srgbClr>
                </a:outerShdw>
              </a:effectLst>
              <a:latin typeface="华文新魏"/>
              <a:ea typeface="华文新魏"/>
            </a:endParaRPr>
          </a:p>
        </p:txBody>
      </p:sp>
    </p:spTree>
  </p:cSld>
  <p:transition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页脚占位符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3" name="Picture 4" descr="神舟一号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5"/>
          <p:cNvSpPr/>
          <p:nvPr/>
        </p:nvSpPr>
        <p:spPr>
          <a:xfrm>
            <a:off x="304920" y="304920"/>
            <a:ext cx="34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1999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年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11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月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20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日</a:t>
            </a: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页脚占位符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6" name="Picture 4" descr="神舟二号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5"/>
          <p:cNvSpPr/>
          <p:nvPr/>
        </p:nvSpPr>
        <p:spPr>
          <a:xfrm>
            <a:off x="304920" y="304920"/>
            <a:ext cx="34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2001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年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月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10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日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4680" y="6499080"/>
            <a:ext cx="338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页脚占位符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0" name="Picture 4" descr="神舟三号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5"/>
          <p:cNvSpPr/>
          <p:nvPr/>
        </p:nvSpPr>
        <p:spPr>
          <a:xfrm>
            <a:off x="304920" y="304920"/>
            <a:ext cx="34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2002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年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月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25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日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页脚占位符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3" name="Picture 4" descr="神舟四号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5"/>
          <p:cNvSpPr/>
          <p:nvPr/>
        </p:nvSpPr>
        <p:spPr>
          <a:xfrm>
            <a:off x="304920" y="304920"/>
            <a:ext cx="34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2002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年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12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月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30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日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页脚占位符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6" name="Picture 4" descr="神舟六号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7" name="WordArt 5"/>
          <p:cNvSpPr txBox="1"/>
          <p:nvPr/>
        </p:nvSpPr>
        <p:spPr>
          <a:xfrm>
            <a:off x="2590920" y="6248520"/>
            <a:ext cx="43434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华文彩云"/>
              </a:rPr>
              <a:t>神舟六号发射升空</a:t>
            </a:r>
            <a:endParaRPr b="1" lang="en-US" sz="1800" spc="-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华文彩云"/>
              <a:ea typeface="华文彩云"/>
            </a:endParaRPr>
          </a:p>
        </p:txBody>
      </p:sp>
      <p:sp>
        <p:nvSpPr>
          <p:cNvPr id="148" name="Text Box 6"/>
          <p:cNvSpPr/>
          <p:nvPr/>
        </p:nvSpPr>
        <p:spPr>
          <a:xfrm>
            <a:off x="380880" y="457200"/>
            <a:ext cx="34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005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年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月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日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页脚占位符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9" name="Picture 2" descr="UU_0510121333279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Text Box 3"/>
          <p:cNvSpPr/>
          <p:nvPr/>
        </p:nvSpPr>
        <p:spPr>
          <a:xfrm>
            <a:off x="457200" y="762120"/>
            <a:ext cx="792468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5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正确、流利、有感情地朗读课文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2500"/>
              </a:spcBef>
              <a:buClr>
                <a:srgbClr val="ffff00"/>
              </a:buClr>
              <a:buFont typeface="华文新魏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默读课文，想一想数千年的中华飞天梦想是怎样一步一步实现的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2500"/>
              </a:spcBef>
              <a:buClr>
                <a:srgbClr val="ffff00"/>
              </a:buClr>
              <a:buFont typeface="华文新魏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感悟作者的表达方法，体会文章的语言美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00000"/>
                </a:solidFill>
                <a:latin typeface="Arial"/>
              </a:rPr>
              <a:t>     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WordArt 4"/>
          <p:cNvSpPr txBox="1"/>
          <p:nvPr/>
        </p:nvSpPr>
        <p:spPr>
          <a:xfrm>
            <a:off x="228960" y="-762480"/>
            <a:ext cx="75960" cy="15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华文新魏"/>
              </a:rPr>
              <a:t>整体感知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华文新魏"/>
              <a:ea typeface="华文新魏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-380880" y="-990720"/>
          <a:ext cx="9144000" cy="79200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7920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900"/>
                      </a:br>
                      <a:br>
                        <a:rPr sz="900"/>
                      </a:b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3" name="Rectangle 11"/>
          <p:cNvSpPr/>
          <p:nvPr/>
        </p:nvSpPr>
        <p:spPr>
          <a:xfrm>
            <a:off x="411120" y="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黑体"/>
              </a:rPr>
              <a:t>学习目标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1295280" y="5410080"/>
            <a:ext cx="61120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ebf25a"/>
                </a:solidFill>
                <a:uFillTx/>
                <a:latin typeface="Tahoma"/>
                <a:hlinkClick r:id="rId2"/>
              </a:rPr>
              <a:t>ppt课件模板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ttp://www.eeppt.com/moban/kejian/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页脚占位符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0" name="Picture 9" descr="神舟六号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页脚占位符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2" name="Picture 5" descr="【祝神舟六号载人飞船成功发射！第三辑】---遨游太空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3" name="WordArt 6"/>
          <p:cNvSpPr txBox="1"/>
          <p:nvPr/>
        </p:nvSpPr>
        <p:spPr>
          <a:xfrm rot="5400000">
            <a:off x="571320" y="2019240"/>
            <a:ext cx="3352680" cy="22096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DoubleWave1">
              <a:avLst>
                <a:gd name="adj1" fmla="val 650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8000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华文中宋"/>
              </a:rPr>
              <a:t>再见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8000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华文中宋"/>
              <a:ea typeface="华文中宋"/>
            </a:endParaRPr>
          </a:p>
        </p:txBody>
      </p:sp>
    </p:spTree>
  </p:cSld>
  <p:transition>
    <p:wipe dir="d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ffffcc"/>
                </a:solidFill>
                <a:latin typeface="Tahoma"/>
              </a:rPr>
              <a:t>使用规范说明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ahoma"/>
              </a:rPr>
              <a:t>站点介绍：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ebf25a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ebf25a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ahoma"/>
              </a:rPr>
              <a:t>特别说明：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ahoma"/>
              </a:rPr>
              <a:t>栏目推荐：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ebf25a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ebf25a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ebf25a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ebf25a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ebf25a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ebf25a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ebf25a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ebf25a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ebf25a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ebf25a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ebf25a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ebf25a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ebf25a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ebf25a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ebf25a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ebf25a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ebf25a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ebf25a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ebf25a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ebf25a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ebf25a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ebf25a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Tahoma"/>
              </a:rPr>
              <a:t>www.eeppt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E88171-91DF-409D-BED2-EBA7A75A8E0F}" type="slidenum">
              <a:t>3</a:t>
            </a:fld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矩形 7"/>
          <p:cNvSpPr/>
          <p:nvPr/>
        </p:nvSpPr>
        <p:spPr>
          <a:xfrm>
            <a:off x="6172200" y="91440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ahoma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ahoma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Tahoma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Tahoma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Tahoma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ahoma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ahoma"/>
              </a:rPr>
              <a:t>www.1ppt.com/hangye/ </a:t>
            </a:r>
            <a:endParaRPr b="0" lang="en-US" sz="1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ahoma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Tahoma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ahoma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ahoma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Tahoma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Tahoma"/>
              </a:rPr>
              <a:t>www.1ppt.com/sucai/</a:t>
            </a:r>
            <a:endParaRPr b="0" lang="en-US" sz="1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ahoma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ahoma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Tahoma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Tahoma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Tahoma"/>
              </a:rPr>
              <a:t>www.1ppt.com/tubiao/      </a:t>
            </a:r>
            <a:endParaRPr b="0" lang="en-US" sz="1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ahoma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Tahoma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ahoma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Tahoma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Tahoma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ahoma"/>
              </a:rPr>
              <a:t>www.1ppt.com/powerpoint/      </a:t>
            </a:r>
            <a:endParaRPr b="0" lang="en-US" sz="1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ahoma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Tahoma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ahoma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Tahoma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Tahoma"/>
              </a:rPr>
              <a:t>www.1ppt.com/excel/  </a:t>
            </a:r>
            <a:endParaRPr b="0" lang="en-US" sz="1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ahoma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Tahoma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Tahoma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Tahoma"/>
              </a:rPr>
              <a:t>www.1ppt.com/kejian/ </a:t>
            </a:r>
            <a:endParaRPr b="0" lang="en-US" sz="1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ahoma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Tahoma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Tahoma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Tahoma"/>
              </a:rPr>
              <a:t>www.1ppt.com/shiti/  </a:t>
            </a:r>
            <a:endParaRPr b="0" lang="en-US" sz="1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ahoma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Tahoma"/>
              </a:rPr>
              <a:t>www.1ppt.com/jiaoan/  </a:t>
            </a:r>
            <a:endParaRPr b="0" lang="en-US" sz="1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0" name="Picture 2" descr="【祝神舟六号载人飞船成功发射！第三辑】---遨游太空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 txBox="1"/>
          <p:nvPr/>
        </p:nvSpPr>
        <p:spPr>
          <a:xfrm>
            <a:off x="10896480" y="685800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0" y="31240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ahoma"/>
              </a:rPr>
              <a:t>震撼   鼓舞  先驱  崭新  苍穹  惨重  蜿蜒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ahoma"/>
              </a:rPr>
              <a:t>嫦娥奔月  鲲鹏展翅   九天揽月  勇于实践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ahoma"/>
              </a:rPr>
              <a:t>勃勃生机  振奋不已   夜以继日   积劳成疾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ahoma"/>
              </a:rPr>
              <a:t>华发早生  猝然长逝   风华正茂   不懈努力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ahoma"/>
              </a:rPr>
              <a:t>震耳欲聋   坚持不懈  锲而不舍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页脚占位符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4" name="Picture 2" descr="200318155525"/>
          <p:cNvPicPr/>
          <p:nvPr/>
        </p:nvPicPr>
        <p:blipFill>
          <a:blip r:embed="rId1"/>
          <a:srcRect l="0" t="0" r="3704" b="2683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3"/>
          <p:cNvSpPr/>
          <p:nvPr/>
        </p:nvSpPr>
        <p:spPr>
          <a:xfrm>
            <a:off x="380880" y="22860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ahoma"/>
              </a:rPr>
              <a:t>古人的奇妙想象──美好的梦想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ahoma"/>
              </a:rPr>
              <a:t>                         ↓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533520" y="6278400"/>
            <a:ext cx="7848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WordArt 5"/>
          <p:cNvSpPr txBox="1"/>
          <p:nvPr/>
        </p:nvSpPr>
        <p:spPr>
          <a:xfrm>
            <a:off x="0" y="-838080"/>
            <a:ext cx="18288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华文新魏"/>
              </a:rPr>
              <a:t>重点句子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华文新魏"/>
              <a:ea typeface="华文新魏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-366840" y="-571680"/>
          <a:ext cx="9144000" cy="79200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7920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900"/>
                      </a:br>
                      <a:br>
                        <a:rPr sz="900"/>
                      </a:b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9" name="AutoShape 12">
            <a:hlinkClick r:id="rId2"/>
          </p:cNvPr>
          <p:cNvSpPr/>
          <p:nvPr/>
        </p:nvSpPr>
        <p:spPr>
          <a:xfrm>
            <a:off x="8305920" y="6095880"/>
            <a:ext cx="357120" cy="457200"/>
          </a:xfrm>
          <a:custGeom>
            <a:avLst/>
            <a:gdLst>
              <a:gd name="textAreaLeft" fmla="*/ 22320 w 357120"/>
              <a:gd name="textAreaRight" fmla="*/ 334800 w 357120"/>
              <a:gd name="textAreaTop" fmla="*/ 22320 h 457200"/>
              <a:gd name="textAreaBottom" fmla="*/ 434880 h 457200"/>
            </a:gdLst>
            <a:ahLst/>
            <a:rect l="textAreaLeft" t="textAreaTop" r="textAreaRight" b="textAreaBottom"/>
            <a:pathLst>
              <a:path w="21600" h="27647">
                <a:moveTo>
                  <a:pt x="0" y="0"/>
                </a:moveTo>
                <a:lnTo>
                  <a:pt x="21600" y="0"/>
                </a:lnTo>
                <a:lnTo>
                  <a:pt x="21600" y="27647"/>
                </a:lnTo>
                <a:lnTo>
                  <a:pt x="0" y="27647"/>
                </a:lnTo>
                <a:close/>
              </a:path>
              <a:path fill="lightenLess" w="21600" h="27647">
                <a:moveTo>
                  <a:pt x="0" y="0"/>
                </a:moveTo>
                <a:lnTo>
                  <a:pt x="21600" y="0"/>
                </a:lnTo>
                <a:lnTo>
                  <a:pt x="20250" y="1350"/>
                </a:lnTo>
                <a:lnTo>
                  <a:pt x="1350" y="1350"/>
                </a:lnTo>
                <a:close/>
              </a:path>
              <a:path fill="darken" w="21600" h="27647">
                <a:moveTo>
                  <a:pt x="21600" y="0"/>
                </a:moveTo>
                <a:lnTo>
                  <a:pt x="21600" y="27647"/>
                </a:lnTo>
                <a:lnTo>
                  <a:pt x="20250" y="26297"/>
                </a:lnTo>
                <a:lnTo>
                  <a:pt x="20250" y="1350"/>
                </a:lnTo>
                <a:close/>
              </a:path>
              <a:path fill="darkenLess" w="21600" h="27647">
                <a:moveTo>
                  <a:pt x="21600" y="27647"/>
                </a:moveTo>
                <a:lnTo>
                  <a:pt x="0" y="27647"/>
                </a:lnTo>
                <a:lnTo>
                  <a:pt x="1350" y="26297"/>
                </a:lnTo>
                <a:lnTo>
                  <a:pt x="20250" y="26297"/>
                </a:lnTo>
                <a:close/>
              </a:path>
              <a:path fill="lighten" w="21600" h="27647">
                <a:moveTo>
                  <a:pt x="0" y="27647"/>
                </a:moveTo>
                <a:lnTo>
                  <a:pt x="0" y="0"/>
                </a:lnTo>
                <a:lnTo>
                  <a:pt x="1350" y="1350"/>
                </a:lnTo>
                <a:lnTo>
                  <a:pt x="1350" y="26297"/>
                </a:lnTo>
                <a:close/>
              </a:path>
              <a:path fill="darken" w="21600" h="27647">
                <a:moveTo>
                  <a:pt x="3756" y="10306"/>
                </a:moveTo>
                <a:lnTo>
                  <a:pt x="4675" y="10306"/>
                </a:lnTo>
                <a:lnTo>
                  <a:pt x="5060" y="10674"/>
                </a:lnTo>
                <a:lnTo>
                  <a:pt x="14318" y="10674"/>
                </a:lnTo>
                <a:lnTo>
                  <a:pt x="14878" y="11234"/>
                </a:lnTo>
                <a:lnTo>
                  <a:pt x="14878" y="11785"/>
                </a:lnTo>
                <a:lnTo>
                  <a:pt x="16733" y="11785"/>
                </a:lnTo>
                <a:lnTo>
                  <a:pt x="17100" y="11234"/>
                </a:lnTo>
                <a:lnTo>
                  <a:pt x="17844" y="11234"/>
                </a:lnTo>
                <a:lnTo>
                  <a:pt x="17844" y="16414"/>
                </a:lnTo>
                <a:lnTo>
                  <a:pt x="17100" y="16414"/>
                </a:lnTo>
                <a:lnTo>
                  <a:pt x="16733" y="15862"/>
                </a:lnTo>
                <a:lnTo>
                  <a:pt x="14878" y="15862"/>
                </a:lnTo>
                <a:lnTo>
                  <a:pt x="14878" y="17149"/>
                </a:lnTo>
                <a:lnTo>
                  <a:pt x="5244" y="17149"/>
                </a:lnTo>
                <a:lnTo>
                  <a:pt x="5244" y="12896"/>
                </a:lnTo>
                <a:lnTo>
                  <a:pt x="5060" y="12896"/>
                </a:lnTo>
                <a:lnTo>
                  <a:pt x="4675" y="13264"/>
                </a:lnTo>
                <a:lnTo>
                  <a:pt x="3756" y="13264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Rectangle 13"/>
          <p:cNvSpPr/>
          <p:nvPr/>
        </p:nvSpPr>
        <p:spPr>
          <a:xfrm>
            <a:off x="380880" y="1219320"/>
            <a:ext cx="685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ahoma"/>
              </a:rPr>
              <a:t>万户的火箭飞行──大胆的尝试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ahoma"/>
              </a:rPr>
              <a:t>                         ↓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Rectangle 14"/>
          <p:cNvSpPr/>
          <p:nvPr/>
        </p:nvSpPr>
        <p:spPr>
          <a:xfrm>
            <a:off x="380880" y="2209680"/>
            <a:ext cx="685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ahoma"/>
              </a:rPr>
              <a:t>人造卫星的发射──突破性进展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ahoma"/>
              </a:rPr>
              <a:t>                         ↓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Rectangle 15"/>
          <p:cNvSpPr/>
          <p:nvPr/>
        </p:nvSpPr>
        <p:spPr>
          <a:xfrm>
            <a:off x="380880" y="320040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ahoma"/>
              </a:rPr>
              <a:t>载人航天工程的实施──艰苦的努力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ahoma"/>
              </a:rPr>
              <a:t>                         ↓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Rectangle 16"/>
          <p:cNvSpPr/>
          <p:nvPr/>
        </p:nvSpPr>
        <p:spPr>
          <a:xfrm>
            <a:off x="304920" y="4343400"/>
            <a:ext cx="899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ffff00"/>
                </a:solidFill>
                <a:latin typeface="Tahoma"/>
              </a:rPr>
              <a:t>神州五号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”</a:t>
            </a:r>
            <a:r>
              <a:rPr b="1" lang="zh-CN" sz="3600" spc="-1" strike="noStrike">
                <a:solidFill>
                  <a:srgbClr val="ffff00"/>
                </a:solidFill>
                <a:latin typeface="Tahoma"/>
              </a:rPr>
              <a:t>载人飞船发射──巨大的成功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页脚占位符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629040" y="277920"/>
            <a:ext cx="2057400" cy="58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77920"/>
            <a:ext cx="6019920" cy="58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Picture 4" descr="480180063732"/>
          <p:cNvPicPr/>
          <p:nvPr/>
        </p:nvPicPr>
        <p:blipFill>
          <a:blip r:embed="rId1"/>
          <a:stretch/>
        </p:blipFill>
        <p:spPr>
          <a:xfrm>
            <a:off x="-609480" y="-228600"/>
            <a:ext cx="10667880" cy="775800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5"/>
          <p:cNvSpPr/>
          <p:nvPr/>
        </p:nvSpPr>
        <p:spPr>
          <a:xfrm>
            <a:off x="0" y="457200"/>
            <a:ext cx="8763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"/>
              </a:rPr>
              <a:t>     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为了顺利完成这项工程，一百一十多个单位直接承担了研制、建设和发射任务，而参与这项工程的协作单位，则多达三千多个。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页脚占位符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Picture 2" descr="10957007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-360" y="0"/>
            <a:ext cx="8915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ahoma"/>
              </a:rPr>
              <a:t>有的人为了工作的及时、方便，将铺盖搬进了工厂车间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ahoma"/>
              </a:rPr>
              <a:t>有的人积劳成疾，几次住进了医院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ahoma"/>
              </a:rPr>
              <a:t>有的年轻人虽风华正茂却华发早生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ahoma"/>
              </a:rPr>
              <a:t>有的人甚至为此付出了全部心血和生命，未能等到成功的那一天便猝然长</a:t>
            </a:r>
            <a:r>
              <a:rPr b="0" lang="zh-CN" sz="3600" spc="-1" strike="noStrike">
                <a:solidFill>
                  <a:srgbClr val="ff3300"/>
                </a:solidFill>
                <a:latin typeface="Tahoma"/>
              </a:rPr>
              <a:t>逝</a:t>
            </a: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······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WordArt 4"/>
          <p:cNvSpPr txBox="1"/>
          <p:nvPr/>
        </p:nvSpPr>
        <p:spPr>
          <a:xfrm>
            <a:off x="-76320" y="-838440"/>
            <a:ext cx="76320" cy="76320"/>
          </a:xfrm>
          <a:prstGeom prst="rect">
            <a:avLst/>
          </a:prstGeom>
        </p:spPr>
        <p:txBody>
          <a:bodyPr wrap="none" lIns="90000" rIns="90000" tIns="29520" bIns="2952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华文新魏"/>
              </a:rPr>
              <a:t>词语理解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华文新魏"/>
              <a:ea typeface="华文新魏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-366840" y="-609480"/>
          <a:ext cx="671400" cy="655560"/>
        </p:xfrm>
        <a:graphic>
          <a:graphicData uri="http://schemas.openxmlformats.org/drawingml/2006/table">
            <a:tbl>
              <a:tblPr/>
              <a:tblGrid>
                <a:gridCol w="671400"/>
              </a:tblGrid>
              <a:tr h="6555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900"/>
                      </a:b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页脚占位符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Picture 2" descr="【祝神舟六号载人飞船成功发射！第三辑】---遨游太空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3"/>
          <p:cNvSpPr/>
          <p:nvPr/>
        </p:nvSpPr>
        <p:spPr>
          <a:xfrm>
            <a:off x="0" y="3124080"/>
            <a:ext cx="89154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ahoma"/>
              </a:rPr>
              <a:t>          </a:t>
            </a:r>
            <a:r>
              <a:rPr b="1" lang="zh-CN" sz="3200" spc="-1" strike="noStrike">
                <a:solidFill>
                  <a:srgbClr val="ff3300"/>
                </a:solidFill>
                <a:latin typeface="Tahoma"/>
              </a:rPr>
              <a:t>为了保证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ff3300"/>
                </a:solidFill>
                <a:latin typeface="Tahoma"/>
              </a:rPr>
              <a:t>神州五号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”</a:t>
            </a:r>
            <a:r>
              <a:rPr b="1" lang="zh-CN" sz="3200" spc="-1" strike="noStrike">
                <a:solidFill>
                  <a:srgbClr val="ff3300"/>
                </a:solidFill>
                <a:latin typeface="Tahoma"/>
              </a:rPr>
              <a:t>的成功发射，科学家们共设计了</a:t>
            </a:r>
            <a:r>
              <a:rPr b="1" lang="en-US" sz="3200" spc="-1" strike="noStrike">
                <a:solidFill>
                  <a:srgbClr val="ff3300"/>
                </a:solidFill>
                <a:latin typeface="Tahoma"/>
              </a:rPr>
              <a:t>20</a:t>
            </a:r>
            <a:r>
              <a:rPr b="1" lang="zh-CN" sz="3200" spc="-1" strike="noStrike">
                <a:solidFill>
                  <a:srgbClr val="ff3300"/>
                </a:solidFill>
                <a:latin typeface="Tahoma"/>
              </a:rPr>
              <a:t>种救生方案保证航天员安全，针对飞船系统的故障对策有</a:t>
            </a:r>
            <a:r>
              <a:rPr b="1" lang="en-US" sz="3200" spc="-1" strike="noStrike">
                <a:solidFill>
                  <a:srgbClr val="ff3300"/>
                </a:solidFill>
                <a:latin typeface="Tahoma"/>
              </a:rPr>
              <a:t>139</a:t>
            </a:r>
            <a:r>
              <a:rPr b="1" lang="zh-CN" sz="3200" spc="-1" strike="noStrike">
                <a:solidFill>
                  <a:srgbClr val="ff3300"/>
                </a:solidFill>
                <a:latin typeface="Tahoma"/>
              </a:rPr>
              <a:t>个，</a:t>
            </a:r>
            <a:r>
              <a:rPr b="1" lang="en-US" sz="3200" spc="-1" strike="noStrike">
                <a:solidFill>
                  <a:srgbClr val="ff3300"/>
                </a:solidFill>
                <a:latin typeface="Tahoma"/>
              </a:rPr>
              <a:t>8</a:t>
            </a:r>
            <a:r>
              <a:rPr b="1" lang="zh-CN" sz="3200" spc="-1" strike="noStrike">
                <a:solidFill>
                  <a:srgbClr val="ff3300"/>
                </a:solidFill>
                <a:latin typeface="Tahoma"/>
              </a:rPr>
              <a:t>位科学家未见身先死，这些科学家有的是倒在出差的火车上，有的牺牲在实验室，他们努力了数十年，却没能看到飞天的壮丽场景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8" name="Picture 5" descr="yzxq-010"/>
          <p:cNvPicPr/>
          <p:nvPr/>
        </p:nvPicPr>
        <p:blipFill>
          <a:blip r:embed="rId1"/>
          <a:stretch/>
        </p:blipFill>
        <p:spPr>
          <a:xfrm>
            <a:off x="0" y="0"/>
            <a:ext cx="9753480" cy="692784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7"/>
          <p:cNvSpPr/>
          <p:nvPr/>
        </p:nvSpPr>
        <p:spPr>
          <a:xfrm>
            <a:off x="152280" y="3504240"/>
            <a:ext cx="8991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1" lang="zh-CN" sz="4000" spc="-1" strike="noStrike">
                <a:solidFill>
                  <a:srgbClr val="ff0066"/>
                </a:solidFill>
                <a:latin typeface="Tahoma"/>
              </a:rPr>
              <a:t>我国首次载人航天飞行的成功，向全世界庄严宣告：中国已经成为第三个独立掌握载人航天技术的国家。它同时也充分表明：中华民族几千年的梦想，几代人的执著追求，以及数十年坚持不懈、锲而不舍的奋斗，终于在今天变成了美好的现实。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"/>
          <p:cNvSpPr/>
          <p:nvPr/>
        </p:nvSpPr>
        <p:spPr>
          <a:xfrm>
            <a:off x="157320" y="64231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2T03:39:27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4T12:41:19Z</dcterms:modified>
  <cp:revision>15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  <property fmtid="{D5CDD505-2E9C-101B-9397-08002B2CF9AE}" pid="3" name="Version">
    <vt:r8>1</vt:r8>
  </property>
</Properties>
</file>