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1185-F662-45DA-9ECE-B24CB8EB0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4F16-1713-4891-9857-68E7DE48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862C-8C69-4C29-872E-74779457A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C37F-FBEA-4E28-B566-0980E3EC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40EC-2A00-4601-A1D5-C559A544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52FA-D8D7-461A-831F-16682B05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4BC4-0C00-42CC-9085-E6A5827A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DBCB-F68D-4EBA-9F43-72123103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3F37-BC9D-47EB-AB9A-9BCE6CA3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1BBA-C473-4AC7-BAD4-6D957E54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964F-6D0C-4559-BE2F-DB0EA13C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F295-0CC4-43B1-927A-CEF4C3DA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F38F-A36A-4319-B0EE-2029D8A6A28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35D2-56FF-4EC9-889C-36393359B8B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2892600" y="3276720"/>
            <a:ext cx="777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4200" y="40402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3124080"/>
            <a:ext cx="503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情人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背景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Slide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49280" y="144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923c"/>
                </a:solidFill>
                <a:latin typeface="Calibri"/>
              </a:rPr>
              <a:t>Make Effective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923c"/>
                </a:solidFill>
                <a:latin typeface="Calibri"/>
              </a:rPr>
              <a:t>Using Awesome Backgr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923c"/>
                </a:solidFill>
                <a:latin typeface="Calibri"/>
              </a:rPr>
              <a:t>Engage your Aud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923c"/>
                </a:solidFill>
                <a:latin typeface="Calibri"/>
              </a:rPr>
              <a:t>Capture Audience At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297000" y="495612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B53D-2E3E-4D19-8A68-7BB5C124BB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1320" y="274320"/>
            <a:ext cx="671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Slide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1320" y="1444320"/>
            <a:ext cx="671040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923c"/>
                </a:solidFill>
                <a:latin typeface="Calibri"/>
              </a:rPr>
              <a:t>Make Effective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923c"/>
                </a:solidFill>
                <a:latin typeface="Calibri"/>
              </a:rPr>
              <a:t>Using Awesome Backgr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923c"/>
                </a:solidFill>
                <a:latin typeface="Calibri"/>
              </a:rPr>
              <a:t>Engage your Aud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923c"/>
                </a:solidFill>
                <a:latin typeface="Calibri"/>
              </a:rPr>
              <a:t>Capture Audience At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Slide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4320"/>
            <a:ext cx="40402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6923c"/>
                </a:solidFill>
                <a:latin typeface="Calibri"/>
              </a:rPr>
              <a:t>Product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2072880"/>
            <a:ext cx="404028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923c"/>
                </a:solidFill>
                <a:latin typeface="Calibri"/>
              </a:rPr>
              <a:t>Featur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923c"/>
                </a:solidFill>
                <a:latin typeface="Calibri"/>
              </a:rPr>
              <a:t>Featur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923c"/>
                </a:solidFill>
                <a:latin typeface="Calibri"/>
              </a:rPr>
              <a:t>Feature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4720" y="1444320"/>
            <a:ext cx="404172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6923c"/>
                </a:solidFill>
                <a:latin typeface="Calibri"/>
              </a:rPr>
              <a:t>Product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4720" y="2072880"/>
            <a:ext cx="404172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923c"/>
                </a:solidFill>
                <a:latin typeface="Calibri"/>
              </a:rPr>
              <a:t>Featur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923c"/>
                </a:solidFill>
                <a:latin typeface="Calibri"/>
              </a:rPr>
              <a:t>Featur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923c"/>
                </a:solidFill>
                <a:latin typeface="Calibri"/>
              </a:rPr>
              <a:t>Feature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9:1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8:49:19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