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media/image10.gif" ContentType="image/gif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01A3-16EC-4F28-851E-93092479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448-AD7A-4506-8E8D-D7947961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5C7-7E41-4F7E-ABF7-0C29AD02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856-CFB6-4EAD-AA37-51BDAF57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D0F-F49D-4A61-97F3-E784797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CA2-952A-4A61-96D4-01D2CBF3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2C4-9218-470B-9837-5F84DE7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EC9-1825-4ADB-B5F1-2EFD4858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7C0-4F2D-4ABB-86D1-0B048219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23D-8C1A-4710-928C-1F3CD51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6CA-CFF0-4B2D-A9C2-08BB8FCD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12C-6E74-4873-9196-6E500BBE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1FAC-E1FD-49C2-8833-993D5A64E7E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6.jpeg"/><Relationship Id="rId18" Type="http://schemas.openxmlformats.org/officeDocument/2006/relationships/image" Target="../media/image7.jpe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993300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穷人1"/>
          <p:cNvPicPr/>
          <p:nvPr/>
        </p:nvPicPr>
        <p:blipFill>
          <a:blip r:embed="rId17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穷人2"/>
          <p:cNvPicPr/>
          <p:nvPr/>
        </p:nvPicPr>
        <p:blipFill>
          <a:blip r:embed="rId18"/>
          <a:stretch/>
        </p:blipFill>
        <p:spPr>
          <a:xfrm>
            <a:off x="0" y="-9828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2768760" y="617220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WordArt 6" descr=""/>
          <p:cNvPicPr/>
          <p:nvPr/>
        </p:nvPicPr>
        <p:blipFill>
          <a:blip r:embed="rId19"/>
          <a:stretch/>
        </p:blipFill>
        <p:spPr>
          <a:xfrm>
            <a:off x="2060640" y="341280"/>
            <a:ext cx="4736880" cy="149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"/>
          <p:cNvPicPr/>
          <p:nvPr/>
        </p:nvPicPr>
        <p:blipFill>
          <a:blip r:embed="rId2"/>
          <a:stretch/>
        </p:blipFill>
        <p:spPr>
          <a:xfrm>
            <a:off x="0" y="0"/>
            <a:ext cx="9677520" cy="6834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D17-798E-4DD8-B601-B10DC5A478E1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90720" y="20574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列夫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托尔斯泰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28—1910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：俄国作家。出身贵族。幼年父母双亡，由姑母抚养成人，曾就读于喀山大学东方语文系。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85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年去高加索从军，曾参加克里米亚的塞瓦斯托波尔战役，并在这里开始文学创作生涯。他擅长细腻的心理描写，善于表现人物心理，形象生动逼真，对欧洲和世界文学产生过巨大影响。他的代表作有：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安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卡列尼娜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复活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等。小说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穷人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选入小学语文课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834560" y="838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295280" y="505764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三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—27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渔夫出海归来，听说西蒙死了，主动提出把西蒙的孩子抱过来抚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170720" y="609480"/>
            <a:ext cx="18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段段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295280" y="19051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一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桑娜在海上起风暴的夜晚，焦急等待着出海捕鱼的丈夫归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295280" y="3276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第二段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—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节）：讲桑娜看望生病的邻居西蒙，发现西蒙病死，便把她的两个孩子抱回自己家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195640" y="206064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？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我会猜"/>
          <p:cNvPicPr/>
          <p:nvPr/>
        </p:nvPicPr>
        <p:blipFill>
          <a:blip r:embed="rId2"/>
          <a:stretch/>
        </p:blipFill>
        <p:spPr>
          <a:xfrm>
            <a:off x="971640" y="38160"/>
            <a:ext cx="1619280" cy="1503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7[3]"/>
          <p:cNvPicPr/>
          <p:nvPr/>
        </p:nvPicPr>
        <p:blipFill>
          <a:blip r:embed="rId3"/>
          <a:stretch/>
        </p:blipFill>
        <p:spPr>
          <a:xfrm>
            <a:off x="2771640" y="476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42920" y="2060640"/>
            <a:ext cx="810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桑娜脸色苍白，神情激动。她忐忑不安地想：“他会说什么呢？这是闹着玩的吗？自己的五个孩子已经够他受的了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是他来啦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不，还没来！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为什么把他们抱过来啊？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他会揍我的！那也活该，我自作自受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嗯，揍我一顿也好！”</a:t>
            </a:r>
            <a:r>
              <a:rPr b="1" lang="zh-CN" sz="3600" spc="-1" strike="noStrike">
                <a:solidFill>
                  <a:srgbClr val="d69b8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我会读pic_227543"/>
          <p:cNvPicPr/>
          <p:nvPr/>
        </p:nvPicPr>
        <p:blipFill>
          <a:blip r:embed="rId2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692360" y="2276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）读读这段话，想一想，这段话的大致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）这段话里出现了几个省略号？请你想象出桑娜的内心活动。</a:t>
            </a:r>
            <a:r>
              <a:rPr b="0" lang="zh-CN" sz="3600" spc="-1" strike="noStrike">
                <a:solidFill>
                  <a:srgbClr val="cc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我会读pic_227543"/>
          <p:cNvPicPr/>
          <p:nvPr/>
        </p:nvPicPr>
        <p:blipFill>
          <a:blip r:embed="rId2"/>
          <a:stretch/>
        </p:blipFill>
        <p:spPr>
          <a:xfrm>
            <a:off x="1231920" y="101520"/>
            <a:ext cx="1619280" cy="132732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3097080" y="69840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隶书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穷人1"/>
          <p:cNvPicPr/>
          <p:nvPr/>
        </p:nvPicPr>
        <p:blipFill>
          <a:blip r:embed="rId2"/>
          <a:stretch/>
        </p:blipFill>
        <p:spPr>
          <a:xfrm>
            <a:off x="7924680" y="137160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1143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920" y="5257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66680" y="1143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个孩子  勉强填饱肚子 光着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6002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桑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5248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渔夫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3716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邻居西蒙的孩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14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早到晚干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7432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顾惜身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648320" y="22860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抱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1055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648320" y="3505320"/>
            <a:ext cx="53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抱回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5105520" y="388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能熬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60020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有一颗善良的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71629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宁可自己受苦也要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609480" y="3505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 flipV="1">
            <a:off x="609480" y="1600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5486400" y="1371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7696080" y="1371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990720" y="1371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10666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4267080" y="5486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5"/>
          <p:cNvSpPr/>
          <p:nvPr/>
        </p:nvSpPr>
        <p:spPr>
          <a:xfrm flipV="1">
            <a:off x="7696080" y="38858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>
            <a:off x="259092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7"/>
          <p:cNvSpPr/>
          <p:nvPr/>
        </p:nvSpPr>
        <p:spPr>
          <a:xfrm>
            <a:off x="2590920" y="3200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5720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9"/>
          <p:cNvSpPr/>
          <p:nvPr/>
        </p:nvSpPr>
        <p:spPr>
          <a:xfrm flipV="1">
            <a:off x="45720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0"/>
          <p:cNvSpPr/>
          <p:nvPr/>
        </p:nvSpPr>
        <p:spPr>
          <a:xfrm>
            <a:off x="1371600" y="25146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1"/>
          <p:cNvSpPr/>
          <p:nvPr/>
        </p:nvSpPr>
        <p:spPr>
          <a:xfrm rot="10792800">
            <a:off x="7009920" y="281916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16"/>
                </a:lnTo>
                <a:cubicBezTo>
                  <a:pt x="10800" y="9716"/>
                  <a:pt x="5400" y="10616"/>
                  <a:pt x="0" y="10616"/>
                </a:cubicBezTo>
                <a:cubicBezTo>
                  <a:pt x="5400" y="10616"/>
                  <a:pt x="10800" y="11516"/>
                  <a:pt x="10800" y="124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2" descr=""/>
          <p:cNvPicPr/>
          <p:nvPr/>
        </p:nvPicPr>
        <p:blipFill>
          <a:blip r:embed="rId3"/>
          <a:stretch/>
        </p:blipFill>
        <p:spPr>
          <a:xfrm>
            <a:off x="2666880" y="419112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85800" y="175248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1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她自己也不知道为什么要这样做，但是她觉得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非这样做不可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5800" y="20574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蒙死了，孩子总不能和死人呆在一起，如果没有人管他们，他们以后怎么办？所以说“她觉得非这样做不可”。但她做这件事情的时候，并没有多考虑，只是良心驱遣她本能地这样做了，所以说，“她自己也不知道为什么要这样做”。从这句朴实的话中，可以看出桑娜的心地多么善良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170720" y="533520"/>
            <a:ext cx="18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难句讲解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3657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</a:rPr>
              <a:t>2.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他搔搔后脑勺说，“嗯，你看怎么办？得把他们抱来，同死人呆在一起怎么行！哦，我们，我们总能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Times New Roman"/>
              </a:rPr>
              <a:t>熬过去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</a:rPr>
              <a:t>的！快去！别等他们醒来。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85800" y="46324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是讲渔夫考虑怎样对待西蒙的孩子的过程。“他搔搔后脑勺”说明他在考虑问题。“嗯，你看怎么办？”这是在和桑娜商量。“得把他们抱来，同死人呆在一起怎么行！”这是从简单的做人道理出发来考虑，孩子同死人在一起是不行的。“哦，我们，我们总能熬过去的！”考虑自己的生活虽然会更苦一些，但“总能熬过去的”。“快去！别等他们醒来、”怕孩子醒来知道妈妈死了，心灵受创伤。这样的考虑过程合乎情理，说明渔夫的心灵和桑娜一样地善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85800" y="533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佳句赏析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66680" y="2057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海上正起着风暴，外面又黑又冷，在这间渔家的小屋里却温暖而舒适。地扫得干干净净，炉子里的火还没有熄，食具在搁板上闪闪发亮。在挂着白色帐子的床上，五个孩子正在海风呼啸声中安静地睡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1430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忐忑不安地想：“他会说什么呢？这是闹着玩的吗？自己的五个孩子已经够他受的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他来啦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，还没来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把他们抱回来啊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会揍我的！那也活该，我自作自受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嗯，揍我一顿也好！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05:0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27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