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68B8-D590-4C7A-8DF2-65714AB9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C9DD-CF81-485A-B459-FCBCD0A7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04A6-D4C3-495B-A2BF-A0225469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81D5-AEC1-48A3-ABAC-6B18D029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559D-2825-4CB6-BBA0-E05486AC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C86A-FBF8-4587-A9BD-CFDAED81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1962-61A4-48E4-A261-E5524EE8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28D-6FA9-494A-BDB9-832E7BE6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3089-1407-41E7-87B2-CF902307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C00F-DC0C-4A7D-940B-4DE90396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3A5F-FE43-4097-B205-AFD645C1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E074-EBD3-4C48-99EC-5DF27787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DC60-E2D4-4639-81E4-B2D07812EB7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"/>
          <p:cNvPicPr/>
          <p:nvPr/>
        </p:nvPicPr>
        <p:blipFill>
          <a:blip r:embed="rId2"/>
          <a:srcRect l="0" t="0" r="0" b="14616"/>
          <a:stretch/>
        </p:blipFill>
        <p:spPr>
          <a:xfrm>
            <a:off x="181080" y="189000"/>
            <a:ext cx="9144000" cy="57639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"/>
          <p:cNvSpPr/>
          <p:nvPr/>
        </p:nvSpPr>
        <p:spPr>
          <a:xfrm>
            <a:off x="3224160" y="549360"/>
            <a:ext cx="261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九年义务教育六年制小学语文教科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第八册第二十一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2171880" y="2349360"/>
            <a:ext cx="4800600" cy="1447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251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宋体"/>
              </a:rPr>
              <a:t>日月潭的传说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3" descr="f11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914400" y="685800"/>
            <a:ext cx="749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日月潭是我国台湾省最大的一个湖泊。那里</a:t>
            </a:r>
            <a:r>
              <a:rPr b="0" lang="zh-CN" sz="4000" spc="-1" strike="noStrike">
                <a:solidFill>
                  <a:srgbClr val="ffff3d"/>
                </a:solidFill>
                <a:latin typeface="Times New Roman"/>
                <a:ea typeface="华文新魏"/>
              </a:rPr>
              <a:t>青山环抱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，</a:t>
            </a:r>
            <a:r>
              <a:rPr b="0" lang="zh-CN" sz="4000" spc="-1" strike="noStrike">
                <a:solidFill>
                  <a:srgbClr val="ffff3d"/>
                </a:solidFill>
                <a:latin typeface="Times New Roman"/>
                <a:ea typeface="华文新魏"/>
              </a:rPr>
              <a:t>树木葱茏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，是个</a:t>
            </a:r>
            <a:r>
              <a:rPr b="0" lang="zh-CN" sz="4000" spc="-1" strike="noStrike">
                <a:solidFill>
                  <a:srgbClr val="ffff3d"/>
                </a:solidFill>
                <a:latin typeface="Times New Roman"/>
                <a:ea typeface="华文新魏"/>
              </a:rPr>
              <a:t>著名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的风景区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85800" y="4495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很久很久以前，两条恶龙吞吃了太阳和月亮，天地间</a:t>
            </a:r>
            <a:r>
              <a:rPr b="1" lang="zh-CN" sz="3600" spc="-1" strike="noStrike">
                <a:solidFill>
                  <a:srgbClr val="ffff3d"/>
                </a:solidFill>
                <a:latin typeface="Times New Roman"/>
                <a:ea typeface="华文中宋"/>
              </a:rPr>
              <a:t>漆黑一团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" name="Picture 4" descr="01"/>
          <p:cNvPicPr/>
          <p:nvPr/>
        </p:nvPicPr>
        <p:blipFill>
          <a:blip r:embed="rId2"/>
          <a:stretch/>
        </p:blipFill>
        <p:spPr>
          <a:xfrm>
            <a:off x="380880" y="195120"/>
            <a:ext cx="4572000" cy="3200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02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3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"/>
                            </p:stCondLst>
                            <p:childTnLst>
                              <p:par>
                                <p:cTn id="1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00"/>
                            </p:stCondLst>
                            <p:childTnLst>
                              <p:par>
                                <p:cTn id="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095920" y="1812960"/>
            <a:ext cx="48441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学习要求：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</a:rPr>
              <a:t>自读课文三四自然段，小组讨论交流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</a:rPr>
              <a:t>说说你体会到什么，课文体现了大尖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</a:rPr>
              <a:t>哥和水社姐怎样的高贵品质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oulong"/>
          <p:cNvPicPr/>
          <p:nvPr/>
        </p:nvPicPr>
        <p:blipFill>
          <a:blip r:embed="rId2">
            <a:lum bright="24000"/>
            <a:alphaModFix amt="50000"/>
          </a:blip>
          <a:stretch/>
        </p:blipFill>
        <p:spPr>
          <a:xfrm>
            <a:off x="1116000" y="0"/>
            <a:ext cx="7012080" cy="3284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324000" y="3429000"/>
            <a:ext cx="8362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他们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ea typeface="隶书"/>
              </a:rPr>
              <a:t>翻山越岭</a:t>
            </a:r>
            <a:r>
              <a:rPr b="0" lang="zh-CN" sz="2800" spc="-1" strike="noStrike">
                <a:solidFill>
                  <a:srgbClr val="dddddd"/>
                </a:solidFill>
                <a:latin typeface="Times New Roman"/>
              </a:rPr>
              <a:t>，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ea typeface="隶书"/>
              </a:rPr>
              <a:t>披荆斩棘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，吃尽了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ea typeface="隶书"/>
              </a:rPr>
              <a:t>千辛万苦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，终于从阿里山的山洞里拿到了金斧头和金剪刀。回到潭边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他俩又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ea typeface="隶书"/>
              </a:rPr>
              <a:t>冒着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生命危险，纵身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ea typeface="隶书"/>
              </a:rPr>
              <a:t>潜入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湖底，与两条恶龙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ea typeface="隶书"/>
              </a:rPr>
              <a:t>激战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了三天三夜。大尖哥用金斧头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ea typeface="隶书"/>
              </a:rPr>
              <a:t>砍死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了它们，水社姐用金剪刀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ea typeface="隶书"/>
              </a:rPr>
              <a:t>剪开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了龙肚子，救出了太阳和月亮，人们重又见到了光明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oulong"/>
          <p:cNvPicPr/>
          <p:nvPr/>
        </p:nvPicPr>
        <p:blipFill>
          <a:blip r:embed="rId2">
            <a:lum bright="24000"/>
            <a:alphaModFix amt="50000"/>
          </a:blip>
          <a:stretch/>
        </p:blipFill>
        <p:spPr>
          <a:xfrm>
            <a:off x="304920" y="0"/>
            <a:ext cx="8458200" cy="3962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609480" y="4343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勇敢顽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124080" y="434340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为民除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305760" y="4419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为民造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609480" y="502920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舍生忘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486600" y="5105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见义勇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6382080" y="5105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除邪惩恶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895680" y="5715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不畏艰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EBD3-0CBB-4301-A62D-7F43C664DF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2" descr="f11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3"/>
          <p:cNvSpPr txBox="1"/>
          <p:nvPr/>
        </p:nvSpPr>
        <p:spPr>
          <a:xfrm rot="844200">
            <a:off x="990360" y="3048120"/>
            <a:ext cx="15238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d">
                    <a:alpha val="50000"/>
                  </a:srgbClr>
                </a:solidFill>
                <a:latin typeface="宋体"/>
              </a:rPr>
              <a:t>水社山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3d">
                  <a:alpha val="50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72" name="WordArt 4"/>
          <p:cNvSpPr txBox="1"/>
          <p:nvPr/>
        </p:nvSpPr>
        <p:spPr>
          <a:xfrm>
            <a:off x="2819520" y="5181480"/>
            <a:ext cx="23619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2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d">
                    <a:alpha val="50000"/>
                  </a:srgbClr>
                </a:solidFill>
                <a:latin typeface="宋体"/>
              </a:rPr>
              <a:t>日月潭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3d">
                  <a:alpha val="50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5105520" y="1447920"/>
            <a:ext cx="23619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d">
                    <a:alpha val="50000"/>
                  </a:srgbClr>
                </a:solidFill>
                <a:latin typeface="宋体"/>
              </a:rPr>
              <a:t>大尖山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3d">
                  <a:alpha val="50000"/>
                </a:srgbClr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875760" y="735120"/>
            <a:ext cx="157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1</a:t>
            </a:r>
            <a:r>
              <a:rPr b="0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、日月潭的传说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175040" y="205740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拿到（发展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砍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588920" y="19810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大尖哥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水社姐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7108560" y="198108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化作青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（结果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773640" y="518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恶龙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3186720" y="56386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吞吃      （起因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Line 9"/>
          <p:cNvSpPr/>
          <p:nvPr/>
        </p:nvSpPr>
        <p:spPr>
          <a:xfrm flipH="1">
            <a:off x="1371240" y="2590920"/>
            <a:ext cx="2590920" cy="259056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5562720" y="2666880"/>
            <a:ext cx="2361960" cy="236232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1600200" y="5410080"/>
            <a:ext cx="586728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530120" y="4648320"/>
            <a:ext cx="66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太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月亮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（漆黑一团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1106640" y="626112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2:34:4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7:34:01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