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gif" ContentType="image/gif"/>
  <Override PartName="/ppt/media/image10.jpeg" ContentType="image/jpeg"/>
  <Override PartName="/ppt/media/image11.gif" ContentType="image/gif"/>
  <Override PartName="/ppt/media/image7.gif" ContentType="image/gif"/>
  <Override PartName="/ppt/media/image8.gif" ContentType="image/gif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9543-5DDC-41D8-8F39-E200DFFD5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47A4-9984-4137-A400-5A58F27A4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216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216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276D-3814-4FBE-A1D2-6B6B963FB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512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512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D670-382E-480E-A4A2-B19D3D5C2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41602-6A3A-48EA-92E4-BC128E5AD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0948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cece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0DCEB-81EC-40EF-ABA0-15CC5181B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B11BE-70F2-44CC-B166-B448ADB4C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9216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E5476-532B-4243-AD9D-990846553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11F9D-40F9-4ABC-90E9-297A8F688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09480" y="3808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cece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9C736-33D5-48B2-B1D7-4C8B955AA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9216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984D7-BC15-4F52-A0C7-6B75AEA5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cece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8A71-B41A-4AEF-80A1-A947B188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9216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9216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037A4-9986-49EA-89FA-705E7F97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9216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3E109-69EF-4146-B30B-2B7F2FFD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0948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44F9C-080D-4220-BC0A-CF1363DC9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9216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9216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98DD8-2095-4DAE-8612-FA24F9AA8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748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86512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0948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748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86512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09968-68F1-4729-A139-849C992D4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3693-C402-4A83-AD13-851B27DCD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216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9FA5-0F05-4911-988A-CEDBCB34D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8C61-BF62-419D-BE80-7C8ADEC59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3808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cece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278B-B73E-4A0C-A1B7-4EDF7DCD4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D3DA-49FD-4630-BECD-0F47ECF6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216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527B-57A7-4F90-8299-9A264D06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BC65-5633-4070-8F32-EC1520CE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2057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SzPct val="1799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SzPct val="15424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SzPct val="12855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SzPct val="12855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SzPct val="12855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SzPct val="12855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C3DF-7469-449F-AE02-FCACCFAF2E1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0" y="28191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ececec"/>
                </a:solidFill>
                <a:latin typeface="Georgia"/>
              </a:rPr>
              <a:t>Click to edit the title text format</a:t>
            </a:r>
            <a:endParaRPr b="1" i="1" lang="en-US" sz="5400" spc="-1" strike="noStrike">
              <a:solidFill>
                <a:srgbClr val="ececec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D2CD8-F4AE-43E8-9206-732D1345655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200160"/>
            <a:ext cx="3417840" cy="6657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cecec"/>
                </a:solidFill>
                <a:latin typeface="Georgia"/>
              </a:rPr>
              <a:t>Click to edit the outline text format</a:t>
            </a:r>
            <a:endParaRPr b="1" i="1" lang="en-US" sz="3200" spc="-1" strike="noStrike">
              <a:solidFill>
                <a:srgbClr val="ececec"/>
              </a:solidFill>
              <a:latin typeface="Georgi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i="1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200000"/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i="1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200000"/>
              <a:buFont typeface="Georgi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i="1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200000"/>
              <a:buFont typeface="Georgi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i="1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200000"/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i="1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200000"/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i="1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dongtai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0" y="28191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ececec"/>
                </a:solidFill>
                <a:latin typeface="Georgia"/>
                <a:ea typeface="宋体"/>
              </a:rPr>
              <a:t> </a:t>
            </a:r>
            <a:endParaRPr b="1" i="1" lang="en-US" sz="5400" spc="-1" strike="noStrike">
              <a:solidFill>
                <a:srgbClr val="ececec"/>
              </a:solidFill>
              <a:latin typeface="Georgia"/>
            </a:endParaRPr>
          </a:p>
        </p:txBody>
      </p:sp>
      <p:sp>
        <p:nvSpPr>
          <p:cNvPr id="84" name=""/>
          <p:cNvSpPr/>
          <p:nvPr/>
        </p:nvSpPr>
        <p:spPr>
          <a:xfrm>
            <a:off x="1260360" y="6021360"/>
            <a:ext cx="6337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76640" y="1844640"/>
            <a:ext cx="26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圣诞动态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771640" y="9810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Georgia"/>
                <a:ea typeface="宋体"/>
              </a:rPr>
              <a:t>Your Title Here</a:t>
            </a: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2057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  <a:ea typeface="宋体"/>
              </a:rPr>
              <a:t>Your First Point Here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SzPct val="2056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  <a:ea typeface="宋体"/>
              </a:rPr>
              <a:t>Your Sub Point</a:t>
            </a:r>
            <a:endParaRPr b="1" i="1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SzPct val="20574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  <a:ea typeface="宋体"/>
              </a:rPr>
              <a:t>Your Second Point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Georgia"/>
              </a:rPr>
              <a:t>使用规范说明</a:t>
            </a: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ededed"/>
                </a:solidFill>
                <a:latin typeface="Georgia"/>
              </a:rPr>
              <a:t>站点介绍</a:t>
            </a:r>
            <a:r>
              <a:rPr b="1" i="1" lang="en-US" sz="1400" spc="-1" strike="noStrike">
                <a:solidFill>
                  <a:srgbClr val="ededed"/>
                </a:solidFill>
                <a:latin typeface="Georgia"/>
              </a:rPr>
              <a:t>：</a:t>
            </a: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ededed"/>
                </a:solidFill>
                <a:latin typeface="Georgia"/>
              </a:rPr>
              <a:t>PPT</a:t>
            </a:r>
            <a:r>
              <a:rPr b="1" i="1" lang="en-US" sz="1400" spc="-1" strike="noStrike">
                <a:solidFill>
                  <a:srgbClr val="ededed"/>
                </a:solidFill>
                <a:latin typeface="Georgia"/>
              </a:rPr>
              <a:t>模板下载网站</a:t>
            </a:r>
            <a:r>
              <a:rPr b="1" i="1" lang="zh-CN" sz="1400" spc="-1" strike="noStrike">
                <a:solidFill>
                  <a:srgbClr val="e8eff7"/>
                </a:solidFill>
                <a:latin typeface="Georgia"/>
              </a:rPr>
              <a:t>www.eeppt.com</a:t>
            </a:r>
            <a:r>
              <a:rPr b="1" i="1" lang="en-US" sz="1400" spc="-1" strike="noStrike">
                <a:solidFill>
                  <a:srgbClr val="ededed"/>
                </a:solidFill>
                <a:latin typeface="Georgia"/>
              </a:rPr>
              <a:t>为您提供免费</a:t>
            </a:r>
            <a:r>
              <a:rPr b="1" i="1" lang="en-US" sz="1400" spc="-1" strike="noStrike">
                <a:solidFill>
                  <a:srgbClr val="ededed"/>
                </a:solidFill>
                <a:latin typeface="Georgia"/>
              </a:rPr>
              <a:t>ppt</a:t>
            </a:r>
            <a:r>
              <a:rPr b="1" i="1" lang="en-US" sz="1400" spc="-1" strike="noStrike">
                <a:solidFill>
                  <a:srgbClr val="ededed"/>
                </a:solidFill>
                <a:latin typeface="Georgia"/>
              </a:rPr>
              <a:t>模板下载，有好看的</a:t>
            </a:r>
            <a:r>
              <a:rPr b="1" i="1" lang="en-US" sz="1400" spc="-1" strike="noStrike">
                <a:solidFill>
                  <a:srgbClr val="ededed"/>
                </a:solidFill>
                <a:latin typeface="Georgia"/>
              </a:rPr>
              <a:t>ppt</a:t>
            </a:r>
            <a:r>
              <a:rPr b="1" i="1" lang="en-US" sz="1400" spc="-1" strike="noStrike">
                <a:solidFill>
                  <a:srgbClr val="ededed"/>
                </a:solidFill>
                <a:latin typeface="Georgia"/>
              </a:rPr>
              <a:t>模板，</a:t>
            </a:r>
            <a:r>
              <a:rPr b="1" i="1" lang="en-US" sz="1400" spc="-1" strike="noStrike">
                <a:solidFill>
                  <a:srgbClr val="ededed"/>
                </a:solidFill>
                <a:latin typeface="Georgia"/>
              </a:rPr>
              <a:t>ppt</a:t>
            </a:r>
            <a:r>
              <a:rPr b="1" i="1" lang="en-US" sz="1400" spc="-1" strike="noStrike">
                <a:solidFill>
                  <a:srgbClr val="ededed"/>
                </a:solidFill>
                <a:latin typeface="Georgia"/>
              </a:rPr>
              <a:t>背景图片，</a:t>
            </a:r>
            <a:r>
              <a:rPr b="1" i="1" lang="en-US" sz="1400" spc="-1" strike="noStrike">
                <a:solidFill>
                  <a:srgbClr val="ededed"/>
                </a:solidFill>
                <a:latin typeface="Georgia"/>
              </a:rPr>
              <a:t>ppt</a:t>
            </a:r>
            <a:r>
              <a:rPr b="1" i="1" lang="en-US" sz="1400" spc="-1" strike="noStrike">
                <a:solidFill>
                  <a:srgbClr val="ededed"/>
                </a:solidFill>
                <a:latin typeface="Georgia"/>
              </a:rPr>
              <a:t>素材，</a:t>
            </a:r>
            <a:r>
              <a:rPr b="1" i="1" lang="en-US" sz="1400" spc="-1" strike="noStrike">
                <a:solidFill>
                  <a:srgbClr val="ededed"/>
                </a:solidFill>
                <a:latin typeface="Georgia"/>
              </a:rPr>
              <a:t>ppt</a:t>
            </a:r>
            <a:r>
              <a:rPr b="1" i="1" lang="en-US" sz="1400" spc="-1" strike="noStrike">
                <a:solidFill>
                  <a:srgbClr val="ededed"/>
                </a:solidFill>
                <a:latin typeface="Georgia"/>
              </a:rPr>
              <a:t>图表，动态</a:t>
            </a:r>
            <a:r>
              <a:rPr b="1" i="1" lang="en-US" sz="1400" spc="-1" strike="noStrike">
                <a:solidFill>
                  <a:srgbClr val="ededed"/>
                </a:solidFill>
                <a:latin typeface="Georgia"/>
              </a:rPr>
              <a:t>ppt</a:t>
            </a:r>
            <a:r>
              <a:rPr b="1" i="1" lang="en-US" sz="1400" spc="-1" strike="noStrike">
                <a:solidFill>
                  <a:srgbClr val="ededed"/>
                </a:solidFill>
                <a:latin typeface="Georgia"/>
              </a:rPr>
              <a:t>模板大全，幻灯片模板，</a:t>
            </a:r>
            <a:r>
              <a:rPr b="1" i="1" lang="en-US" sz="1400" spc="-1" strike="noStrike">
                <a:solidFill>
                  <a:srgbClr val="ededed"/>
                </a:solidFill>
                <a:latin typeface="Georgia"/>
              </a:rPr>
              <a:t>Powe</a:t>
            </a:r>
            <a:r>
              <a:rPr b="1" i="1" lang="en-US" sz="1400" spc="-1" strike="noStrike">
                <a:solidFill>
                  <a:srgbClr val="e8eff7"/>
                </a:solidFill>
                <a:latin typeface="Georgia"/>
              </a:rPr>
              <a:t>rPoint</a:t>
            </a:r>
            <a:r>
              <a:rPr b="1" i="1" lang="en-US" sz="1400" spc="-1" strike="noStrike">
                <a:solidFill>
                  <a:srgbClr val="e8eff7"/>
                </a:solidFill>
                <a:latin typeface="Georgia"/>
              </a:rPr>
              <a:t>模板等各类</a:t>
            </a:r>
            <a:r>
              <a:rPr b="1" i="1" lang="en-US" sz="1400" spc="-1" strike="noStrike">
                <a:solidFill>
                  <a:srgbClr val="e8eff7"/>
                </a:solidFill>
                <a:latin typeface="Georgia"/>
              </a:rPr>
              <a:t>ppt</a:t>
            </a:r>
            <a:r>
              <a:rPr b="1" i="1" lang="en-US" sz="1400" spc="-1" strike="noStrike">
                <a:solidFill>
                  <a:srgbClr val="e8eff7"/>
                </a:solidFill>
                <a:latin typeface="Georgia"/>
              </a:rPr>
              <a:t>模板免费下载。</a:t>
            </a:r>
            <a:r>
              <a:rPr b="1" i="1" lang="zh-CN" sz="1400" spc="-1" strike="noStrike">
                <a:solidFill>
                  <a:srgbClr val="e8eff7"/>
                </a:solidFill>
                <a:latin typeface="Georgia"/>
              </a:rPr>
              <a:t>助</a:t>
            </a:r>
            <a:r>
              <a:rPr b="1" i="1" lang="en-US" sz="1400" spc="-1" strike="noStrike">
                <a:solidFill>
                  <a:srgbClr val="e8eff7"/>
                </a:solidFill>
                <a:latin typeface="Georgia"/>
              </a:rPr>
              <a:t>您轻松制作出精美</a:t>
            </a:r>
            <a:r>
              <a:rPr b="1" i="1" lang="en-US" sz="1400" spc="-1" strike="noStrike">
                <a:solidFill>
                  <a:srgbClr val="e8eff7"/>
                </a:solidFill>
                <a:latin typeface="Georgia"/>
              </a:rPr>
              <a:t>PPT</a:t>
            </a:r>
            <a:r>
              <a:rPr b="1" i="1" lang="en-US" sz="1400" spc="-1" strike="noStrike">
                <a:solidFill>
                  <a:srgbClr val="e8eff7"/>
                </a:solidFill>
                <a:latin typeface="Georgia"/>
              </a:rPr>
              <a:t>模板！</a:t>
            </a:r>
            <a:r>
              <a:rPr b="1" i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i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i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i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i="1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i="1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i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ededed"/>
                </a:solidFill>
                <a:latin typeface="Georgia"/>
              </a:rPr>
              <a:t>特别说明：</a:t>
            </a: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ededed"/>
                </a:solidFill>
                <a:latin typeface="Georgia"/>
              </a:rPr>
              <a:t>该</a:t>
            </a:r>
            <a:r>
              <a:rPr b="1" i="1" lang="zh-CN" sz="1400" spc="-1" strike="noStrike">
                <a:solidFill>
                  <a:srgbClr val="ededed"/>
                </a:solidFill>
                <a:latin typeface="Georgia"/>
              </a:rPr>
              <a:t>PPT</a:t>
            </a:r>
            <a:r>
              <a:rPr b="1" i="1" lang="zh-CN" sz="1400" spc="-1" strike="noStrike">
                <a:solidFill>
                  <a:srgbClr val="ededed"/>
                </a:solidFill>
                <a:latin typeface="Georgia"/>
              </a:rPr>
              <a:t>模板收集于网络，</a:t>
            </a:r>
            <a:r>
              <a:rPr b="1" i="1" lang="en-US" sz="1400" spc="-1" strike="noStrike">
                <a:solidFill>
                  <a:srgbClr val="ededed"/>
                </a:solidFill>
                <a:latin typeface="Georgia"/>
              </a:rPr>
              <a:t>仅供学习与参考，请勿用于商业用途。否则产生的一切后果将由您自己承担！如有侵犯您的版权，请及时与我们联系。</a:t>
            </a: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ededed"/>
                </a:solidFill>
                <a:latin typeface="Georgia"/>
              </a:rPr>
              <a:t>栏目推荐</a:t>
            </a:r>
            <a:r>
              <a:rPr b="1" i="1" lang="en-US" sz="1400" spc="-1" strike="noStrike">
                <a:solidFill>
                  <a:srgbClr val="ededed"/>
                </a:solidFill>
                <a:latin typeface="Georgia"/>
              </a:rPr>
              <a:t>：</a:t>
            </a:r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i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i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i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i="1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i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i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i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i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i="1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i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i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i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i="1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i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i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i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i="1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i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i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i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i="1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i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i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i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i="1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i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i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i="1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i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i="1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i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i="1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i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i="1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i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i="1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27A6-E4D8-4AF5-A1F7-DF7B82758D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5640" y="3933720"/>
            <a:ext cx="25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 Narrow"/>
              </a:rPr>
              <a:t>来源</a:t>
            </a:r>
            <a:r>
              <a:rPr b="1" lang="zh-CN" sz="1800" spc="-1" strike="noStrike">
                <a:solidFill>
                  <a:srgbClr val="1c1c1c"/>
                </a:solidFill>
                <a:latin typeface="Arial Narrow"/>
              </a:rPr>
              <a:t>: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206960" y="4432320"/>
            <a:ext cx="1511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imes New Roman"/>
              </a:rPr>
              <a:t>分享者</a:t>
            </a:r>
            <a:r>
              <a:rPr b="0" lang="zh-CN" sz="1400" spc="-1" strike="noStrike">
                <a:solidFill>
                  <a:srgbClr val="1c1c1c"/>
                </a:solidFill>
                <a:latin typeface="Times New Roman"/>
              </a:rPr>
              <a:t>: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模板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5373720"/>
            <a:ext cx="640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     </a:t>
            </a:r>
            <a:r>
              <a:rPr b="0" lang="en-US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eeppt.com- </a:t>
            </a:r>
            <a:r>
              <a:rPr b="0" lang="en-US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为您免费提供大量</a:t>
            </a:r>
            <a:r>
              <a:rPr b="0" lang="en-US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模板下载包括</a:t>
            </a:r>
            <a:r>
              <a:rPr b="0" lang="en-US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模板</a:t>
            </a:r>
            <a:r>
              <a:rPr b="0" lang="en-US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,PPT</a:t>
            </a:r>
            <a:r>
              <a:rPr b="0" lang="en-US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背景图片</a:t>
            </a:r>
            <a:r>
              <a:rPr b="0" lang="en-US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,PPT</a:t>
            </a:r>
            <a:r>
              <a:rPr b="0" lang="en-US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素材</a:t>
            </a:r>
            <a:r>
              <a:rPr b="0" lang="en-US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,PPT</a:t>
            </a:r>
            <a:r>
              <a:rPr b="0" lang="en-US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图表</a:t>
            </a:r>
            <a:r>
              <a:rPr b="0" lang="en-US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,</a:t>
            </a:r>
            <a:r>
              <a:rPr b="0" lang="en-US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动态</a:t>
            </a:r>
            <a:r>
              <a:rPr b="0" lang="en-US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模板</a:t>
            </a:r>
            <a:r>
              <a:rPr b="0" lang="en-US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,PowerPoint</a:t>
            </a:r>
            <a:r>
              <a:rPr b="0" lang="en-US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模板等各类幻灯片模板。让您轻松制作出精美好看的</a:t>
            </a:r>
            <a:r>
              <a:rPr b="0" lang="en-US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857160" y="333360"/>
            <a:ext cx="1524240" cy="628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2927520" y="333360"/>
            <a:ext cx="1428480" cy="5904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4775040" y="404640"/>
            <a:ext cx="1238400" cy="5144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6813720" y="485640"/>
            <a:ext cx="1143000" cy="476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516720" y="6237360"/>
            <a:ext cx="251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Times New Roman"/>
                <a:ea typeface="黑体"/>
              </a:rPr>
              <a:t> </a:t>
            </a:r>
            <a:r>
              <a:rPr b="0" lang="en-US" sz="1300" spc="-1" strike="noStrike">
                <a:solidFill>
                  <a:srgbClr val="1c1c1c"/>
                </a:solidFill>
                <a:latin typeface="Times New Roman"/>
                <a:ea typeface="黑体"/>
              </a:rPr>
              <a:t>免费</a:t>
            </a:r>
            <a:r>
              <a:rPr b="0" lang="en-US" sz="1300" spc="-1" strike="noStrike">
                <a:solidFill>
                  <a:srgbClr val="1c1c1c"/>
                </a:solidFill>
                <a:latin typeface="Times New Roman"/>
                <a:ea typeface="黑体"/>
              </a:rPr>
              <a:t>PPT</a:t>
            </a:r>
            <a:r>
              <a:rPr b="0" lang="en-US" sz="1300" spc="-1" strike="noStrike">
                <a:solidFill>
                  <a:srgbClr val="1c1c1c"/>
                </a:solidFill>
                <a:latin typeface="Times New Roman"/>
                <a:ea typeface="黑体"/>
              </a:rPr>
              <a:t>模板下载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1c1c1c"/>
                </a:solidFill>
                <a:latin typeface="Times New Roman"/>
              </a:rPr>
              <a:t>   </a:t>
            </a:r>
            <a:r>
              <a:rPr b="0" i="1" lang="en-US" sz="14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0" lang="zh-CN" sz="1600" spc="-1" strike="noStrike">
                <a:solidFill>
                  <a:srgbClr val="1c1c1c"/>
                </a:solidFill>
                <a:latin typeface="Times New Roman"/>
              </a:rPr>
              <a:t>http://</a:t>
            </a:r>
            <a:r>
              <a:rPr b="0" lang="zh-CN" sz="16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13440" y="2382840"/>
            <a:ext cx="250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-3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张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加最后一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-6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张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加两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-10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张   加三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张以上  加四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556F5-C845-4F60-8ADB-4754ADFC1A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Georgia"/>
                <a:ea typeface="宋体"/>
              </a:rPr>
              <a:t>Your Title Here</a:t>
            </a: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2057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  <a:ea typeface="宋体"/>
              </a:rPr>
              <a:t>Your First Point Here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SzPct val="2056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  <a:ea typeface="宋体"/>
              </a:rPr>
              <a:t>Your Sub Point</a:t>
            </a:r>
            <a:endParaRPr b="1" i="1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SzPct val="20574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  <a:ea typeface="宋体"/>
              </a:rPr>
              <a:t>Your Second Point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2743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Georgia"/>
                <a:ea typeface="宋体"/>
              </a:rPr>
              <a:t>Transition Page</a:t>
            </a:r>
            <a:endParaRPr b="1" i="1" lang="en-US" sz="6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80880" y="1295280"/>
            <a:ext cx="251460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07:55:54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8T02:19:31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