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ADD3-95DC-4350-B798-E18CBDA5F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3EBE-4AB4-48FA-A795-017F43B18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60E3-A523-469B-82EE-E7C3309A8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8BA3-DF1D-4BEC-B405-E255379253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540C-2AF1-4E15-9348-C364B04B56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F8AB-5191-419D-8680-260A74FA7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0139-5F1B-4C53-935F-B95184CD6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FCAF-DBEC-4AC1-BDB9-DA60B95F0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B70C-CC71-4931-BD8C-BB292054F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5340-E33D-4C0B-958C-23AFBBE7C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E987-1AC0-467B-B4F4-AC1C4FBFD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3B56-4E9F-48DD-A573-C9E6158FD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41880" y="635652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03B9-E774-4E5E-B41B-92AE4B68B2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hyperlink" Target="http://www.eeppt.com/dongtai/" TargetMode="External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2855520" y="-892440"/>
            <a:ext cx="509760" cy="509760"/>
            <a:chOff x="2855520" y="-892440"/>
            <a:chExt cx="509760" cy="509760"/>
          </a:xfrm>
        </p:grpSpPr>
        <p:sp>
          <p:nvSpPr>
            <p:cNvPr id="40" name="泪滴形 4"/>
            <p:cNvSpPr/>
            <p:nvPr/>
          </p:nvSpPr>
          <p:spPr>
            <a:xfrm rot="18900000">
              <a:off x="2930040" y="-817560"/>
              <a:ext cx="360360" cy="36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椭圆 9"/>
            <p:cNvSpPr/>
            <p:nvPr/>
          </p:nvSpPr>
          <p:spPr>
            <a:xfrm rot="18615000">
              <a:off x="2929320" y="-734760"/>
              <a:ext cx="2545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"/>
          <p:cNvGrpSpPr/>
          <p:nvPr/>
        </p:nvGrpSpPr>
        <p:grpSpPr>
          <a:xfrm>
            <a:off x="2840760" y="-907200"/>
            <a:ext cx="610560" cy="610920"/>
            <a:chOff x="2840760" y="-907200"/>
            <a:chExt cx="610560" cy="610920"/>
          </a:xfrm>
        </p:grpSpPr>
        <p:sp>
          <p:nvSpPr>
            <p:cNvPr id="43" name="泪滴形 7"/>
            <p:cNvSpPr/>
            <p:nvPr/>
          </p:nvSpPr>
          <p:spPr>
            <a:xfrm rot="18900000">
              <a:off x="2930040" y="-817200"/>
              <a:ext cx="432000" cy="43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9"/>
            <p:cNvSpPr/>
            <p:nvPr/>
          </p:nvSpPr>
          <p:spPr>
            <a:xfrm rot="18615000">
              <a:off x="2928960" y="-718200"/>
              <a:ext cx="304920" cy="16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2748600" y="-999360"/>
            <a:ext cx="754200" cy="754200"/>
            <a:chOff x="2748600" y="-999360"/>
            <a:chExt cx="754200" cy="754200"/>
          </a:xfrm>
        </p:grpSpPr>
        <p:sp>
          <p:nvSpPr>
            <p:cNvPr id="46" name="泪滴形 10"/>
            <p:cNvSpPr/>
            <p:nvPr/>
          </p:nvSpPr>
          <p:spPr>
            <a:xfrm rot="18900000">
              <a:off x="2858760" y="-888480"/>
              <a:ext cx="533520" cy="53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9"/>
            <p:cNvSpPr/>
            <p:nvPr/>
          </p:nvSpPr>
          <p:spPr>
            <a:xfrm rot="18615000">
              <a:off x="2857680" y="-766440"/>
              <a:ext cx="3765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椭圆 12"/>
          <p:cNvSpPr/>
          <p:nvPr/>
        </p:nvSpPr>
        <p:spPr>
          <a:xfrm>
            <a:off x="2354400" y="4724280"/>
            <a:ext cx="1655640" cy="41436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3"/>
          <p:cNvSpPr/>
          <p:nvPr/>
        </p:nvSpPr>
        <p:spPr>
          <a:xfrm>
            <a:off x="1757520" y="4724280"/>
            <a:ext cx="2303280" cy="57636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4"/>
          <p:cNvSpPr/>
          <p:nvPr/>
        </p:nvSpPr>
        <p:spPr>
          <a:xfrm>
            <a:off x="411120" y="4221000"/>
            <a:ext cx="5761080" cy="144000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5"/>
          <p:cNvSpPr/>
          <p:nvPr/>
        </p:nvSpPr>
        <p:spPr>
          <a:xfrm>
            <a:off x="1058760" y="4437000"/>
            <a:ext cx="4176720" cy="104472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7"/>
          <p:cNvSpPr/>
          <p:nvPr/>
        </p:nvSpPr>
        <p:spPr>
          <a:xfrm>
            <a:off x="338040" y="4221000"/>
            <a:ext cx="5761080" cy="144000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8"/>
          <p:cNvSpPr/>
          <p:nvPr/>
        </p:nvSpPr>
        <p:spPr>
          <a:xfrm>
            <a:off x="1130400" y="4437000"/>
            <a:ext cx="4176720" cy="104472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748600" y="-999360"/>
            <a:ext cx="754200" cy="754200"/>
            <a:chOff x="2748600" y="-999360"/>
            <a:chExt cx="754200" cy="754200"/>
          </a:xfrm>
        </p:grpSpPr>
        <p:sp>
          <p:nvSpPr>
            <p:cNvPr id="55" name="泪滴形 20"/>
            <p:cNvSpPr/>
            <p:nvPr/>
          </p:nvSpPr>
          <p:spPr>
            <a:xfrm rot="18900000">
              <a:off x="2858760" y="-888480"/>
              <a:ext cx="533520" cy="53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9"/>
            <p:cNvSpPr/>
            <p:nvPr/>
          </p:nvSpPr>
          <p:spPr>
            <a:xfrm rot="18615000">
              <a:off x="2857680" y="-766440"/>
              <a:ext cx="3765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748600" y="-999360"/>
            <a:ext cx="754200" cy="754200"/>
            <a:chOff x="2748600" y="-999360"/>
            <a:chExt cx="754200" cy="754200"/>
          </a:xfrm>
        </p:grpSpPr>
        <p:sp>
          <p:nvSpPr>
            <p:cNvPr id="58" name="泪滴形 23"/>
            <p:cNvSpPr/>
            <p:nvPr/>
          </p:nvSpPr>
          <p:spPr>
            <a:xfrm rot="18900000">
              <a:off x="2858760" y="-888480"/>
              <a:ext cx="533520" cy="53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9"/>
            <p:cNvSpPr/>
            <p:nvPr/>
          </p:nvSpPr>
          <p:spPr>
            <a:xfrm rot="18615000">
              <a:off x="2857680" y="-766440"/>
              <a:ext cx="3765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748600" y="-999360"/>
            <a:ext cx="754200" cy="754200"/>
            <a:chOff x="2748600" y="-999360"/>
            <a:chExt cx="754200" cy="754200"/>
          </a:xfrm>
        </p:grpSpPr>
        <p:sp>
          <p:nvSpPr>
            <p:cNvPr id="61" name="泪滴形 26"/>
            <p:cNvSpPr/>
            <p:nvPr/>
          </p:nvSpPr>
          <p:spPr>
            <a:xfrm rot="18900000">
              <a:off x="2858760" y="-888480"/>
              <a:ext cx="533520" cy="53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9"/>
            <p:cNvSpPr/>
            <p:nvPr/>
          </p:nvSpPr>
          <p:spPr>
            <a:xfrm rot="18615000">
              <a:off x="2857680" y="-766440"/>
              <a:ext cx="3765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748600" y="-999360"/>
            <a:ext cx="754200" cy="754200"/>
            <a:chOff x="2748600" y="-999360"/>
            <a:chExt cx="754200" cy="754200"/>
          </a:xfrm>
        </p:grpSpPr>
        <p:sp>
          <p:nvSpPr>
            <p:cNvPr id="64" name="泪滴形 29"/>
            <p:cNvSpPr/>
            <p:nvPr/>
          </p:nvSpPr>
          <p:spPr>
            <a:xfrm rot="18900000">
              <a:off x="2858760" y="-888480"/>
              <a:ext cx="533520" cy="53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9"/>
            <p:cNvSpPr/>
            <p:nvPr/>
          </p:nvSpPr>
          <p:spPr>
            <a:xfrm rot="18615000">
              <a:off x="2857680" y="-766440"/>
              <a:ext cx="3765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748600" y="-999360"/>
            <a:ext cx="754200" cy="754200"/>
            <a:chOff x="2748600" y="-999360"/>
            <a:chExt cx="754200" cy="754200"/>
          </a:xfrm>
        </p:grpSpPr>
        <p:sp>
          <p:nvSpPr>
            <p:cNvPr id="67" name="泪滴形 32"/>
            <p:cNvSpPr/>
            <p:nvPr/>
          </p:nvSpPr>
          <p:spPr>
            <a:xfrm rot="18900000">
              <a:off x="2858760" y="-888480"/>
              <a:ext cx="533520" cy="53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9"/>
            <p:cNvSpPr/>
            <p:nvPr/>
          </p:nvSpPr>
          <p:spPr>
            <a:xfrm rot="18615000">
              <a:off x="2857680" y="-766440"/>
              <a:ext cx="3765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椭圆 34"/>
          <p:cNvSpPr/>
          <p:nvPr/>
        </p:nvSpPr>
        <p:spPr>
          <a:xfrm>
            <a:off x="2498760" y="4869000"/>
            <a:ext cx="936720" cy="23472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35"/>
          <p:cNvSpPr/>
          <p:nvPr/>
        </p:nvSpPr>
        <p:spPr>
          <a:xfrm>
            <a:off x="1562040" y="4444920"/>
            <a:ext cx="2952720" cy="73836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6"/>
          <p:cNvSpPr/>
          <p:nvPr/>
        </p:nvSpPr>
        <p:spPr>
          <a:xfrm>
            <a:off x="1851120" y="4653000"/>
            <a:ext cx="2663640" cy="66672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7"/>
          <p:cNvSpPr/>
          <p:nvPr/>
        </p:nvSpPr>
        <p:spPr>
          <a:xfrm>
            <a:off x="2209680" y="4589640"/>
            <a:ext cx="1657440" cy="41400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8"/>
          <p:cNvSpPr/>
          <p:nvPr/>
        </p:nvSpPr>
        <p:spPr>
          <a:xfrm>
            <a:off x="1778040" y="4581360"/>
            <a:ext cx="2881440" cy="71928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9"/>
          <p:cNvSpPr/>
          <p:nvPr/>
        </p:nvSpPr>
        <p:spPr>
          <a:xfrm>
            <a:off x="2138400" y="4653000"/>
            <a:ext cx="2016000" cy="50472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40"/>
          <p:cNvSpPr/>
          <p:nvPr/>
        </p:nvSpPr>
        <p:spPr>
          <a:xfrm>
            <a:off x="2044800" y="4724280"/>
            <a:ext cx="1800000" cy="45108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41"/>
          <p:cNvSpPr/>
          <p:nvPr/>
        </p:nvSpPr>
        <p:spPr>
          <a:xfrm>
            <a:off x="1562040" y="4581360"/>
            <a:ext cx="2881440" cy="71928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44"/>
          <p:cNvSpPr/>
          <p:nvPr/>
        </p:nvSpPr>
        <p:spPr>
          <a:xfrm>
            <a:off x="1130400" y="4303800"/>
            <a:ext cx="4537080" cy="113508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45"/>
          <p:cNvSpPr/>
          <p:nvPr/>
        </p:nvSpPr>
        <p:spPr>
          <a:xfrm>
            <a:off x="1851120" y="4448160"/>
            <a:ext cx="3101760" cy="77472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46"/>
          <p:cNvSpPr/>
          <p:nvPr/>
        </p:nvSpPr>
        <p:spPr>
          <a:xfrm>
            <a:off x="1922400" y="4448160"/>
            <a:ext cx="2665440" cy="66672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47"/>
          <p:cNvSpPr/>
          <p:nvPr/>
        </p:nvSpPr>
        <p:spPr>
          <a:xfrm>
            <a:off x="2643120" y="4869000"/>
            <a:ext cx="863640" cy="28872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48"/>
          <p:cNvSpPr/>
          <p:nvPr/>
        </p:nvSpPr>
        <p:spPr>
          <a:xfrm>
            <a:off x="2498760" y="4724280"/>
            <a:ext cx="1511280" cy="57636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49"/>
          <p:cNvSpPr/>
          <p:nvPr/>
        </p:nvSpPr>
        <p:spPr>
          <a:xfrm>
            <a:off x="1994040" y="4508640"/>
            <a:ext cx="2376360" cy="90648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2"/>
          <p:cNvSpPr/>
          <p:nvPr/>
        </p:nvSpPr>
        <p:spPr>
          <a:xfrm>
            <a:off x="0" y="3933720"/>
            <a:ext cx="12179160" cy="29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4" descr=""/>
          <p:cNvPicPr/>
          <p:nvPr/>
        </p:nvPicPr>
        <p:blipFill>
          <a:blip r:embed="rId1"/>
          <a:stretch/>
        </p:blipFill>
        <p:spPr>
          <a:xfrm>
            <a:off x="8764560" y="2781360"/>
            <a:ext cx="1389240" cy="6825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4" descr=""/>
          <p:cNvPicPr/>
          <p:nvPr/>
        </p:nvPicPr>
        <p:blipFill>
          <a:blip r:embed="rId2"/>
          <a:stretch/>
        </p:blipFill>
        <p:spPr>
          <a:xfrm>
            <a:off x="9628200" y="2781360"/>
            <a:ext cx="2317680" cy="11397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56" descr=""/>
          <p:cNvPicPr/>
          <p:nvPr/>
        </p:nvPicPr>
        <p:blipFill>
          <a:blip r:embed="rId3"/>
          <a:stretch/>
        </p:blipFill>
        <p:spPr>
          <a:xfrm rot="20854800">
            <a:off x="7616880" y="3274920"/>
            <a:ext cx="1860480" cy="9162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4" descr=""/>
          <p:cNvPicPr/>
          <p:nvPr/>
        </p:nvPicPr>
        <p:blipFill>
          <a:blip r:embed="rId4"/>
          <a:stretch/>
        </p:blipFill>
        <p:spPr>
          <a:xfrm>
            <a:off x="5305320" y="3238560"/>
            <a:ext cx="1389240" cy="6825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"/>
          <p:cNvPicPr/>
          <p:nvPr/>
        </p:nvPicPr>
        <p:blipFill>
          <a:blip r:embed="rId5"/>
          <a:stretch/>
        </p:blipFill>
        <p:spPr>
          <a:xfrm>
            <a:off x="6323040" y="3252960"/>
            <a:ext cx="2317680" cy="11397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59" descr=""/>
          <p:cNvPicPr/>
          <p:nvPr/>
        </p:nvPicPr>
        <p:blipFill>
          <a:blip r:embed="rId6"/>
          <a:stretch/>
        </p:blipFill>
        <p:spPr>
          <a:xfrm rot="20854800">
            <a:off x="4664160" y="3833640"/>
            <a:ext cx="1860480" cy="9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89000" y="59292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2480" y="993600"/>
            <a:ext cx="23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水动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2.89017E-006 L 0.003 1.01179 E">
                                      <p:cBhvr>
                                        <p:cTn id="6" dur="2000" fill="hold"/>
                                        <p:tgtEl>
                                          <p:spTgt spid="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9167E-006 -2.19653E-006 L 4.79167E-006 1.02035 E">
                                      <p:cBhvr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9167E-006 -3.3526E-006 L 4.79167E-006 1.02775 E">
                                      <p:cBhvr>
                                        <p:cTn id="3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-2.19653E-006 L -0.00416 1.02035 E">
                                      <p:cBhvr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2.42775E-006 L -0.00416 1.04138 E">
                                      <p:cBhvr>
                                        <p:cTn id="9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2.19653E-006 L -0.01015 1.02035 E">
                                      <p:cBhvr>
                                        <p:cTn id="11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.00324 L -0.00416 1.00278 E">
                                      <p:cBhvr>
                                        <p:cTn id="15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2.42775E-006 L -0.00416 1.00994 E">
                                      <p:cBhvr>
                                        <p:cTn id="18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4" dur="6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5320" y="189000"/>
            <a:ext cx="109490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9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9720360" y="333360"/>
            <a:ext cx="18540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B7EB-2860-4AAB-9E48-5FF11344A7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11:56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44:09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