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929-AFFB-421E-AA8D-7ADAB152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FB5-3DCA-431E-858C-5CF77A0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9F3-491D-457E-AFF2-E6F8ADA8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C53-C923-45FC-907D-CCB07EE1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EE8-F2A7-4472-9B3E-1CD21686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82F-4A05-45E9-B331-0B3D499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B0D-5EE1-462E-AA3A-0740F8C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6D5-1478-4EA8-B26A-CC9F83D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7BE-2D20-411C-B2EB-599AAE5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405-82DB-4BE9-AAF2-5FE34138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FAF-B525-4144-AD26-7BE9D83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A9C-4E52-4D06-B743-FEF88E3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1824-36DD-4941-8E57-0522618C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68,13,&#24187;&#28783;&#29255; 13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9,13,&#21313;&#24180;&#26641;&#26408;  &#30334;&#24180;&#26641;&#20154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{666D0D88-ADB4-4A21-BA06-638257A34245}0"/>
          <p:cNvPicPr/>
          <p:nvPr/>
        </p:nvPicPr>
        <p:blipFill>
          <a:blip r:embed="rId1"/>
          <a:srcRect l="0" t="0" r="0" b="9054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322080" y="13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师大版四年级语文上册第一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82840" y="1557360"/>
            <a:ext cx="26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师恩难忘》公开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864f17478b49f250e1f800d0ae3a9aa1"/>
          <p:cNvPicPr/>
          <p:nvPr/>
        </p:nvPicPr>
        <p:blipFill>
          <a:blip r:embed="rId2"/>
          <a:stretch/>
        </p:blipFill>
        <p:spPr>
          <a:xfrm>
            <a:off x="611280" y="765000"/>
            <a:ext cx="4211640" cy="2678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8082111574032"/>
          <p:cNvPicPr/>
          <p:nvPr/>
        </p:nvPicPr>
        <p:blipFill>
          <a:blip r:embed="rId3"/>
          <a:stretch/>
        </p:blipFill>
        <p:spPr>
          <a:xfrm>
            <a:off x="1332000" y="342900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8110b758cb83940c2934f075"/>
          <p:cNvPicPr/>
          <p:nvPr/>
        </p:nvPicPr>
        <p:blipFill>
          <a:blip r:embed="rId4"/>
          <a:stretch/>
        </p:blipFill>
        <p:spPr>
          <a:xfrm>
            <a:off x="4859280" y="1052640"/>
            <a:ext cx="3745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8110b758cb83940c2934f075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597640" y="622800"/>
            <a:ext cx="255744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ff33cc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653-734E-42AF-91BD-51911EBEAD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2c93788af3d71910f2444f0"/>
          <p:cNvPicPr/>
          <p:nvPr/>
        </p:nvPicPr>
        <p:blipFill>
          <a:blip r:embed="rId1"/>
          <a:srcRect l="0" t="0" r="0" b="64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4000" y="2427480"/>
            <a:ext cx="583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刘绍棠，中国当代著名作家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开始就发表作品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成为中国作家协会最年轻的会员，被誉为中国文坛的“神童作家”。长篇小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门脸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北京优秀长篇小说奖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敬柳亭说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首届中国大众文学奖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蒲柳人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全国优秀中篇小说奖。多部中、短篇小说被译成英、法、德、俄、日、西班牙、泰国、孟加拉、阿尔巴尼亚文出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Wa0314280C"/>
          <p:cNvPicPr/>
          <p:nvPr/>
        </p:nvPicPr>
        <p:blipFill>
          <a:blip r:embed="rId2"/>
          <a:stretch/>
        </p:blipFill>
        <p:spPr>
          <a:xfrm>
            <a:off x="6659640" y="765000"/>
            <a:ext cx="1946160" cy="17193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6877080" y="587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8d354654f46895e6b745aefe"/>
          <p:cNvPicPr/>
          <p:nvPr/>
        </p:nvPicPr>
        <p:blipFill>
          <a:blip r:embed="rId1"/>
          <a:srcRect l="0" t="0" r="-81" b="3387"/>
          <a:stretch/>
        </p:blipFill>
        <p:spPr>
          <a:xfrm>
            <a:off x="0" y="0"/>
            <a:ext cx="9468000" cy="6854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十年树木  百年树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11280" y="2122200"/>
            <a:ext cx="8207280" cy="1800360"/>
          </a:xfrm>
          <a:prstGeom prst="rect">
            <a:avLst/>
          </a:prstGeom>
          <a:solidFill>
            <a:srgbClr val="bbe0e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故 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春秋时期政治家管仲任齐国丞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多年，帮助齐桓公在经济、政治、军事等方面进行改革，使齐国成为“春秋五霸”之首。他的人才观是：“一年之计，莫如树谷；十年之计，莫如树木；终身之计，莫如树人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原 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年之计，莫如树谷；十年之计，莫如树木；终身之计，莫如树人。一树一获者，谷也；一树十获者，木也；一树百获者，人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11280" y="5276520"/>
            <a:ext cx="8207280" cy="4269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99"/>
                </a:solidFill>
                <a:latin typeface="黑体"/>
                <a:ea typeface="黑体"/>
              </a:rPr>
              <a:t>从小树到苍天大树，需要十年时间，而培养一个人才，则需要百年时间。比喻培养人才是长久之计，也比喻培养人才很不容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774072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AGCG48KA1I4JDI406"/>
          <p:cNvPicPr/>
          <p:nvPr/>
        </p:nvPicPr>
        <p:blipFill>
          <a:blip r:embed="rId1"/>
          <a:srcRect l="0" t="0" r="247" b="313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437480" y="-235080"/>
            <a:ext cx="34174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的作者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恩难忘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AGCG48KA1I4JDI406"/>
          <p:cNvPicPr/>
          <p:nvPr/>
        </p:nvPicPr>
        <p:blipFill>
          <a:blip r:embed="rId1"/>
          <a:srcRect l="0" t="0" r="247" b="313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2043000" y="2975040"/>
            <a:ext cx="511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因为田老师给小时候的作者讲了上千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故事，在作者的心田播下了文学的种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以作者永远忘不了这份恩情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37480" y="-235080"/>
            <a:ext cx="34174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的作者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恩难忘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672880" y="1073160"/>
            <a:ext cx="109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刘绍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0" y="17733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哪些词语说了田老师的故事讲得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11880" y="522936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娓娓动听、身临其境、引人入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1d4fc9a394f6f90c8eaf41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381400" y="1165320"/>
            <a:ext cx="46792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99"/>
                </a:solidFill>
                <a:uFillTx/>
                <a:latin typeface="Arial"/>
              </a:rPr>
              <a:t>过关测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十年树木，百年树人”赞颂了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971640" y="3789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还能说出赞颂老师的名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24000" y="4724280"/>
            <a:ext cx="84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老师像蜡烛，燃烧了自己，照亮了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春蚕到死丝方尽，蜡炬成灰泪始干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10526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宋体"/>
              </a:rPr>
              <a:t>过关测试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6.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谈起往事，我深深感念他在我那幼小的心田上，播下文学的种子。”谈谈你对这句话的理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{666D0D88-ADB4-4A21-BA06-638257A34245}0"/>
          <p:cNvPicPr/>
          <p:nvPr/>
        </p:nvPicPr>
        <p:blipFill>
          <a:blip r:embed="rId1"/>
          <a:srcRect l="0" t="0" r="0" b="90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3780000" y="981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田老师上课时讲的上千个生动的故事，在作者的心田上播下了文学的种子，促进作者成了作家，所以作者永远忘不了老师的恩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380600" y="157320"/>
            <a:ext cx="3563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过关测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中心思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图片7"/>
          <p:cNvPicPr/>
          <p:nvPr/>
        </p:nvPicPr>
        <p:blipFill>
          <a:blip r:embed="rId1"/>
          <a:stretch/>
        </p:blipFill>
        <p:spPr>
          <a:xfrm>
            <a:off x="6443640" y="620640"/>
            <a:ext cx="2165400" cy="2376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971640" y="3141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通过作者回忆童年时田老师上课时讲故事的情景，抒发了作者深深的感激和怀念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2916360" y="1773360"/>
            <a:ext cx="5616360" cy="2663640"/>
          </a:xfrm>
          <a:prstGeom prst="cloudCallout">
            <a:avLst>
              <a:gd name="adj1" fmla="val -63791"/>
              <a:gd name="adj2" fmla="val 14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916000" y="2133720"/>
            <a:ext cx="590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学了这篇课文，你有什么想对你的老师说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图片5"/>
          <p:cNvPicPr/>
          <p:nvPr/>
        </p:nvPicPr>
        <p:blipFill>
          <a:blip r:embed="rId1"/>
          <a:stretch/>
        </p:blipFill>
        <p:spPr>
          <a:xfrm>
            <a:off x="395280" y="333360"/>
            <a:ext cx="1474920" cy="12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复件 小女孩"/>
          <p:cNvPicPr/>
          <p:nvPr/>
        </p:nvPicPr>
        <p:blipFill>
          <a:blip r:embed="rId2"/>
          <a:stretch/>
        </p:blipFill>
        <p:spPr>
          <a:xfrm>
            <a:off x="539640" y="2133720"/>
            <a:ext cx="2571840" cy="4287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图片4"/>
          <p:cNvPicPr/>
          <p:nvPr/>
        </p:nvPicPr>
        <p:blipFill>
          <a:blip r:embed="rId3"/>
          <a:stretch/>
        </p:blipFill>
        <p:spPr>
          <a:xfrm>
            <a:off x="3132000" y="404640"/>
            <a:ext cx="3527640" cy="878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03-01-01T05:25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08:0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