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100-B623-4584-BFDD-B33F06F1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BA4-B472-46C7-BE17-00295E49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F13-F68B-4AA4-A5CA-DB903E04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DA6-6E9D-4E2A-A236-7A44CB87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3FB-40C3-4E42-A743-D172C02B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258-B42C-4A01-BD39-0E1A5E84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BC2-A16B-4BEC-B8D9-DE073E90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3DA-403E-402E-8A09-8816303F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909-482C-458C-B345-579E582E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A6F-2829-453E-BA63-38BC55E1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FCE-4E55-4961-916B-0333AB6F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AC4-3B8B-4B9F-A2E5-18C7B57F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D5DF-95B1-4F3F-8B95-09B47493E8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050F-5632-4E0C-B252-7EEA474CA0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8560" y="1390680"/>
            <a:ext cx="19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商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2324160" y="1995480"/>
            <a:ext cx="4495680" cy="719280"/>
            <a:chOff x="2324160" y="1995480"/>
            <a:chExt cx="4495680" cy="719280"/>
          </a:xfrm>
        </p:grpSpPr>
        <p:sp>
          <p:nvSpPr>
            <p:cNvPr id="46" name="圆角矩形 5"/>
            <p:cNvSpPr/>
            <p:nvPr/>
          </p:nvSpPr>
          <p:spPr>
            <a:xfrm>
              <a:off x="2324160" y="2052720"/>
              <a:ext cx="4495680" cy="6044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标题 1"/>
            <p:cNvSpPr/>
            <p:nvPr/>
          </p:nvSpPr>
          <p:spPr>
            <a:xfrm>
              <a:off x="3126960" y="1995480"/>
              <a:ext cx="2890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2324160" y="2967120"/>
            <a:ext cx="4495680" cy="718920"/>
            <a:chOff x="2324160" y="2967120"/>
            <a:chExt cx="4495680" cy="718920"/>
          </a:xfrm>
        </p:grpSpPr>
        <p:sp>
          <p:nvSpPr>
            <p:cNvPr id="49" name="圆角矩形 8"/>
            <p:cNvSpPr/>
            <p:nvPr/>
          </p:nvSpPr>
          <p:spPr>
            <a:xfrm>
              <a:off x="2324160" y="3024360"/>
              <a:ext cx="4495680" cy="60408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标题 1"/>
            <p:cNvSpPr/>
            <p:nvPr/>
          </p:nvSpPr>
          <p:spPr>
            <a:xfrm>
              <a:off x="3126960" y="2967120"/>
              <a:ext cx="28900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9"/>
          <p:cNvGrpSpPr/>
          <p:nvPr/>
        </p:nvGrpSpPr>
        <p:grpSpPr>
          <a:xfrm>
            <a:off x="2324160" y="3940200"/>
            <a:ext cx="4495680" cy="717480"/>
            <a:chOff x="2324160" y="3940200"/>
            <a:chExt cx="4495680" cy="717480"/>
          </a:xfrm>
        </p:grpSpPr>
        <p:sp>
          <p:nvSpPr>
            <p:cNvPr id="52" name="圆角矩形 11"/>
            <p:cNvSpPr/>
            <p:nvPr/>
          </p:nvSpPr>
          <p:spPr>
            <a:xfrm>
              <a:off x="2324160" y="3997440"/>
              <a:ext cx="4495680" cy="6026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标题 1"/>
            <p:cNvSpPr/>
            <p:nvPr/>
          </p:nvSpPr>
          <p:spPr>
            <a:xfrm>
              <a:off x="3126960" y="3940200"/>
              <a:ext cx="28900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B40-75C1-4DA8-AABD-D52B2E0CA8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79"/>
          <p:cNvSpPr/>
          <p:nvPr/>
        </p:nvSpPr>
        <p:spPr>
          <a:xfrm>
            <a:off x="1825560" y="3484440"/>
            <a:ext cx="678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241200" y="2647800"/>
            <a:ext cx="866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     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（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www.1ppt.com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），成立于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2005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年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5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月，最早网站名为 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中国  是国内最早一批从事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模板下载服务的专业网站，经过多年的运营和发展，原网站技术架构和网站目录已经不能适应新的发展趋势，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2012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年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6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月进行改版，并更名为第一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 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，取消了网站内收费项目，目前第一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站内所有资源均为免费下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     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建设目的：是为广大中国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owerPoin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爱好者，提供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owerPoin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模板下载、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owerPoin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教程、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owerPoin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素材等，建设中国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爱好者的网上家园，立志成为最大最权威的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中文网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标题 1"/>
          <p:cNvSpPr/>
          <p:nvPr/>
        </p:nvSpPr>
        <p:spPr>
          <a:xfrm>
            <a:off x="2459160" y="1994040"/>
            <a:ext cx="3786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1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47:2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