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4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521-C6B9-418E-9215-F1E4ECDA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324-0219-49EB-BBCB-0805019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698-61F0-49D5-A922-57C6992F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407-2984-4668-B65E-685A7BED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281-55DD-45F9-A8BA-B859F9B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A26-914B-4EC2-B342-10F1808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5E3-09BA-4AA7-ABA2-884227E1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4BC-0AA6-431F-B19F-1E10E18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067-35E6-4811-AF88-F8B895BB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968-BD86-4B79-9DD0-8637513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C15-0C45-4491-A671-FA8C142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0C2-81D7-41EE-B73B-8DD2D93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53E-25D0-4B56-93A2-509B3794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2130120"/>
            <a:ext cx="4952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包怡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6880" y="1523880"/>
            <a:ext cx="28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数星星的孩子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80920" y="27432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爷爷还教孩子认识北极星、织女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发现了北斗星围绕着北极星在移动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14600" y="1904760"/>
            <a:ext cx="41911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从小张衡身上你学到了什么？在学习上和生活上要怎样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完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星星的孩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我知道了因为张衡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ff00"/>
                </a:solidFill>
                <a:latin typeface="Arial"/>
              </a:rPr>
              <a:t>课堂作业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你想向星星提问吗？请写下来在写话本上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0E0-ABCD-49AE-AAEF-95516EEB3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33920" y="12189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打一物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点点银花天上开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白天不开晚上开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要问银花有多少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没人能够数出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美丽的星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IF000"/>
          <p:cNvPicPr/>
          <p:nvPr/>
        </p:nvPicPr>
        <p:blipFill>
          <a:blip r:embed="rId2"/>
          <a:stretch/>
        </p:blipFill>
        <p:spPr>
          <a:xfrm>
            <a:off x="3886200" y="4572000"/>
            <a:ext cx="115236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64771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晚上，满天的星星像无数颗珍珠撒在碧玉盘里。  一个孩子跟爷爷坐在院子里，仰着头，一颗一颗数星星，一直数到几百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7652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722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3657600" y="2362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2895480"/>
            <a:ext cx="6019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2209320"/>
            <a:ext cx="617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最喜欢的句子读两遍。想一想为什么喜欢读这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）天空中有无数颗星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）满天的星星像无数珍珠撒在碧玉盘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爷爷说：“星星那么多，一闪一闪的，你能数得清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说：“能看见，就应当能数得清。我怕数重了，所以数得很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爷爷说：“我们的祖先把星星分成一组一组的，给它们起了名字。要是一组一组地数，就不容易数重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对话里，你看出张衡是个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7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53:1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