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8B3-084E-4109-8C9A-85E9D460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791-9362-4F76-88D1-47E52149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2D3-890D-401E-8B23-17B0EF9A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F52-12ED-47ED-9381-1BD88D6F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0DB3-AF9C-4506-85D2-91D33E60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48E-0C0C-4953-80F5-61BEB188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5AA-1E37-46E2-AD95-5C1D1146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E9E-002A-4991-B5F3-F79D154D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205-5F7E-429C-A826-C10A107A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71A-940B-46EC-A41D-FBA5106F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43C-0620-4C0C-B3E5-BF2FBDDE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D970-BB71-433E-847B-616F5620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231C-02D3-4645-8D2A-8F8421C42C2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C2F7-2439-4AA1-9284-B58D1BEED8E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E:\PPT背景\03.png"/>
          <p:cNvPicPr/>
          <p:nvPr/>
        </p:nvPicPr>
        <p:blipFill>
          <a:blip r:embed="rId2"/>
          <a:stretch/>
        </p:blipFill>
        <p:spPr>
          <a:xfrm>
            <a:off x="0" y="2328840"/>
            <a:ext cx="9144000" cy="36504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8"/>
          <p:cNvGrpSpPr/>
          <p:nvPr/>
        </p:nvGrpSpPr>
        <p:grpSpPr>
          <a:xfrm>
            <a:off x="136800" y="1571760"/>
            <a:ext cx="8594640" cy="3762000"/>
            <a:chOff x="136800" y="1571760"/>
            <a:chExt cx="8594640" cy="3762000"/>
          </a:xfrm>
        </p:grpSpPr>
        <p:pic>
          <p:nvPicPr>
            <p:cNvPr id="45" name="Picture 5" descr="E:\PPT背景\05.png"/>
            <p:cNvPicPr/>
            <p:nvPr/>
          </p:nvPicPr>
          <p:blipFill>
            <a:blip r:embed="rId3"/>
            <a:stretch/>
          </p:blipFill>
          <p:spPr>
            <a:xfrm rot="1516800">
              <a:off x="684000" y="1910160"/>
              <a:ext cx="2274840" cy="30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5" descr="E:\PPT背景\05.png"/>
            <p:cNvPicPr/>
            <p:nvPr/>
          </p:nvPicPr>
          <p:blipFill>
            <a:blip r:embed="rId4"/>
            <a:stretch/>
          </p:blipFill>
          <p:spPr>
            <a:xfrm rot="21018600">
              <a:off x="3379680" y="2089800"/>
              <a:ext cx="2274840" cy="30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5" descr="E:\PPT背景\05.png"/>
            <p:cNvPicPr/>
            <p:nvPr/>
          </p:nvPicPr>
          <p:blipFill>
            <a:blip r:embed="rId5"/>
            <a:stretch/>
          </p:blipFill>
          <p:spPr>
            <a:xfrm rot="841800">
              <a:off x="6117840" y="1898640"/>
              <a:ext cx="2274840" cy="307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TextBox 22"/>
          <p:cNvSpPr/>
          <p:nvPr/>
        </p:nvSpPr>
        <p:spPr>
          <a:xfrm rot="1137000">
            <a:off x="6429960" y="2962440"/>
            <a:ext cx="18147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或者通过复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3"/>
          <p:cNvSpPr/>
          <p:nvPr/>
        </p:nvSpPr>
        <p:spPr>
          <a:xfrm rot="1496400">
            <a:off x="953640" y="2940480"/>
            <a:ext cx="1814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或者通过复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4"/>
          <p:cNvSpPr/>
          <p:nvPr/>
        </p:nvSpPr>
        <p:spPr>
          <a:xfrm rot="21091200">
            <a:off x="3609360" y="3222720"/>
            <a:ext cx="1814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或者通过复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5"/>
          <p:cNvSpPr/>
          <p:nvPr/>
        </p:nvSpPr>
        <p:spPr>
          <a:xfrm rot="21091200">
            <a:off x="4094280" y="3889440"/>
            <a:ext cx="1438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或者通过复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6"/>
          <p:cNvSpPr/>
          <p:nvPr/>
        </p:nvSpPr>
        <p:spPr>
          <a:xfrm rot="1214400">
            <a:off x="6551640" y="3711600"/>
            <a:ext cx="1438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或者通过复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7"/>
          <p:cNvSpPr/>
          <p:nvPr/>
        </p:nvSpPr>
        <p:spPr>
          <a:xfrm rot="1496400">
            <a:off x="992880" y="3668040"/>
            <a:ext cx="1438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或者通过复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31760" y="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文本框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B19-F7B2-4312-8934-636D2722A5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36:22Z</dcterms:modified>
  <cp:revision>9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