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93A-6FC5-48CE-9F9E-97E64862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6FE-C261-4C7F-B272-05C125FB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A55-8F0E-4861-8B1D-A395E0DB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C94-63E0-4342-AF25-B6C01EAD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D072-106A-4F54-ABFF-FFE0EC4B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EC0B-CCB6-4A31-9D8C-080312B5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782C-29A9-40EF-8EAC-C2629072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D553-8FE3-406D-9D3E-2CF979BA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A1C0-C8BF-4E5D-BD48-5584D1C6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517B-85CA-4E7E-96C2-E17BAD57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96BB-9C09-4F06-8FC3-62912655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7A2-5514-4B62-80E1-DD9BAFCA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19C7-BD93-4AF5-8C5B-2608D850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5A6A-42C1-4251-8235-B74BB10D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5250-3930-4D7B-8561-BF814558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37DB-41DB-43DC-9CE5-00A9533B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5D67-EB61-441C-B1D1-FDD15CDE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2AF-F154-4602-972D-CDD0B7C6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F57-2DE8-4CE4-91B1-D6DA93B4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B65-1528-4D4D-95D8-FCC76624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C07-6E2C-49A5-AC9F-EC4800F2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084-6CCC-44D6-B054-F7F38B1B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1255-3775-4F9B-8395-D5C79116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B059-DF8C-43AD-AFAA-CA17D255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233D-9F4B-4289-8619-32130B424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FE67-7CBB-4458-8776-EC74ED572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4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9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8" descr="Q"/>
          <p:cNvPicPr/>
          <p:nvPr/>
        </p:nvPicPr>
        <p:blipFill>
          <a:blip r:embed="rId1"/>
          <a:stretch/>
        </p:blipFill>
        <p:spPr>
          <a:xfrm>
            <a:off x="-299880" y="-223920"/>
            <a:ext cx="9748800" cy="731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1"/>
          <p:cNvPicPr/>
          <p:nvPr/>
        </p:nvPicPr>
        <p:blipFill>
          <a:blip r:embed="rId2"/>
          <a:stretch/>
        </p:blipFill>
        <p:spPr>
          <a:xfrm>
            <a:off x="-324000" y="-961920"/>
            <a:ext cx="15908400" cy="11931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汽泡"/>
          <p:cNvPicPr/>
          <p:nvPr/>
        </p:nvPicPr>
        <p:blipFill>
          <a:blip r:embed="rId3"/>
          <a:stretch/>
        </p:blipFill>
        <p:spPr>
          <a:xfrm>
            <a:off x="6659640" y="8469360"/>
            <a:ext cx="501480" cy="515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汽泡"/>
          <p:cNvPicPr/>
          <p:nvPr/>
        </p:nvPicPr>
        <p:blipFill>
          <a:blip r:embed="rId4"/>
          <a:stretch/>
        </p:blipFill>
        <p:spPr>
          <a:xfrm>
            <a:off x="7667640" y="7893000"/>
            <a:ext cx="1050840" cy="10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汽泡"/>
          <p:cNvPicPr/>
          <p:nvPr/>
        </p:nvPicPr>
        <p:blipFill>
          <a:blip r:embed="rId5"/>
          <a:stretch/>
        </p:blipFill>
        <p:spPr>
          <a:xfrm>
            <a:off x="4643280" y="7605720"/>
            <a:ext cx="560520" cy="57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汽泡"/>
          <p:cNvPicPr/>
          <p:nvPr/>
        </p:nvPicPr>
        <p:blipFill>
          <a:blip r:embed="rId6"/>
          <a:stretch/>
        </p:blipFill>
        <p:spPr>
          <a:xfrm>
            <a:off x="5148360" y="7893000"/>
            <a:ext cx="98100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4" descr="汽泡"/>
          <p:cNvPicPr/>
          <p:nvPr/>
        </p:nvPicPr>
        <p:blipFill>
          <a:blip r:embed="rId7"/>
          <a:stretch/>
        </p:blipFill>
        <p:spPr>
          <a:xfrm>
            <a:off x="4359240" y="861372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5" descr="汽泡"/>
          <p:cNvPicPr/>
          <p:nvPr/>
        </p:nvPicPr>
        <p:blipFill>
          <a:blip r:embed="rId8"/>
          <a:stretch/>
        </p:blipFill>
        <p:spPr>
          <a:xfrm>
            <a:off x="3416400" y="8182080"/>
            <a:ext cx="420480" cy="43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6" descr="汽泡"/>
          <p:cNvPicPr/>
          <p:nvPr/>
        </p:nvPicPr>
        <p:blipFill>
          <a:blip r:embed="rId9"/>
          <a:stretch/>
        </p:blipFill>
        <p:spPr>
          <a:xfrm>
            <a:off x="2484360" y="825336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汽泡"/>
          <p:cNvPicPr/>
          <p:nvPr/>
        </p:nvPicPr>
        <p:blipFill>
          <a:blip r:embed="rId10"/>
          <a:stretch/>
        </p:blipFill>
        <p:spPr>
          <a:xfrm>
            <a:off x="1692360" y="7677000"/>
            <a:ext cx="772920" cy="79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汽泡"/>
          <p:cNvPicPr/>
          <p:nvPr/>
        </p:nvPicPr>
        <p:blipFill>
          <a:blip r:embed="rId11"/>
          <a:stretch/>
        </p:blipFill>
        <p:spPr>
          <a:xfrm>
            <a:off x="1692360" y="8613720"/>
            <a:ext cx="420480" cy="43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9" descr="汽泡"/>
          <p:cNvPicPr/>
          <p:nvPr/>
        </p:nvPicPr>
        <p:blipFill>
          <a:blip r:embed="rId12"/>
          <a:stretch/>
        </p:blipFill>
        <p:spPr>
          <a:xfrm>
            <a:off x="3851280" y="782172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0" descr="汽泡"/>
          <p:cNvPicPr/>
          <p:nvPr/>
        </p:nvPicPr>
        <p:blipFill>
          <a:blip r:embed="rId13"/>
          <a:stretch/>
        </p:blipFill>
        <p:spPr>
          <a:xfrm>
            <a:off x="6659640" y="789300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1" descr="汽泡"/>
          <p:cNvPicPr/>
          <p:nvPr/>
        </p:nvPicPr>
        <p:blipFill>
          <a:blip r:embed="rId14"/>
          <a:stretch/>
        </p:blipFill>
        <p:spPr>
          <a:xfrm>
            <a:off x="3059280" y="7966080"/>
            <a:ext cx="139680" cy="142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2" descr="汽泡"/>
          <p:cNvPicPr/>
          <p:nvPr/>
        </p:nvPicPr>
        <p:blipFill>
          <a:blip r:embed="rId15"/>
          <a:stretch/>
        </p:blipFill>
        <p:spPr>
          <a:xfrm>
            <a:off x="468360" y="7821720"/>
            <a:ext cx="631800" cy="64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3" descr="汽泡"/>
          <p:cNvPicPr/>
          <p:nvPr/>
        </p:nvPicPr>
        <p:blipFill>
          <a:blip r:embed="rId16"/>
          <a:stretch/>
        </p:blipFill>
        <p:spPr>
          <a:xfrm>
            <a:off x="7236000" y="825336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5" descr="551_07"/>
          <p:cNvPicPr/>
          <p:nvPr/>
        </p:nvPicPr>
        <p:blipFill>
          <a:blip r:embed="rId17"/>
          <a:stretch/>
        </p:blipFill>
        <p:spPr>
          <a:xfrm>
            <a:off x="7740720" y="0"/>
            <a:ext cx="1123920" cy="115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551_11"/>
          <p:cNvPicPr/>
          <p:nvPr/>
        </p:nvPicPr>
        <p:blipFill>
          <a:blip r:embed="rId18"/>
          <a:stretch/>
        </p:blipFill>
        <p:spPr>
          <a:xfrm>
            <a:off x="-1184400" y="7242120"/>
            <a:ext cx="943200" cy="86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2" descr="汽泡"/>
          <p:cNvPicPr/>
          <p:nvPr/>
        </p:nvPicPr>
        <p:blipFill>
          <a:blip r:embed="rId19"/>
          <a:stretch/>
        </p:blipFill>
        <p:spPr>
          <a:xfrm>
            <a:off x="5580000" y="861372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4" descr="551_03"/>
          <p:cNvPicPr/>
          <p:nvPr/>
        </p:nvPicPr>
        <p:blipFill>
          <a:blip r:embed="rId20"/>
          <a:stretch/>
        </p:blipFill>
        <p:spPr>
          <a:xfrm>
            <a:off x="0" y="260280"/>
            <a:ext cx="857160" cy="1162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197080" y="4365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47320" y="299736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唯美动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-0.34653 -0.00116 E">
                                      <p:cBhvr>
                                        <p:cTn id="6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018334 -0.000101 C -0.015571 -0.034326 -0.049233 -0.0682 -0.051788 -0.11216 C -0.054342 -0.155762 -0.029493 -0.200439 0.003474 -0.263142 C 0.036441 -0.325845 0.111898 -0.411961 0.145573 -0.487631 C 0.179236 -0.563659 0.188985 -0.64006 0.205008 -0.718252 C 0.22103 -0.796444 0.23427 -0.906346 0.241933 -0.956082 E">
                                      <p:cBhvr>
                                        <p:cTn id="8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21988 -0.000114 C -0.013619 -0.034482 -0.048969 -0.068491 -0.051651 -0.112627 C -0.054334 -0.156763 -0.00338 -0.22117 0.006379 -0.264212 C 0.016127 -0.307269 -0.006555 -0.333307 0.007588 -0.370223 C 0.021731 -0.407123 0.074158 -0.416531 0.091221 -0.485627 C 0.1083 -0.554722 0.105856 -0.722233 0.109508 -0.784451 E">
                                      <p:cBhvr>
                                        <p:cTn id="10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E-006 -1.8E-005 C 0.00139 -0.014071 0.00538 -0.062151 0.00868 -0.084586 C 0.01198 -0.107021 0.02118 -0.114912 0.01979 -0.134137 C 0.0184 -0.153363 0.00191 -0.181716 0.00086 -0.19947 C -0.00018 -0.217224 0.00555 -0.218205 0.01354 -0.240149 C 0.02152 -0.262094 0.04566 -0.298828 0.0493 -0.331372 C 0.05295 -0.363915 0.03854 -0.414213 0.03576 -0.436157 E">
                                      <p:cBhvr>
                                        <p:cTn id="12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5053 -0.000178 C -0.022648 -0.036053 -0.047955 -0.083123 -0.05217 -0.117661 C -0.056385 -0.151733 -0.025961 -0.174164 -0.021746 -0.205098 C -0.017531 -0.236033 -0.033194 -0.270105 -0.026863 -0.301504 C -0.020844 -0.33333 -0.009396 -0.372787 0.016501 -0.394307 C 0.042398 -0.415828 0.105327 -0.422569 0.128518 -0.429736 E">
                                      <p:cBhvr>
                                        <p:cTn id="14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4.07407E-006 C 0.00521 -0.03496 0.00208 -0.06899 0.01094 -0.10533 C 0.01979 -0.14167 0.05312 -0.16505 0.0533 -0.2176 C 0.05347 -0.27014 0.02031 -0.37824 0.01163 -0.42037 E">
                                      <p:cBhvr>
                                        <p:cTn id="16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66667E-006 2.22045E-016 C 0.00382 -0.03191 0.01476 -0.04647 1.66667E-006 -0.08254 C -0.01476 -0.11861 -0.07031 -0.18913 -0.08889 -0.21711 E">
                                      <p:cBhvr>
                                        <p:cTn id="18" dur="3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3.64162E-006 C -0.01615 -0.02289 -0.03229 -0.04578 -0.03334 -0.07398 C -0.03438 -0.10219 -0.00469 -0.13179 -0.00625 -0.16924 C -0.00782 -0.2067 -0.03889 -0.25687 -0.04271 -0.29826 C -0.04653 -0.33965 -0.03212 -0.39329 -0.02934 -0.41826 E">
                                      <p:cBhvr>
                                        <p:cTn id="20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3.33333E-006 C -0.04896 -0.05185 -0.09809 -0.10324 -0.11025 -0.14629 C -0.1224 -0.18935 -0.06459 -0.21805 -0.07361 -0.25833 C -0.08247 -0.29838 -0.14202 -0.34259 -0.16337 -0.38773 C -0.18473 -0.43287 -0.1941 -0.50023 -0.20226 -0.52986 E">
                                      <p:cBhvr>
                                        <p:cTn id="22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88889E-006 -1.48148E-006 C 0.0007 -0.02083 0.00139 -0.0412 0.01285 -0.0743 C 0.02431 -0.10717 0.05018 -0.1618 0.06841 -0.19907 C 0.08664 -0.23611 0.12466 -0.25208 0.12223 -0.29653 C 0.1198 -0.34097 0.06806 -0.43032 0.05382 -0.46551 E">
                                      <p:cBhvr>
                                        <p:cTn id="24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1E-005 -0.000123 C 0.000209 -0.151289 0.000402 -0.30248 0.024383 -0.371135 C 0.048172 -0.439284 0.130736 -0.347722 0.143123 -0.41161 C 0.155702 -0.475475 0.108328 -0.660718 0.099474 -0.75228 C 0.090631 -0.843843 0.091809 -0.91731 0.08985 -0.960431 E">
                                      <p:cBhvr>
                                        <p:cTn id="26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408 -0.000296 C -0.003761 -0.160519 0.000267 -0.350182 -0.015803 -0.455226 C -0.031855 -0.560309 -0.072339 -0.563847 -0.096752 -0.633312 C -0.121166 -0.70274 -0.149279 -0.799821 -0.162324 -0.870133 C -0.175369 -0.940482 -0.170686 -1.004601 -0.174694 -1.057104 C -0.178702 -1.109646 -0.184405 -1.159495 -0.186737 -1.186226 E">
                                      <p:cBhvr>
                                        <p:cTn id="28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-0.016667 -0.04463 -0.038194 -0.070278 -0.033333 -0.11213 C -0.028472 -0.153981 0.025347 -0.196944 0.028819 -0.250648 C 0.032292 -0.304259 -0.117153 -0.731019 -0.125694 -0.769444 E">
                                      <p:cBhvr>
                                        <p:cTn id="30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13264 -0.004537 C -0.012083 -0.026574 -0.040417 -0.053889 -0.039167 -0.076574 C -0.037986 -0.099259 0.007153 -0.119167 0.020903 -0.140926 C 0.034583 -0.162685 0.038958 -0.186296 0.043125 -0.206389 C 0.047292 -0.226574 0.055972 -0.211018 0.046458 -0.261481 C 0.029445 -0.303333 -0.04118 -0.402407 -0.055764 -0.512778 C -0.070347 -0.623148 -0.043611 -0.85537 -0.04118 -0.923889 E">
                                      <p:cBhvr>
                                        <p:cTn id="32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8925 -0.000176 C 0.006731 -0.116373 -0.033167 -0.225462 -0.001203 -0.330034 C 0.030748 -0.434605 0.167833 -0.541742 0.20066 -0.628885 C 0.2335 -0.716028 0.174218 -0.752837 0.19538 -0.853532 C 0.216528 -0.954227 0.300056 -1.154335 0.327602 -1.233084 E">
                                      <p:cBhvr>
                                        <p:cTn id="34" dur="3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.55556E-007 -3.58382E-006 C -0.03125 0.03538 -0.06233 0.07098 -0.09062 0.07168 C -0.11892 0.07237 -0.1342 0.00093 -0.16996 0.00416 C -0.20573 0.0074 -0.28264 0.07653 -0.30486 0.09087 E">
                                      <p:cBhvr>
                                        <p:cTn id="3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22222E-006 -2.96296E-006 C 0.01753 -0.04629 0.03524 -0.09236 0.0618 -0.12037 C 0.08837 -0.14861 0.13646 -0.13518 0.16007 -0.16898 C 0.18385 -0.20277 0.17361 -0.27754 0.20451 -0.32338 C 0.23541 -0.36921 0.3158 -0.41898 0.34514 -0.44421 E">
                                      <p:cBhvr>
                                        <p:cTn id="3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6.38889E-006 -2.60116E-006 C 0.0276 0.00578 0.0552 0.0118 0.08246 0.00417 C 0.10971 -0.00346 0.13315 -0.04231 0.16336 -0.04647 C 0.19357 -0.05063 0.22586 -0.03075 0.26336 -0.02127 C 0.30086 -0.01179 0.34478 -0.00069 0.38888 0.01041 E">
                                      <p:cBhvr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106" name="Freeform 28"/>
            <p:cNvSpPr/>
            <p:nvPr/>
          </p:nvSpPr>
          <p:spPr>
            <a:xfrm>
              <a:off x="5652360" y="3098880"/>
              <a:ext cx="1353240" cy="1118520"/>
            </a:xfrm>
            <a:prstGeom prst="pi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5599bb"/>
                </a:gs>
              </a:gsLst>
              <a:lin ang="5400000"/>
            </a:gradFill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9"/>
            <p:cNvSpPr/>
            <p:nvPr/>
          </p:nvSpPr>
          <p:spPr>
            <a:xfrm>
              <a:off x="6557760" y="4497480"/>
              <a:ext cx="1322640" cy="1123560"/>
            </a:xfrm>
            <a:prstGeom prst="pie">
              <a:avLst/>
            </a:prstGeom>
            <a:gradFill rotWithShape="0">
              <a:gsLst>
                <a:gs pos="0">
                  <a:srgbClr val="657788"/>
                </a:gs>
                <a:gs pos="100000">
                  <a:srgbClr val="001d3a"/>
                </a:gs>
              </a:gsLst>
              <a:lin ang="5400000"/>
            </a:gradFill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0"/>
            <p:cNvSpPr/>
            <p:nvPr/>
          </p:nvSpPr>
          <p:spPr>
            <a:xfrm>
              <a:off x="5495760" y="4088520"/>
              <a:ext cx="1191240" cy="1336320"/>
            </a:xfrm>
            <a:prstGeom prst="pie">
              <a:avLst/>
            </a:prstGeom>
            <a:gradFill rotWithShape="0">
              <a:gsLst>
                <a:gs pos="0">
                  <a:srgbClr val="3f7fbf"/>
                </a:gs>
                <a:gs pos="100000">
                  <a:srgbClr val="aac6e3"/>
                </a:gs>
              </a:gsLst>
              <a:lin ang="5400000"/>
            </a:gradFill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1"/>
            <p:cNvSpPr/>
            <p:nvPr/>
          </p:nvSpPr>
          <p:spPr>
            <a:xfrm>
              <a:off x="6886800" y="3274920"/>
              <a:ext cx="1207440" cy="1324080"/>
            </a:xfrm>
            <a:prstGeom prst="pie">
              <a:avLst/>
            </a:prstGeom>
            <a:gradFill rotWithShape="0">
              <a:gsLst>
                <a:gs pos="0">
                  <a:srgbClr val="557799"/>
                </a:gs>
                <a:gs pos="100000">
                  <a:srgbClr val="003366"/>
                </a:gs>
              </a:gsLst>
              <a:lin ang="5400000"/>
            </a:gradFill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39640" y="270972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1d3a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BBE-DBD9-46EF-8825-156D15609A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Q"/>
          <p:cNvPicPr/>
          <p:nvPr/>
        </p:nvPicPr>
        <p:blipFill>
          <a:blip r:embed="rId1"/>
          <a:stretch/>
        </p:blipFill>
        <p:spPr>
          <a:xfrm>
            <a:off x="-299880" y="-223920"/>
            <a:ext cx="9748800" cy="731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1"/>
          <p:cNvPicPr/>
          <p:nvPr/>
        </p:nvPicPr>
        <p:blipFill>
          <a:blip r:embed="rId2"/>
          <a:srcRect l="5296" t="5523" r="16407" b="16099"/>
          <a:stretch/>
        </p:blipFill>
        <p:spPr>
          <a:xfrm>
            <a:off x="-343080" y="-264960"/>
            <a:ext cx="9806040" cy="7360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汽泡"/>
          <p:cNvPicPr/>
          <p:nvPr/>
        </p:nvPicPr>
        <p:blipFill>
          <a:blip r:embed="rId3"/>
          <a:stretch/>
        </p:blipFill>
        <p:spPr>
          <a:xfrm>
            <a:off x="6515280" y="6308640"/>
            <a:ext cx="501480" cy="515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汽泡"/>
          <p:cNvPicPr/>
          <p:nvPr/>
        </p:nvPicPr>
        <p:blipFill>
          <a:blip r:embed="rId4"/>
          <a:stretch/>
        </p:blipFill>
        <p:spPr>
          <a:xfrm>
            <a:off x="7913520" y="5229360"/>
            <a:ext cx="1051200" cy="108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汽泡"/>
          <p:cNvPicPr/>
          <p:nvPr/>
        </p:nvPicPr>
        <p:blipFill>
          <a:blip r:embed="rId5"/>
          <a:stretch/>
        </p:blipFill>
        <p:spPr>
          <a:xfrm>
            <a:off x="5003640" y="4724280"/>
            <a:ext cx="560520" cy="57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汽泡"/>
          <p:cNvPicPr/>
          <p:nvPr/>
        </p:nvPicPr>
        <p:blipFill>
          <a:blip r:embed="rId6"/>
          <a:stretch/>
        </p:blipFill>
        <p:spPr>
          <a:xfrm>
            <a:off x="5003640" y="5732640"/>
            <a:ext cx="981360" cy="100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汽泡"/>
          <p:cNvPicPr/>
          <p:nvPr/>
        </p:nvPicPr>
        <p:blipFill>
          <a:blip r:embed="rId7"/>
          <a:stretch/>
        </p:blipFill>
        <p:spPr>
          <a:xfrm>
            <a:off x="4214880" y="645336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汽泡"/>
          <p:cNvPicPr/>
          <p:nvPr/>
        </p:nvPicPr>
        <p:blipFill>
          <a:blip r:embed="rId8"/>
          <a:stretch/>
        </p:blipFill>
        <p:spPr>
          <a:xfrm>
            <a:off x="3271680" y="6021360"/>
            <a:ext cx="420840" cy="43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汽泡"/>
          <p:cNvPicPr/>
          <p:nvPr/>
        </p:nvPicPr>
        <p:blipFill>
          <a:blip r:embed="rId9"/>
          <a:stretch/>
        </p:blipFill>
        <p:spPr>
          <a:xfrm>
            <a:off x="1979640" y="573408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汽泡"/>
          <p:cNvPicPr/>
          <p:nvPr/>
        </p:nvPicPr>
        <p:blipFill>
          <a:blip r:embed="rId10"/>
          <a:stretch/>
        </p:blipFill>
        <p:spPr>
          <a:xfrm>
            <a:off x="1187280" y="4724280"/>
            <a:ext cx="773280" cy="79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汽泡"/>
          <p:cNvPicPr/>
          <p:nvPr/>
        </p:nvPicPr>
        <p:blipFill>
          <a:blip r:embed="rId11"/>
          <a:stretch/>
        </p:blipFill>
        <p:spPr>
          <a:xfrm>
            <a:off x="1547640" y="6453360"/>
            <a:ext cx="420840" cy="43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汽泡"/>
          <p:cNvPicPr/>
          <p:nvPr/>
        </p:nvPicPr>
        <p:blipFill>
          <a:blip r:embed="rId12"/>
          <a:stretch/>
        </p:blipFill>
        <p:spPr>
          <a:xfrm>
            <a:off x="3708360" y="522936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汽泡"/>
          <p:cNvPicPr/>
          <p:nvPr/>
        </p:nvPicPr>
        <p:blipFill>
          <a:blip r:embed="rId13"/>
          <a:stretch/>
        </p:blipFill>
        <p:spPr>
          <a:xfrm>
            <a:off x="6732720" y="573408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汽泡"/>
          <p:cNvPicPr/>
          <p:nvPr/>
        </p:nvPicPr>
        <p:blipFill>
          <a:blip r:embed="rId14"/>
          <a:stretch/>
        </p:blipFill>
        <p:spPr>
          <a:xfrm>
            <a:off x="2914560" y="5805360"/>
            <a:ext cx="139680" cy="142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2" descr="汽泡"/>
          <p:cNvPicPr/>
          <p:nvPr/>
        </p:nvPicPr>
        <p:blipFill>
          <a:blip r:embed="rId15"/>
          <a:stretch/>
        </p:blipFill>
        <p:spPr>
          <a:xfrm>
            <a:off x="324000" y="5661000"/>
            <a:ext cx="631800" cy="64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汽泡"/>
          <p:cNvPicPr/>
          <p:nvPr/>
        </p:nvPicPr>
        <p:blipFill>
          <a:blip r:embed="rId16"/>
          <a:stretch/>
        </p:blipFill>
        <p:spPr>
          <a:xfrm>
            <a:off x="7380360" y="630864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4" descr="551_03"/>
          <p:cNvPicPr/>
          <p:nvPr/>
        </p:nvPicPr>
        <p:blipFill>
          <a:blip r:embed="rId17"/>
          <a:stretch/>
        </p:blipFill>
        <p:spPr>
          <a:xfrm>
            <a:off x="1187280" y="2349360"/>
            <a:ext cx="857520" cy="1162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" descr="551_07"/>
          <p:cNvPicPr/>
          <p:nvPr/>
        </p:nvPicPr>
        <p:blipFill>
          <a:blip r:embed="rId18"/>
          <a:stretch/>
        </p:blipFill>
        <p:spPr>
          <a:xfrm>
            <a:off x="7667640" y="2349360"/>
            <a:ext cx="1123920" cy="1152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6" descr="551_11"/>
          <p:cNvPicPr/>
          <p:nvPr/>
        </p:nvPicPr>
        <p:blipFill>
          <a:blip r:embed="rId19"/>
          <a:stretch/>
        </p:blipFill>
        <p:spPr>
          <a:xfrm>
            <a:off x="1979640" y="4797360"/>
            <a:ext cx="942840" cy="866880"/>
          </a:xfrm>
          <a:prstGeom prst="rect">
            <a:avLst/>
          </a:prstGeom>
          <a:ln w="0">
            <a:noFill/>
          </a:ln>
        </p:spPr>
      </p:pic>
      <p:sp>
        <p:nvSpPr>
          <p:cNvPr id="133" name="WordArt 4"/>
          <p:cNvSpPr txBox="1"/>
          <p:nvPr/>
        </p:nvSpPr>
        <p:spPr>
          <a:xfrm>
            <a:off x="3492360" y="3789360"/>
            <a:ext cx="2794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4" name="WordArt 5"/>
          <p:cNvSpPr txBox="1"/>
          <p:nvPr/>
        </p:nvSpPr>
        <p:spPr>
          <a:xfrm>
            <a:off x="3970440" y="4503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0:33:3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0:48:43Z</dcterms:modified>
  <cp:revision>3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