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636-C7FC-4C56-ADD1-BE2D99E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204-A036-44BA-8026-F22A8A6D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C74-333C-4180-A1BF-B7D04AD1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F41-BBD4-4C12-A511-F533D3ED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443-C50D-41E3-8A4A-B93A6F20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E99-C766-4136-A3DB-CDFB18A6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400-951B-438A-8B22-5F0923B5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8AF-4213-4278-A426-A59E425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DD4-9A11-459D-B523-89CB765B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770-B2FC-4124-A7EF-605653F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18D-0E92-4883-80C7-F0EC9CA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583-D668-47A6-B714-8FD3045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C2F-1841-4E4F-A45F-52D8F7EF2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4" descr="DSC0379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692360" y="1413000"/>
            <a:ext cx="6372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6440" y="1125360"/>
            <a:ext cx="321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993300"/>
                </a:solidFill>
                <a:latin typeface="Times New Roman"/>
              </a:rPr>
              <a:t>《唯一的听众》课件</a:t>
            </a:r>
            <a:r>
              <a:rPr b="0" lang="en-US" sz="4500" spc="-1" strike="noStrike">
                <a:solidFill>
                  <a:srgbClr val="9933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993300"/>
                </a:solidFill>
                <a:latin typeface="Times New Roman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800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沮丧地想离开小树林时，她平静地望着我，仿佛在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每天去小树林拉琴时，她平静地望着我，仿佛在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渐渐奏出真正的音乐时，她慈祥的眼睛平静地望着我，仿佛在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3A5-7784-48F2-A967-43138ACACEF6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52565D01453AF51E31CE1102A7F6D76"/>
          <p:cNvPicPr/>
          <p:nvPr/>
        </p:nvPicPr>
        <p:blipFill>
          <a:blip r:embed="rId2"/>
          <a:stretch/>
        </p:blipFill>
        <p:spPr>
          <a:xfrm>
            <a:off x="0" y="0"/>
            <a:ext cx="95058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200681920364669577.mp3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5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98600" y="765000"/>
            <a:ext cx="6759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老教授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小提琴手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文中的父亲和妹妹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我自己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同学们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66920" y="1512720"/>
            <a:ext cx="505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做一个倾听者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不要吝啬自己的鼓励和微笑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愿感恩和付出同时在我们身上体现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5589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24000" y="189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黑体"/>
              </a:rPr>
              <a:t>      “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在他们听起来，我拉的小夜曲就像是在锯床腿。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      “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后来，小提琴成了我无法割舍的爱好，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我有机会面对成百上千的观众演奏小提琴曲。每当拿起小提琴，我眼前就浮现出那位耳“聋”的老人，每天清晨里我唯一的听众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08000" y="115920"/>
            <a:ext cx="889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黑体"/>
              </a:rPr>
              <a:t>自学：从语言入手，看老教授是怎么一步步鼓励“我”的呢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黑体"/>
              </a:rPr>
              <a:t>默读全文，画出相应的语句，试着有感情地读一读，想想老人是在什么情况下说这些话的，体会这些话对“我”有什么影响；再把这些句子在小组内有感情地读一读，说一说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68360" y="5079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是我打搅了你吗？小伙子。不过，我每天早晨都在这里坐一会儿。”“我猜想你一定拉的非常好，只可惜我的耳朵聋了。如果不介意我在场的话，请继续吧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也许我会用心去感受这音乐。我能做你的听众吗？就在每天早晨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真不错 。我的心已经感受到了。谢谢你，小伙子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“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你的琴声能给我带来快乐和幸福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08000" y="31752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“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是我打搅了你吗？小伙子。不过，我每天早晨都在这儿坐一会儿。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其实是我打搅了你，你却毫不在意，多么和善的老人啊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8360" y="5079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是我打搅了你吗？小伙子。不过，我每天早晨都在这里坐一会儿。”“我猜想你一定拉的非常好，只可惜我的耳朵聋了。如果不介意我在场的话，请继续吧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也许我会用心去感受这音乐。我能做你的听众吗？就在每天早晨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真不错 。我的心已经感受到了。谢谢你，小伙子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“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你的琴声能给我带来快乐和幸福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3030480" y="206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DSC03793"/>
          <p:cNvPicPr/>
          <p:nvPr/>
        </p:nvPicPr>
        <p:blipFill>
          <a:blip r:embed="rId2"/>
          <a:stretch/>
        </p:blipFill>
        <p:spPr>
          <a:xfrm>
            <a:off x="-1730520" y="-2763720"/>
            <a:ext cx="10874520" cy="11737800"/>
          </a:xfrm>
          <a:prstGeom prst="rect">
            <a:avLst/>
          </a:prstGeom>
          <a:ln w="0">
            <a:noFill/>
          </a:ln>
        </p:spPr>
      </p:pic>
      <p:pic>
        <p:nvPicPr>
          <p:cNvPr id="59" name="200681920364669577.mp3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53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2" descr="DSC03793"/>
          <p:cNvPicPr/>
          <p:nvPr/>
        </p:nvPicPr>
        <p:blipFill>
          <a:blip r:embed="rId2"/>
          <a:stretch/>
        </p:blipFill>
        <p:spPr>
          <a:xfrm>
            <a:off x="-1730520" y="-2763720"/>
            <a:ext cx="10874520" cy="11737800"/>
          </a:xfrm>
          <a:prstGeom prst="rect">
            <a:avLst/>
          </a:prstGeom>
          <a:ln w="0">
            <a:noFill/>
          </a:ln>
        </p:spPr>
      </p:pic>
      <p:pic>
        <p:nvPicPr>
          <p:cNvPr id="62" name="200681920364669577.mp3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431360" y="65977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53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404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拉出像锯床腿一样的声音时，一位极瘦极瘦的老妇人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有了几份信心，每天去练琴，她看到了，也是一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渐感奏出了真正的音乐，她还是用她慈祥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——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8:16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7:04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