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F2F-0B28-43C0-AE13-C49C1ADD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7D0-0E71-4E8D-A976-909654F0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293-D71C-48CC-8CD6-928FEBDF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F60-2A42-4159-BE99-069159B6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52D-8FE0-415D-88DD-6502611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7B5-EE9F-48A4-80BF-914CBD8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AD3-78C3-4A5B-AE70-AB82AABC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445-6F5A-4E45-9DB5-7E2A2391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FEB-1D56-4EEA-AA32-43693FB0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DD2-A22C-4B64-80BD-80648B8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699-2128-4455-8A13-F1D62BB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12A-DA2E-4D04-A474-06E41CF5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9230-2113-4A97-8929-DF32FF2D7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五彩的世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2268360" y="177336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61840" y="1484280"/>
            <a:ext cx="828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68360" y="1511280"/>
            <a:ext cx="4464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2600" y="1701720"/>
            <a:ext cx="345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《小池塘》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3964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太阳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鲜红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气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弯弯的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弯弯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xiaoxiaode chuang"/>
          <p:cNvPicPr/>
          <p:nvPr/>
        </p:nvPicPr>
        <p:blipFill>
          <a:blip r:embed="rId1"/>
          <a:stretch/>
        </p:blipFill>
        <p:spPr>
          <a:xfrm>
            <a:off x="0" y="0"/>
            <a:ext cx="9144000" cy="84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月牙倒映在池塘里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弯弯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闪亮的珍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月牙星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68360" y="256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星星倒映在池塘里，像许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闪亮的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珍珠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395280" y="1989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云倒映在池塘里，像一群白鹅。太阳倒映在池塘里，像一只鲜红的气球。月牙倒映在池塘里，像一只弯弯的小船。星星倒映在池塘里，像许多闪亮的珍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五彩的世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859280" y="256536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5280" y="220500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（　　）的小池塘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A1D-6ADF-4F17-98E1-A0C54C166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春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684360" y="1773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春风姐姐轻轻吹了一口气，小池塘就醒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云中月亮"/>
          <p:cNvPicPr/>
          <p:nvPr/>
        </p:nvPicPr>
        <p:blipFill>
          <a:blip r:embed="rId1"/>
          <a:stretch/>
        </p:blipFill>
        <p:spPr>
          <a:xfrm>
            <a:off x="324000" y="69228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867280" y="1341360"/>
            <a:ext cx="32767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古朗月行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　　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 时 不 识 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呼 作 白 玉 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又 疑 瑶 台 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飞 在 青 云 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云中月亮"/>
          <p:cNvPicPr/>
          <p:nvPr/>
        </p:nvPicPr>
        <p:blipFill>
          <a:blip r:embed="rId1"/>
          <a:stretch/>
        </p:blipFill>
        <p:spPr>
          <a:xfrm>
            <a:off x="324000" y="692280"/>
            <a:ext cx="532764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867280" y="1341360"/>
            <a:ext cx="32767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古朗月行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　　李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 时 不 识 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呼 作 白 玉 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又 疑 瑶 台 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飞 在 青 云 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9640" y="4221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圆圆的月亮像＿＿＿＿，还像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00200" y="20574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9900"/>
                </a:solidFill>
                <a:uFillTx/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像＿＿＿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池塘里的水波一闪一闪的，像一只明亮的大眼睛。池塘边的芦苇长起来了，像长长的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池塘里的水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闪一闪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，像一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明亮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大眼睛。池塘边的芦苇长起来了，像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长长的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水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71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春风姐姐轻轻吹了一口气，小池塘就醒来了。池塘里的水波一闪一闪的，像一只明亮的大眼睛。池塘边的芦苇长起来了，像长长的睫毛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aoying4"/>
          <p:cNvPicPr/>
          <p:nvPr/>
        </p:nvPicPr>
        <p:blipFill>
          <a:blip r:embed="rId1"/>
          <a:stretch/>
        </p:blipFill>
        <p:spPr>
          <a:xfrm>
            <a:off x="0" y="-347760"/>
            <a:ext cx="9144000" cy="755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783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90000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云倒映在池塘里，像一群白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783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900000" y="2492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云倒映在池塘里，像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群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白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太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 Box 3"/>
          <p:cNvSpPr/>
          <p:nvPr/>
        </p:nvSpPr>
        <p:spPr>
          <a:xfrm>
            <a:off x="539640" y="2781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太阳倒映在池塘里，像一只鲜红的气球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4:37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0:43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