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FE25-EE66-46FA-AC1E-BFE47013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83F9-AD04-4A49-8EE5-D88F71E3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CA22-A445-430F-AED0-C1AF134A4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9903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1308960"/>
            <a:ext cx="264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1623-C8B8-4C79-A339-3070611FA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96ED-7063-4226-8F3D-246204A0D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C2C9-78E9-4687-A968-A1CA5D42A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6499-6DEB-4F7C-B4DD-8E482A56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5F08-EB11-4926-8209-EE432770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240"/>
            <a:ext cx="9144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43B6-97C2-4112-9F56-6F78B3FF4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AB04-347C-4138-A924-FBABA147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13089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BCBD-784F-4234-AE45-056045F1D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990360"/>
            <a:ext cx="40158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1308960"/>
            <a:ext cx="8229600" cy="2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C524-5E99-4D33-A564-25290558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9AFA-080D-468D-B464-E8DC67221773}" type="slidenum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25000"/>
          </a:bodyPr>
          <a:p>
            <a:pPr marL="85680" indent="-85680">
              <a:spcBef>
                <a:spcPts val="400"/>
              </a:spcBef>
              <a:buClr>
                <a:srgbClr val="66c5f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185760" indent="-71280">
              <a:spcBef>
                <a:spcPts val="400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2" marL="285480" indent="-56880">
              <a:spcBef>
                <a:spcPts val="400"/>
              </a:spcBef>
              <a:buClr>
                <a:srgbClr val="a01dd5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3" marL="399960" indent="-56880">
              <a:spcBef>
                <a:spcPts val="400"/>
              </a:spcBef>
              <a:buClr>
                <a:srgbClr val="c0c0c0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4" marL="514080" indent="-56880">
              <a:spcBef>
                <a:spcPts val="400"/>
              </a:spcBef>
              <a:buClr>
                <a:srgbClr val="00999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5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6" marL="514080" indent="-56880">
              <a:spcBef>
                <a:spcPts val="400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2480760" y="1904760"/>
            <a:ext cx="3979080" cy="3652200"/>
            <a:chOff x="2480760" y="1904760"/>
            <a:chExt cx="3979080" cy="3652200"/>
          </a:xfrm>
        </p:grpSpPr>
        <p:sp>
          <p:nvSpPr>
            <p:cNvPr id="43" name=""/>
            <p:cNvSpPr/>
            <p:nvPr/>
          </p:nvSpPr>
          <p:spPr>
            <a:xfrm>
              <a:off x="3043440" y="2204640"/>
              <a:ext cx="2921760" cy="2881080"/>
            </a:xfrm>
            <a:prstGeom prst="donut">
              <a:avLst>
                <a:gd name="adj" fmla="val 25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rot="5400000">
              <a:off x="4479120" y="2126520"/>
              <a:ext cx="1436040" cy="14623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ffb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rot="7200000">
              <a:off x="4749120" y="2585520"/>
              <a:ext cx="1436400" cy="14623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755805"/>
                </a:gs>
                <a:gs pos="100000">
                  <a:srgbClr val="ffbf0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rot="1800000">
              <a:off x="4833000" y="3588840"/>
              <a:ext cx="1233360" cy="782280"/>
            </a:xfrm>
            <a:prstGeom prst="triangle">
              <a:avLst>
                <a:gd name="adj" fmla="val 50000"/>
              </a:avLst>
            </a:prstGeom>
            <a:solidFill>
              <a:srgbClr val="4e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208320" y="3579840"/>
              <a:ext cx="2516400" cy="1977120"/>
              <a:chOff x="3208320" y="3579840"/>
              <a:chExt cx="2516400" cy="1977120"/>
            </a:xfrm>
          </p:grpSpPr>
          <p:sp>
            <p:nvSpPr>
              <p:cNvPr id="48" name=""/>
              <p:cNvSpPr/>
              <p:nvPr/>
            </p:nvSpPr>
            <p:spPr>
              <a:xfrm rot="12600000">
                <a:off x="4004280" y="3849120"/>
                <a:ext cx="1458000" cy="14396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4ec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4400000">
                <a:off x="3481560" y="3836160"/>
                <a:ext cx="1436040" cy="14612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c44e"/>
                  </a:gs>
                  <a:gs pos="100000">
                    <a:srgbClr val="235a2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 rot="9000000">
              <a:off x="2971800" y="3849120"/>
              <a:ext cx="1233360" cy="699840"/>
            </a:xfrm>
            <a:prstGeom prst="triangle">
              <a:avLst>
                <a:gd name="adj" fmla="val 50000"/>
              </a:avLst>
            </a:prstGeom>
            <a:solidFill>
              <a:srgbClr val="9aa1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2480760" y="2142720"/>
              <a:ext cx="1987200" cy="2166120"/>
              <a:chOff x="2480760" y="2142720"/>
              <a:chExt cx="1987200" cy="2166120"/>
            </a:xfrm>
          </p:grpSpPr>
          <p:sp>
            <p:nvSpPr>
              <p:cNvPr id="52" name=""/>
              <p:cNvSpPr/>
              <p:nvPr/>
            </p:nvSpPr>
            <p:spPr>
              <a:xfrm rot="19800000">
                <a:off x="2743200" y="2599920"/>
                <a:ext cx="145800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aa1f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3009600" y="2142720"/>
                <a:ext cx="145836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a75"/>
                  </a:gs>
                  <a:gs pos="100000">
                    <a:srgbClr val="9aa1fe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" name=""/>
            <p:cNvSpPr/>
            <p:nvPr/>
          </p:nvSpPr>
          <p:spPr>
            <a:xfrm rot="16200000">
              <a:off x="3686400" y="2115360"/>
              <a:ext cx="1215720" cy="794520"/>
            </a:xfrm>
            <a:prstGeom prst="triangle">
              <a:avLst>
                <a:gd name="adj" fmla="val 50000"/>
              </a:avLst>
            </a:prstGeom>
            <a:solidFill>
              <a:srgbClr val="ffbf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914400" y="25495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25495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05320" y="52927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8720" y="206208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8800" y="838080"/>
            <a:ext cx="348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循环箭头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图表素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480760" y="1904760"/>
            <a:ext cx="3979080" cy="3652200"/>
            <a:chOff x="2480760" y="1904760"/>
            <a:chExt cx="3979080" cy="3652200"/>
          </a:xfrm>
        </p:grpSpPr>
        <p:sp>
          <p:nvSpPr>
            <p:cNvPr id="62" name=""/>
            <p:cNvSpPr/>
            <p:nvPr/>
          </p:nvSpPr>
          <p:spPr>
            <a:xfrm>
              <a:off x="3043440" y="2204640"/>
              <a:ext cx="2921760" cy="2881080"/>
            </a:xfrm>
            <a:prstGeom prst="donut">
              <a:avLst>
                <a:gd name="adj" fmla="val 25000"/>
              </a:avLst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rot="5400000">
              <a:off x="4479120" y="2126520"/>
              <a:ext cx="1436040" cy="14623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rot="7200000">
              <a:off x="4749120" y="2585520"/>
              <a:ext cx="1436400" cy="1462320"/>
            </a:xfrm>
            <a:custGeom>
              <a:avLst/>
              <a:gdLst/>
              <a:ahLst/>
              <a:rect l="l" t="t" r="r" b="b"/>
              <a:pathLst>
                <a:path w="1448" h="1452">
                  <a:moveTo>
                    <a:pt x="0" y="1452"/>
                  </a:moveTo>
                  <a:lnTo>
                    <a:pt x="6" y="1320"/>
                  </a:lnTo>
                  <a:lnTo>
                    <a:pt x="24" y="1190"/>
                  </a:lnTo>
                  <a:lnTo>
                    <a:pt x="52" y="1066"/>
                  </a:lnTo>
                  <a:lnTo>
                    <a:pt x="90" y="946"/>
                  </a:lnTo>
                  <a:lnTo>
                    <a:pt x="140" y="830"/>
                  </a:lnTo>
                  <a:lnTo>
                    <a:pt x="198" y="718"/>
                  </a:lnTo>
                  <a:lnTo>
                    <a:pt x="264" y="614"/>
                  </a:lnTo>
                  <a:lnTo>
                    <a:pt x="340" y="516"/>
                  </a:lnTo>
                  <a:lnTo>
                    <a:pt x="424" y="424"/>
                  </a:lnTo>
                  <a:lnTo>
                    <a:pt x="516" y="342"/>
                  </a:lnTo>
                  <a:lnTo>
                    <a:pt x="612" y="266"/>
                  </a:lnTo>
                  <a:lnTo>
                    <a:pt x="718" y="198"/>
                  </a:lnTo>
                  <a:lnTo>
                    <a:pt x="828" y="140"/>
                  </a:lnTo>
                  <a:lnTo>
                    <a:pt x="942" y="90"/>
                  </a:lnTo>
                  <a:lnTo>
                    <a:pt x="1064" y="52"/>
                  </a:lnTo>
                  <a:lnTo>
                    <a:pt x="1188" y="22"/>
                  </a:lnTo>
                  <a:lnTo>
                    <a:pt x="1316" y="6"/>
                  </a:lnTo>
                  <a:lnTo>
                    <a:pt x="1448" y="0"/>
                  </a:lnTo>
                  <a:lnTo>
                    <a:pt x="1448" y="726"/>
                  </a:lnTo>
                  <a:lnTo>
                    <a:pt x="1358" y="732"/>
                  </a:lnTo>
                  <a:lnTo>
                    <a:pt x="1270" y="748"/>
                  </a:lnTo>
                  <a:lnTo>
                    <a:pt x="1186" y="774"/>
                  </a:lnTo>
                  <a:lnTo>
                    <a:pt x="1108" y="810"/>
                  </a:lnTo>
                  <a:lnTo>
                    <a:pt x="1034" y="856"/>
                  </a:lnTo>
                  <a:lnTo>
                    <a:pt x="968" y="910"/>
                  </a:lnTo>
                  <a:lnTo>
                    <a:pt x="906" y="970"/>
                  </a:lnTo>
                  <a:lnTo>
                    <a:pt x="854" y="1038"/>
                  </a:lnTo>
                  <a:lnTo>
                    <a:pt x="808" y="1110"/>
                  </a:lnTo>
                  <a:lnTo>
                    <a:pt x="772" y="1190"/>
                  </a:lnTo>
                  <a:lnTo>
                    <a:pt x="746" y="1274"/>
                  </a:lnTo>
                  <a:lnTo>
                    <a:pt x="730" y="1360"/>
                  </a:lnTo>
                  <a:lnTo>
                    <a:pt x="724" y="1452"/>
                  </a:lnTo>
                  <a:lnTo>
                    <a:pt x="0" y="1452"/>
                  </a:lnTo>
                  <a:lnTo>
                    <a:pt x="0" y="1452"/>
                  </a:lnTo>
                  <a:close/>
                </a:path>
              </a:pathLst>
            </a:custGeom>
            <a:gradFill rotWithShape="0">
              <a:gsLst>
                <a:gs pos="0">
                  <a:srgbClr val="174675"/>
                </a:gs>
                <a:gs pos="100000">
                  <a:srgbClr val="3399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rot="1800000">
              <a:off x="4833000" y="3588840"/>
              <a:ext cx="1233360" cy="782280"/>
            </a:xfrm>
            <a:prstGeom prst="triangle">
              <a:avLst>
                <a:gd name="adj" fmla="val 50000"/>
              </a:avLst>
            </a:prstGeom>
            <a:solidFill>
              <a:srgbClr val="4ec4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3208320" y="3579840"/>
              <a:ext cx="2516400" cy="1977120"/>
              <a:chOff x="3208320" y="3579840"/>
              <a:chExt cx="2516400" cy="1977120"/>
            </a:xfrm>
          </p:grpSpPr>
          <p:sp>
            <p:nvSpPr>
              <p:cNvPr id="67" name=""/>
              <p:cNvSpPr/>
              <p:nvPr/>
            </p:nvSpPr>
            <p:spPr>
              <a:xfrm rot="12600000">
                <a:off x="4004280" y="3849120"/>
                <a:ext cx="1458000" cy="14396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4ec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3481560" y="3836160"/>
                <a:ext cx="1436040" cy="146124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ec44e"/>
                  </a:gs>
                  <a:gs pos="100000">
                    <a:srgbClr val="235a2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 rot="9000000">
              <a:off x="2971800" y="3849120"/>
              <a:ext cx="1233360" cy="69984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480760" y="2142720"/>
              <a:ext cx="1987200" cy="2166120"/>
              <a:chOff x="2480760" y="2142720"/>
              <a:chExt cx="1987200" cy="2166120"/>
            </a:xfrm>
          </p:grpSpPr>
          <p:sp>
            <p:nvSpPr>
              <p:cNvPr id="71" name=""/>
              <p:cNvSpPr/>
              <p:nvPr/>
            </p:nvSpPr>
            <p:spPr>
              <a:xfrm rot="19800000">
                <a:off x="2743200" y="2599920"/>
                <a:ext cx="145800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009600" y="2142720"/>
                <a:ext cx="1458360" cy="1440720"/>
              </a:xfrm>
              <a:custGeom>
                <a:avLst/>
                <a:gdLst/>
                <a:ahLst/>
                <a:rect l="l" t="t" r="r" b="b"/>
                <a:pathLst>
                  <a:path w="1448" h="1452">
                    <a:moveTo>
                      <a:pt x="0" y="1452"/>
                    </a:moveTo>
                    <a:lnTo>
                      <a:pt x="6" y="1320"/>
                    </a:lnTo>
                    <a:lnTo>
                      <a:pt x="24" y="1190"/>
                    </a:lnTo>
                    <a:lnTo>
                      <a:pt x="52" y="1066"/>
                    </a:lnTo>
                    <a:lnTo>
                      <a:pt x="90" y="946"/>
                    </a:lnTo>
                    <a:lnTo>
                      <a:pt x="140" y="830"/>
                    </a:lnTo>
                    <a:lnTo>
                      <a:pt x="198" y="718"/>
                    </a:lnTo>
                    <a:lnTo>
                      <a:pt x="264" y="614"/>
                    </a:lnTo>
                    <a:lnTo>
                      <a:pt x="340" y="516"/>
                    </a:lnTo>
                    <a:lnTo>
                      <a:pt x="424" y="424"/>
                    </a:lnTo>
                    <a:lnTo>
                      <a:pt x="516" y="342"/>
                    </a:lnTo>
                    <a:lnTo>
                      <a:pt x="612" y="266"/>
                    </a:lnTo>
                    <a:lnTo>
                      <a:pt x="718" y="198"/>
                    </a:lnTo>
                    <a:lnTo>
                      <a:pt x="828" y="140"/>
                    </a:lnTo>
                    <a:lnTo>
                      <a:pt x="942" y="90"/>
                    </a:lnTo>
                    <a:lnTo>
                      <a:pt x="1064" y="52"/>
                    </a:lnTo>
                    <a:lnTo>
                      <a:pt x="1188" y="22"/>
                    </a:lnTo>
                    <a:lnTo>
                      <a:pt x="1316" y="6"/>
                    </a:lnTo>
                    <a:lnTo>
                      <a:pt x="1448" y="0"/>
                    </a:lnTo>
                    <a:lnTo>
                      <a:pt x="1448" y="726"/>
                    </a:lnTo>
                    <a:lnTo>
                      <a:pt x="1358" y="732"/>
                    </a:lnTo>
                    <a:lnTo>
                      <a:pt x="1270" y="748"/>
                    </a:lnTo>
                    <a:lnTo>
                      <a:pt x="1186" y="774"/>
                    </a:lnTo>
                    <a:lnTo>
                      <a:pt x="1108" y="810"/>
                    </a:lnTo>
                    <a:lnTo>
                      <a:pt x="1034" y="856"/>
                    </a:lnTo>
                    <a:lnTo>
                      <a:pt x="968" y="910"/>
                    </a:lnTo>
                    <a:lnTo>
                      <a:pt x="906" y="970"/>
                    </a:lnTo>
                    <a:lnTo>
                      <a:pt x="854" y="1038"/>
                    </a:lnTo>
                    <a:lnTo>
                      <a:pt x="808" y="1110"/>
                    </a:lnTo>
                    <a:lnTo>
                      <a:pt x="772" y="1190"/>
                    </a:lnTo>
                    <a:lnTo>
                      <a:pt x="746" y="1274"/>
                    </a:lnTo>
                    <a:lnTo>
                      <a:pt x="730" y="1360"/>
                    </a:lnTo>
                    <a:lnTo>
                      <a:pt x="724" y="1452"/>
                    </a:lnTo>
                    <a:lnTo>
                      <a:pt x="0" y="1452"/>
                    </a:lnTo>
                    <a:lnTo>
                      <a:pt x="0" y="14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64675"/>
                  </a:gs>
                  <a:gs pos="100000">
                    <a:srgbClr val="9999f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 rot="16200000">
              <a:off x="3686400" y="2115360"/>
              <a:ext cx="1215720" cy="794520"/>
            </a:xfrm>
            <a:prstGeom prst="triangle">
              <a:avLst>
                <a:gd name="adj" fmla="val 50000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914400" y="25495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ff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19920" y="25495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ff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05320" y="5292720"/>
            <a:ext cx="2057400" cy="49860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Verdana"/>
                <a:ea typeface="宋体"/>
              </a:rPr>
              <a:t>Add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909720"/>
            <a:ext cx="4969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c5f4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Verdana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Verdana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Verdana"/>
              </a:rPr>
              <a:t>：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66c5f4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4488-2693-44ED-BF04-46AFE00711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06:37:4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8:53:08Z</dcterms:modified>
  <cp:revision>9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