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CA7-4136-40F1-8A2E-5C6C0A35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26E-AF5C-4C11-B8F9-10C6EC4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4CC-04AE-4D8F-A80D-AB99BD62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474-1432-4A4B-A24E-9EF35AC7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32A5-3985-490F-96A6-BBB57EA7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9DB-1782-413E-A810-AC52DCC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5F5D-1A6D-457E-908F-D7B84EA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8000-37CF-4618-A52E-CD5A663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F66C-0AEB-47AE-93C1-B08B374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E34-DF68-47F6-A9DE-0DF6ED7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E3D-AFD7-4F20-A2F3-0487E80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92A-960F-48D2-B3A4-FEB88339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26D5-350E-46E3-8449-E20CF6C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A87-3E05-490A-A72F-F09EA22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1317-8706-448F-8B1D-43F59FB7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F62-4346-4288-B9A3-B05608BA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E53-856A-43BD-AD82-A75DBC8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FD1-3BB7-4FB3-A45D-9547FBB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19A-4952-47D9-BABF-BADE830A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521-D349-4DF1-9A19-F1EC2F90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0CB-1FC8-4C5F-A4A0-75B8B20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608-2CDB-44F5-B93A-65962CD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39F-AC13-4955-8CF8-D0FE3C0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201-79F4-49C7-A6EC-13AA56A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6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5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62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96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5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E59-85C0-4CC1-934D-193C65541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432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6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6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432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2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44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600"/>
                  <a:ext cx="122544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70280"/>
                  <a:ext cx="987480" cy="9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360" y="2068560"/>
                  <a:ext cx="78120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e5d58a"/>
                    </a:gs>
                    <a:gs pos="5000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100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A0DF-C5B7-4878-B420-6371C2A3A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xiaotuhuijia.exe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lianxi.ex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320" y="1380600"/>
            <a:ext cx="6782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循环小数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05740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小学数学第九册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657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108080" y="476280"/>
            <a:ext cx="80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写一写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你能根据下列循环小数的简便写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写出它们的一般写法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057400" y="1681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.307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811600" y="1681200"/>
            <a:ext cx="33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7.30707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130480" y="27608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143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193920" y="2760840"/>
            <a:ext cx="39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3.1435143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130480" y="3768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143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3243240" y="3768840"/>
            <a:ext cx="35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3.14353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130480" y="46292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0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2885040" y="4629240"/>
            <a:ext cx="30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2.050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 rot="5400000">
            <a:off x="2993760" y="167652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5" name="WordArt 12"/>
          <p:cNvSpPr txBox="1"/>
          <p:nvPr/>
        </p:nvSpPr>
        <p:spPr>
          <a:xfrm rot="5400000">
            <a:off x="2790000" y="166932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6" name="WordArt 13"/>
          <p:cNvSpPr txBox="1"/>
          <p:nvPr/>
        </p:nvSpPr>
        <p:spPr>
          <a:xfrm rot="5400000">
            <a:off x="3320640" y="276084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7" name="WordArt 14"/>
          <p:cNvSpPr txBox="1"/>
          <p:nvPr/>
        </p:nvSpPr>
        <p:spPr>
          <a:xfrm rot="5400000">
            <a:off x="2645640" y="275364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8" name="WordArt 15"/>
          <p:cNvSpPr txBox="1"/>
          <p:nvPr/>
        </p:nvSpPr>
        <p:spPr>
          <a:xfrm rot="5400000">
            <a:off x="3281040" y="373536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9" name="WordArt 16"/>
          <p:cNvSpPr txBox="1"/>
          <p:nvPr/>
        </p:nvSpPr>
        <p:spPr>
          <a:xfrm rot="5400000">
            <a:off x="3077280" y="372816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0" name="WordArt 17"/>
          <p:cNvSpPr txBox="1"/>
          <p:nvPr/>
        </p:nvSpPr>
        <p:spPr>
          <a:xfrm rot="5400000">
            <a:off x="2849040" y="460044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1" name="WordArt 18"/>
          <p:cNvSpPr txBox="1"/>
          <p:nvPr/>
        </p:nvSpPr>
        <p:spPr>
          <a:xfrm rot="5400000">
            <a:off x="2645640" y="4593240"/>
            <a:ext cx="9972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42325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、判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327480" y="192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46" name="Group 10"/>
          <p:cNvGrpSpPr/>
          <p:nvPr/>
        </p:nvGrpSpPr>
        <p:grpSpPr>
          <a:xfrm>
            <a:off x="1066680" y="1447920"/>
            <a:ext cx="7201080" cy="4411440"/>
            <a:chOff x="1066680" y="1447920"/>
            <a:chExt cx="7201080" cy="4411440"/>
          </a:xfrm>
        </p:grpSpPr>
        <p:sp>
          <p:nvSpPr>
            <p:cNvPr id="347" name="Text Box 4"/>
            <p:cNvSpPr/>
            <p:nvPr/>
          </p:nvSpPr>
          <p:spPr>
            <a:xfrm>
              <a:off x="1066680" y="1447920"/>
              <a:ext cx="720108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.888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.1555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.1415926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3805200" y="22701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4573800" y="4098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50" name="Text Box 9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、对对碰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连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1892160" y="3811680"/>
            <a:ext cx="1727280" cy="1519200"/>
            <a:chOff x="1892160" y="3811680"/>
            <a:chExt cx="1727280" cy="1519200"/>
          </a:xfrm>
        </p:grpSpPr>
        <p:sp>
          <p:nvSpPr>
            <p:cNvPr id="353" name="AutoShape 4"/>
            <p:cNvSpPr/>
            <p:nvPr/>
          </p:nvSpPr>
          <p:spPr>
            <a:xfrm>
              <a:off x="1892160" y="381168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4" name="AutoShape 5"/>
            <p:cNvSpPr/>
            <p:nvPr/>
          </p:nvSpPr>
          <p:spPr>
            <a:xfrm>
              <a:off x="2323800" y="395460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5" name="Text Box 6"/>
            <p:cNvSpPr/>
            <p:nvPr/>
          </p:nvSpPr>
          <p:spPr>
            <a:xfrm>
              <a:off x="2108160" y="4314960"/>
              <a:ext cx="100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有限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小数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56" name="Group 7"/>
          <p:cNvGrpSpPr/>
          <p:nvPr/>
        </p:nvGrpSpPr>
        <p:grpSpPr>
          <a:xfrm>
            <a:off x="4340160" y="3811680"/>
            <a:ext cx="1727280" cy="1511280"/>
            <a:chOff x="4340160" y="3811680"/>
            <a:chExt cx="1727280" cy="1511280"/>
          </a:xfrm>
        </p:grpSpPr>
        <p:sp>
          <p:nvSpPr>
            <p:cNvPr id="357" name="AutoShape 8"/>
            <p:cNvSpPr/>
            <p:nvPr/>
          </p:nvSpPr>
          <p:spPr>
            <a:xfrm>
              <a:off x="4340160" y="381168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>
              <a:off x="4771800" y="395460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4556160" y="43149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其他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7148520" y="3738600"/>
            <a:ext cx="1727280" cy="1519200"/>
            <a:chOff x="7148520" y="3738600"/>
            <a:chExt cx="1727280" cy="1519200"/>
          </a:xfrm>
        </p:grpSpPr>
        <p:sp>
          <p:nvSpPr>
            <p:cNvPr id="361" name="AutoShape 12"/>
            <p:cNvSpPr/>
            <p:nvPr/>
          </p:nvSpPr>
          <p:spPr>
            <a:xfrm>
              <a:off x="7148520" y="373860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2" name="AutoShape 13"/>
            <p:cNvSpPr/>
            <p:nvPr/>
          </p:nvSpPr>
          <p:spPr>
            <a:xfrm>
              <a:off x="7580160" y="388152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3" name="Text Box 14"/>
            <p:cNvSpPr/>
            <p:nvPr/>
          </p:nvSpPr>
          <p:spPr>
            <a:xfrm>
              <a:off x="7364520" y="4241880"/>
              <a:ext cx="100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循环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小数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64" name="Text Box 15"/>
          <p:cNvSpPr/>
          <p:nvPr/>
        </p:nvSpPr>
        <p:spPr>
          <a:xfrm>
            <a:off x="2108160" y="1577880"/>
            <a:ext cx="1152720" cy="520560"/>
          </a:xfrm>
          <a:prstGeom prst="rect">
            <a:avLst/>
          </a:prstGeom>
          <a:noFill/>
          <a:ln w="9360">
            <a:solidFill>
              <a:srgbClr val="090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.1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65" name="Group 16"/>
          <p:cNvGrpSpPr/>
          <p:nvPr/>
        </p:nvGrpSpPr>
        <p:grpSpPr>
          <a:xfrm>
            <a:off x="4340160" y="1219320"/>
            <a:ext cx="1511280" cy="952200"/>
            <a:chOff x="4340160" y="1219320"/>
            <a:chExt cx="1511280" cy="952200"/>
          </a:xfrm>
        </p:grpSpPr>
        <p:sp>
          <p:nvSpPr>
            <p:cNvPr id="366" name="Text Box 17"/>
            <p:cNvSpPr/>
            <p:nvPr/>
          </p:nvSpPr>
          <p:spPr>
            <a:xfrm>
              <a:off x="4340160" y="1650960"/>
              <a:ext cx="115236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27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7" name="Text Box 18"/>
            <p:cNvSpPr/>
            <p:nvPr/>
          </p:nvSpPr>
          <p:spPr>
            <a:xfrm>
              <a:off x="4843440" y="121932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8" name="Text Box 19"/>
            <p:cNvSpPr/>
            <p:nvPr/>
          </p:nvSpPr>
          <p:spPr>
            <a:xfrm>
              <a:off x="5059440" y="121932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6861240" y="1650960"/>
            <a:ext cx="2663640" cy="593640"/>
            <a:chOff x="6861240" y="1650960"/>
            <a:chExt cx="2663640" cy="593640"/>
          </a:xfrm>
        </p:grpSpPr>
        <p:sp>
          <p:nvSpPr>
            <p:cNvPr id="370" name="Text Box 21"/>
            <p:cNvSpPr/>
            <p:nvPr/>
          </p:nvSpPr>
          <p:spPr>
            <a:xfrm>
              <a:off x="6861240" y="1724040"/>
              <a:ext cx="266364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343434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1" name="Rectangle 22"/>
            <p:cNvSpPr/>
            <p:nvPr/>
          </p:nvSpPr>
          <p:spPr>
            <a:xfrm>
              <a:off x="8246880" y="165096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72" name="Group 23"/>
          <p:cNvGrpSpPr/>
          <p:nvPr/>
        </p:nvGrpSpPr>
        <p:grpSpPr>
          <a:xfrm>
            <a:off x="1387440" y="2443320"/>
            <a:ext cx="2249280" cy="664560"/>
            <a:chOff x="1387440" y="2443320"/>
            <a:chExt cx="2249280" cy="664560"/>
          </a:xfrm>
        </p:grpSpPr>
        <p:sp>
          <p:nvSpPr>
            <p:cNvPr id="373" name="Text Box 24"/>
            <p:cNvSpPr/>
            <p:nvPr/>
          </p:nvSpPr>
          <p:spPr>
            <a:xfrm>
              <a:off x="1387440" y="2587320"/>
              <a:ext cx="223200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14159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2414880" y="244332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75" name="Group 26"/>
          <p:cNvGrpSpPr/>
          <p:nvPr/>
        </p:nvGrpSpPr>
        <p:grpSpPr>
          <a:xfrm>
            <a:off x="5853240" y="2514600"/>
            <a:ext cx="2663640" cy="593640"/>
            <a:chOff x="5853240" y="2514600"/>
            <a:chExt cx="2663640" cy="593640"/>
          </a:xfrm>
        </p:grpSpPr>
        <p:sp>
          <p:nvSpPr>
            <p:cNvPr id="376" name="Text Box 27"/>
            <p:cNvSpPr/>
            <p:nvPr/>
          </p:nvSpPr>
          <p:spPr>
            <a:xfrm>
              <a:off x="5853240" y="2587680"/>
              <a:ext cx="266364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0103103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7" name="Rectangle 28"/>
            <p:cNvSpPr/>
            <p:nvPr/>
          </p:nvSpPr>
          <p:spPr>
            <a:xfrm>
              <a:off x="7238880" y="251460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78" name="Text Box 29"/>
          <p:cNvSpPr/>
          <p:nvPr/>
        </p:nvSpPr>
        <p:spPr>
          <a:xfrm>
            <a:off x="4124160" y="2585880"/>
            <a:ext cx="1368720" cy="520560"/>
          </a:xfrm>
          <a:prstGeom prst="rect">
            <a:avLst/>
          </a:prstGeom>
          <a:noFill/>
          <a:ln w="9360">
            <a:solidFill>
              <a:srgbClr val="090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6363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Line 30"/>
          <p:cNvSpPr/>
          <p:nvPr/>
        </p:nvSpPr>
        <p:spPr>
          <a:xfrm>
            <a:off x="2755800" y="2154240"/>
            <a:ext cx="0" cy="187308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0" name="Line 31"/>
          <p:cNvSpPr/>
          <p:nvPr/>
        </p:nvSpPr>
        <p:spPr>
          <a:xfrm>
            <a:off x="5060880" y="2154240"/>
            <a:ext cx="2735280" cy="180036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Line 32"/>
          <p:cNvSpPr/>
          <p:nvPr/>
        </p:nvSpPr>
        <p:spPr>
          <a:xfrm>
            <a:off x="7653240" y="2154240"/>
            <a:ext cx="287280" cy="180036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2" name="Line 33"/>
          <p:cNvSpPr/>
          <p:nvPr/>
        </p:nvSpPr>
        <p:spPr>
          <a:xfrm>
            <a:off x="2971800" y="3019320"/>
            <a:ext cx="2089080" cy="13669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Line 34"/>
          <p:cNvSpPr/>
          <p:nvPr/>
        </p:nvSpPr>
        <p:spPr>
          <a:xfrm flipH="1">
            <a:off x="2828880" y="3090960"/>
            <a:ext cx="1943280" cy="100800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Line 35"/>
          <p:cNvSpPr/>
          <p:nvPr/>
        </p:nvSpPr>
        <p:spPr>
          <a:xfrm>
            <a:off x="7148520" y="3019320"/>
            <a:ext cx="720720" cy="86364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232920" y="-41940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游戏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8"/>
          <p:cNvGrpSpPr/>
          <p:nvPr/>
        </p:nvGrpSpPr>
        <p:grpSpPr>
          <a:xfrm>
            <a:off x="1371600" y="0"/>
            <a:ext cx="7772400" cy="6858000"/>
            <a:chOff x="1371600" y="0"/>
            <a:chExt cx="7772400" cy="6858000"/>
          </a:xfrm>
        </p:grpSpPr>
        <p:pic>
          <p:nvPicPr>
            <p:cNvPr id="387" name="Picture 19" descr="002"/>
            <p:cNvPicPr/>
            <p:nvPr/>
          </p:nvPicPr>
          <p:blipFill>
            <a:blip r:embed="rId1"/>
            <a:stretch/>
          </p:blipFill>
          <p:spPr>
            <a:xfrm>
              <a:off x="1371600" y="0"/>
              <a:ext cx="777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20"/>
            <p:cNvSpPr/>
            <p:nvPr/>
          </p:nvSpPr>
          <p:spPr>
            <a:xfrm>
              <a:off x="1523880" y="549360"/>
              <a:ext cx="3978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5318280" y="1197000"/>
              <a:ext cx="30600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90" name="Text Box 3"/>
          <p:cNvSpPr/>
          <p:nvPr/>
        </p:nvSpPr>
        <p:spPr>
          <a:xfrm>
            <a:off x="1600200" y="3030480"/>
            <a:ext cx="69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290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≈              0.0183≈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444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≈              7.275 ≈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604080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52968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040800" y="351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269400" y="351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3887640" y="3016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29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3887640" y="38545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44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7246800" y="3016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18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094520" y="38545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276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1219320" y="5778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幼圆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幼圆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幼圆"/>
              </a:rPr>
              <a:t>、求一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下面循环小数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近似数（保留三位小数位数）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2209680" y="304920"/>
            <a:ext cx="4572000" cy="76428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比较小数的大小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1447920" y="914400"/>
            <a:ext cx="2818800" cy="1055520"/>
            <a:chOff x="1447920" y="914400"/>
            <a:chExt cx="2818800" cy="1055520"/>
          </a:xfrm>
        </p:grpSpPr>
        <p:sp>
          <p:nvSpPr>
            <p:cNvPr id="403" name="Text Box 6"/>
            <p:cNvSpPr/>
            <p:nvPr/>
          </p:nvSpPr>
          <p:spPr>
            <a:xfrm>
              <a:off x="1447920" y="132732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0.3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3200040" y="1327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0.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3657240" y="914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2514240" y="1403280"/>
              <a:ext cx="60948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07" name="Group 10"/>
          <p:cNvGrpSpPr/>
          <p:nvPr/>
        </p:nvGrpSpPr>
        <p:grpSpPr>
          <a:xfrm>
            <a:off x="1447920" y="1981080"/>
            <a:ext cx="2818800" cy="1055520"/>
            <a:chOff x="1447920" y="1981080"/>
            <a:chExt cx="2818800" cy="1055520"/>
          </a:xfrm>
        </p:grpSpPr>
        <p:grpSp>
          <p:nvGrpSpPr>
            <p:cNvPr id="408" name="Group 11"/>
            <p:cNvGrpSpPr/>
            <p:nvPr/>
          </p:nvGrpSpPr>
          <p:grpSpPr>
            <a:xfrm>
              <a:off x="1447920" y="1981080"/>
              <a:ext cx="2818800" cy="1055520"/>
              <a:chOff x="1447920" y="1981080"/>
              <a:chExt cx="2818800" cy="1055520"/>
            </a:xfrm>
          </p:grpSpPr>
          <p:sp>
            <p:nvSpPr>
              <p:cNvPr id="409" name="Text Box 12"/>
              <p:cNvSpPr/>
              <p:nvPr/>
            </p:nvSpPr>
            <p:spPr>
              <a:xfrm>
                <a:off x="1447920" y="2394000"/>
                <a:ext cx="106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0" name="Text Box 13"/>
              <p:cNvSpPr/>
              <p:nvPr/>
            </p:nvSpPr>
            <p:spPr>
              <a:xfrm>
                <a:off x="3200040" y="239400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4"/>
              <p:cNvSpPr/>
              <p:nvPr/>
            </p:nvSpPr>
            <p:spPr>
              <a:xfrm>
                <a:off x="3657240" y="19810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. .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2" name="Oval 15"/>
              <p:cNvSpPr/>
              <p:nvPr/>
            </p:nvSpPr>
            <p:spPr>
              <a:xfrm>
                <a:off x="2514240" y="2469960"/>
                <a:ext cx="609480" cy="45720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6"/>
            <p:cNvSpPr/>
            <p:nvPr/>
          </p:nvSpPr>
          <p:spPr>
            <a:xfrm>
              <a:off x="2133360" y="19810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14" name="Group 49"/>
          <p:cNvGrpSpPr/>
          <p:nvPr/>
        </p:nvGrpSpPr>
        <p:grpSpPr>
          <a:xfrm>
            <a:off x="4876920" y="1905120"/>
            <a:ext cx="4190400" cy="1055520"/>
            <a:chOff x="4876920" y="1905120"/>
            <a:chExt cx="4190400" cy="1055520"/>
          </a:xfrm>
        </p:grpSpPr>
        <p:sp>
          <p:nvSpPr>
            <p:cNvPr id="415" name="Text Box 18"/>
            <p:cNvSpPr/>
            <p:nvPr/>
          </p:nvSpPr>
          <p:spPr>
            <a:xfrm>
              <a:off x="4876920" y="2286000"/>
              <a:ext cx="219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.32727</a:t>
              </a:r>
              <a:r>
                <a:rPr b="1" lang="en-US" sz="3600" spc="-1" strike="noStrike" baseline="30000">
                  <a:solidFill>
                    <a:srgbClr val="0000cc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7675200" y="2318040"/>
              <a:ext cx="139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.327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8196120" y="190512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cc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8" name="Oval 21"/>
            <p:cNvSpPr/>
            <p:nvPr/>
          </p:nvSpPr>
          <p:spPr>
            <a:xfrm>
              <a:off x="7019640" y="2394000"/>
              <a:ext cx="60768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19" name="Text Box 22"/>
          <p:cNvSpPr/>
          <p:nvPr/>
        </p:nvSpPr>
        <p:spPr>
          <a:xfrm>
            <a:off x="2438280" y="1295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5146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7010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410080" y="990720"/>
            <a:ext cx="3352680" cy="1055520"/>
            <a:chOff x="5410080" y="990720"/>
            <a:chExt cx="3352680" cy="1055520"/>
          </a:xfrm>
        </p:grpSpPr>
        <p:sp>
          <p:nvSpPr>
            <p:cNvPr id="423" name="Text Box 26"/>
            <p:cNvSpPr/>
            <p:nvPr/>
          </p:nvSpPr>
          <p:spPr>
            <a:xfrm>
              <a:off x="5410080" y="140364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4" name="Text Box 27"/>
            <p:cNvSpPr/>
            <p:nvPr/>
          </p:nvSpPr>
          <p:spPr>
            <a:xfrm>
              <a:off x="7288200" y="140364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3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5" name="Text Box 28"/>
            <p:cNvSpPr/>
            <p:nvPr/>
          </p:nvSpPr>
          <p:spPr>
            <a:xfrm>
              <a:off x="8037360" y="990720"/>
              <a:ext cx="725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6" name="Oval 29"/>
            <p:cNvSpPr/>
            <p:nvPr/>
          </p:nvSpPr>
          <p:spPr>
            <a:xfrm>
              <a:off x="6602400" y="1479600"/>
              <a:ext cx="53316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7" name="Text Box 30"/>
            <p:cNvSpPr/>
            <p:nvPr/>
          </p:nvSpPr>
          <p:spPr>
            <a:xfrm>
              <a:off x="5790960" y="990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28" name="Text Box 31"/>
          <p:cNvSpPr/>
          <p:nvPr/>
        </p:nvSpPr>
        <p:spPr>
          <a:xfrm>
            <a:off x="655308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371600" y="3200400"/>
            <a:ext cx="77724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把下面三个数按从大到小的顺序排列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5486400" y="4070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1981080" y="3689280"/>
            <a:ext cx="1143000" cy="1023480"/>
            <a:chOff x="1981080" y="3689280"/>
            <a:chExt cx="1143000" cy="1023480"/>
          </a:xfrm>
        </p:grpSpPr>
        <p:sp>
          <p:nvSpPr>
            <p:cNvPr id="432" name="Text Box 36"/>
            <p:cNvSpPr/>
            <p:nvPr/>
          </p:nvSpPr>
          <p:spPr>
            <a:xfrm>
              <a:off x="1981080" y="40701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3" name="Text Box 37"/>
            <p:cNvSpPr/>
            <p:nvPr/>
          </p:nvSpPr>
          <p:spPr>
            <a:xfrm>
              <a:off x="2590560" y="3689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34" name="Group 38"/>
          <p:cNvGrpSpPr/>
          <p:nvPr/>
        </p:nvGrpSpPr>
        <p:grpSpPr>
          <a:xfrm>
            <a:off x="3886200" y="3657600"/>
            <a:ext cx="1066680" cy="1055520"/>
            <a:chOff x="3886200" y="3657600"/>
            <a:chExt cx="1066680" cy="1055520"/>
          </a:xfrm>
        </p:grpSpPr>
        <p:sp>
          <p:nvSpPr>
            <p:cNvPr id="435" name="Text Box 39"/>
            <p:cNvSpPr/>
            <p:nvPr/>
          </p:nvSpPr>
          <p:spPr>
            <a:xfrm>
              <a:off x="3886200" y="4070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6" name="Text Box 40"/>
            <p:cNvSpPr/>
            <p:nvPr/>
          </p:nvSpPr>
          <p:spPr>
            <a:xfrm>
              <a:off x="4267080" y="3657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37" name="Text Box 41"/>
          <p:cNvSpPr/>
          <p:nvPr/>
        </p:nvSpPr>
        <p:spPr>
          <a:xfrm>
            <a:off x="1828800" y="4876920"/>
            <a:ext cx="61722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38" name="Group 42"/>
          <p:cNvGrpSpPr/>
          <p:nvPr/>
        </p:nvGrpSpPr>
        <p:grpSpPr>
          <a:xfrm>
            <a:off x="4267080" y="4572000"/>
            <a:ext cx="1143000" cy="1023480"/>
            <a:chOff x="4267080" y="4572000"/>
            <a:chExt cx="1143000" cy="1023480"/>
          </a:xfrm>
        </p:grpSpPr>
        <p:sp>
          <p:nvSpPr>
            <p:cNvPr id="439" name="Text Box 43"/>
            <p:cNvSpPr/>
            <p:nvPr/>
          </p:nvSpPr>
          <p:spPr>
            <a:xfrm>
              <a:off x="4267080" y="4952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40" name="Text Box 44"/>
            <p:cNvSpPr/>
            <p:nvPr/>
          </p:nvSpPr>
          <p:spPr>
            <a:xfrm>
              <a:off x="4876560" y="4572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41" name="Group 45"/>
          <p:cNvGrpSpPr/>
          <p:nvPr/>
        </p:nvGrpSpPr>
        <p:grpSpPr>
          <a:xfrm>
            <a:off x="2209680" y="4572000"/>
            <a:ext cx="1066680" cy="1055520"/>
            <a:chOff x="2209680" y="4572000"/>
            <a:chExt cx="1066680" cy="1055520"/>
          </a:xfrm>
        </p:grpSpPr>
        <p:sp>
          <p:nvSpPr>
            <p:cNvPr id="442" name="Text Box 46"/>
            <p:cNvSpPr/>
            <p:nvPr/>
          </p:nvSpPr>
          <p:spPr>
            <a:xfrm>
              <a:off x="2209680" y="49849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43" name="Text Box 47"/>
            <p:cNvSpPr/>
            <p:nvPr/>
          </p:nvSpPr>
          <p:spPr>
            <a:xfrm>
              <a:off x="2590560" y="4572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44" name="Text Box 48"/>
          <p:cNvSpPr/>
          <p:nvPr/>
        </p:nvSpPr>
        <p:spPr>
          <a:xfrm>
            <a:off x="624852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232920" y="-41940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拓展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un5"/>
          <p:cNvPicPr/>
          <p:nvPr/>
        </p:nvPicPr>
        <p:blipFill>
          <a:blip r:embed="rId1"/>
          <a:stretch/>
        </p:blipFill>
        <p:spPr>
          <a:xfrm>
            <a:off x="457200" y="304920"/>
            <a:ext cx="1122480" cy="11430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1981080" y="304920"/>
            <a:ext cx="2743200" cy="764280"/>
          </a:xfrm>
          <a:prstGeom prst="rect">
            <a:avLst/>
          </a:prstGeom>
          <a:solidFill>
            <a:srgbClr val="ffff00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判断正误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457200" y="1371600"/>
            <a:ext cx="6705720" cy="764280"/>
            <a:chOff x="457200" y="1371600"/>
            <a:chExt cx="6705720" cy="764280"/>
          </a:xfrm>
        </p:grpSpPr>
        <p:grpSp>
          <p:nvGrpSpPr>
            <p:cNvPr id="449" name="Group 5"/>
            <p:cNvGrpSpPr/>
            <p:nvPr/>
          </p:nvGrpSpPr>
          <p:grpSpPr>
            <a:xfrm>
              <a:off x="457200" y="1447920"/>
              <a:ext cx="685800" cy="609480"/>
              <a:chOff x="457200" y="1447920"/>
              <a:chExt cx="685800" cy="609480"/>
            </a:xfrm>
          </p:grpSpPr>
          <p:sp>
            <p:nvSpPr>
              <p:cNvPr id="450" name="Oval 6"/>
              <p:cNvSpPr/>
              <p:nvPr/>
            </p:nvSpPr>
            <p:spPr>
              <a:xfrm>
                <a:off x="457200" y="1447920"/>
                <a:ext cx="685800" cy="6094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51" name="Text Box 7"/>
              <p:cNvSpPr/>
              <p:nvPr/>
            </p:nvSpPr>
            <p:spPr>
              <a:xfrm>
                <a:off x="609480" y="14479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8"/>
            <p:cNvSpPr/>
            <p:nvPr/>
          </p:nvSpPr>
          <p:spPr>
            <a:xfrm>
              <a:off x="1600200" y="1371600"/>
              <a:ext cx="556272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.7777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是循环小数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(   )</a:t>
              </a:r>
              <a:endParaRPr b="0" lang="en-US" sz="4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53" name="Group 9"/>
          <p:cNvGrpSpPr/>
          <p:nvPr/>
        </p:nvGrpSpPr>
        <p:grpSpPr>
          <a:xfrm>
            <a:off x="457200" y="2209680"/>
            <a:ext cx="5181480" cy="1069200"/>
            <a:chOff x="457200" y="2209680"/>
            <a:chExt cx="5181480" cy="1069200"/>
          </a:xfrm>
        </p:grpSpPr>
        <p:grpSp>
          <p:nvGrpSpPr>
            <p:cNvPr id="454" name="Group 10"/>
            <p:cNvGrpSpPr/>
            <p:nvPr/>
          </p:nvGrpSpPr>
          <p:grpSpPr>
            <a:xfrm>
              <a:off x="457200" y="2514600"/>
              <a:ext cx="685800" cy="609480"/>
              <a:chOff x="457200" y="2514600"/>
              <a:chExt cx="685800" cy="60948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457200" y="2514600"/>
                <a:ext cx="685800" cy="6094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56" name="Text Box 12"/>
              <p:cNvSpPr/>
              <p:nvPr/>
            </p:nvSpPr>
            <p:spPr>
              <a:xfrm>
                <a:off x="609480" y="25146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Text Box 13"/>
            <p:cNvSpPr/>
            <p:nvPr/>
          </p:nvSpPr>
          <p:spPr>
            <a:xfrm>
              <a:off x="1600200" y="2514600"/>
              <a:ext cx="403848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.3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＞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.333 (   )</a:t>
              </a:r>
              <a:endParaRPr b="0" lang="en-US" sz="4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2133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59" name="Group 15"/>
          <p:cNvGrpSpPr/>
          <p:nvPr/>
        </p:nvGrpSpPr>
        <p:grpSpPr>
          <a:xfrm>
            <a:off x="468360" y="3500280"/>
            <a:ext cx="5181480" cy="1024560"/>
            <a:chOff x="468360" y="3500280"/>
            <a:chExt cx="5181480" cy="1024560"/>
          </a:xfrm>
        </p:grpSpPr>
        <p:grpSp>
          <p:nvGrpSpPr>
            <p:cNvPr id="460" name="Group 16"/>
            <p:cNvGrpSpPr/>
            <p:nvPr/>
          </p:nvGrpSpPr>
          <p:grpSpPr>
            <a:xfrm>
              <a:off x="468360" y="3728880"/>
              <a:ext cx="5181480" cy="795960"/>
              <a:chOff x="468360" y="3728880"/>
              <a:chExt cx="5181480" cy="795960"/>
            </a:xfrm>
          </p:grpSpPr>
          <p:grpSp>
            <p:nvGrpSpPr>
              <p:cNvPr id="461" name="Group 17"/>
              <p:cNvGrpSpPr/>
              <p:nvPr/>
            </p:nvGrpSpPr>
            <p:grpSpPr>
              <a:xfrm>
                <a:off x="468360" y="3728880"/>
                <a:ext cx="685800" cy="609480"/>
                <a:chOff x="468360" y="3728880"/>
                <a:chExt cx="685800" cy="609480"/>
              </a:xfrm>
            </p:grpSpPr>
            <p:sp>
              <p:nvSpPr>
                <p:cNvPr id="462" name="Oval 18"/>
                <p:cNvSpPr/>
                <p:nvPr/>
              </p:nvSpPr>
              <p:spPr>
                <a:xfrm>
                  <a:off x="468360" y="3728880"/>
                  <a:ext cx="685800" cy="609480"/>
                </a:xfrm>
                <a:prstGeom prst="ellipse">
                  <a:avLst/>
                </a:prstGeom>
                <a:solidFill>
                  <a:srgbClr val="e5d58a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Text Box 19"/>
                <p:cNvSpPr/>
                <p:nvPr/>
              </p:nvSpPr>
              <p:spPr>
                <a:xfrm>
                  <a:off x="620640" y="372888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Text Box 20"/>
              <p:cNvSpPr/>
              <p:nvPr/>
            </p:nvSpPr>
            <p:spPr>
              <a:xfrm>
                <a:off x="1611360" y="3760560"/>
                <a:ext cx="4038480" cy="76428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Times New Roman"/>
                  </a:rPr>
                  <a:t>2.07=2.07 (   )</a:t>
                </a:r>
                <a:endParaRPr b="0" lang="en-US" sz="4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21"/>
            <p:cNvSpPr/>
            <p:nvPr/>
          </p:nvSpPr>
          <p:spPr>
            <a:xfrm>
              <a:off x="3516480" y="3500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468360" y="4653000"/>
            <a:ext cx="8458200" cy="1191240"/>
            <a:chOff x="468360" y="4653000"/>
            <a:chExt cx="8458200" cy="1191240"/>
          </a:xfrm>
        </p:grpSpPr>
        <p:grpSp>
          <p:nvGrpSpPr>
            <p:cNvPr id="467" name="Group 23"/>
            <p:cNvGrpSpPr/>
            <p:nvPr/>
          </p:nvGrpSpPr>
          <p:grpSpPr>
            <a:xfrm>
              <a:off x="468360" y="4932360"/>
              <a:ext cx="8458200" cy="711000"/>
              <a:chOff x="468360" y="4932360"/>
              <a:chExt cx="8458200" cy="711000"/>
            </a:xfrm>
          </p:grpSpPr>
          <p:grpSp>
            <p:nvGrpSpPr>
              <p:cNvPr id="468" name="Group 24"/>
              <p:cNvGrpSpPr/>
              <p:nvPr/>
            </p:nvGrpSpPr>
            <p:grpSpPr>
              <a:xfrm>
                <a:off x="468360" y="5033880"/>
                <a:ext cx="685800" cy="609480"/>
                <a:chOff x="468360" y="5033880"/>
                <a:chExt cx="685800" cy="609480"/>
              </a:xfrm>
            </p:grpSpPr>
            <p:sp>
              <p:nvSpPr>
                <p:cNvPr id="469" name="Oval 25"/>
                <p:cNvSpPr/>
                <p:nvPr/>
              </p:nvSpPr>
              <p:spPr>
                <a:xfrm>
                  <a:off x="468360" y="5033880"/>
                  <a:ext cx="685800" cy="609480"/>
                </a:xfrm>
                <a:prstGeom prst="ellipse">
                  <a:avLst/>
                </a:prstGeom>
                <a:solidFill>
                  <a:srgbClr val="e5d58a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Text Box 26"/>
                <p:cNvSpPr/>
                <p:nvPr/>
              </p:nvSpPr>
              <p:spPr>
                <a:xfrm>
                  <a:off x="620640" y="503388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Text Box 27"/>
              <p:cNvSpPr/>
              <p:nvPr/>
            </p:nvSpPr>
            <p:spPr>
              <a:xfrm>
                <a:off x="1611360" y="4932360"/>
                <a:ext cx="7315200" cy="70344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13.243243… … </a:t>
                </a: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可写作</a:t>
                </a: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13.24 (   )</a:t>
                </a:r>
                <a:endParaRPr b="0" lang="en-US" sz="4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28"/>
            <p:cNvSpPr/>
            <p:nvPr/>
          </p:nvSpPr>
          <p:spPr>
            <a:xfrm>
              <a:off x="7021440" y="46530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  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73" name="Text Box 29"/>
          <p:cNvSpPr/>
          <p:nvPr/>
        </p:nvSpPr>
        <p:spPr>
          <a:xfrm>
            <a:off x="7885080" y="50846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4284720" y="38606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6172200" y="15080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Text Box 32"/>
          <p:cNvSpPr/>
          <p:nvPr/>
        </p:nvSpPr>
        <p:spPr>
          <a:xfrm>
            <a:off x="4419720" y="2590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77" name="Picture 33" descr="ds知识应用"/>
          <p:cNvPicPr/>
          <p:nvPr/>
        </p:nvPicPr>
        <p:blipFill>
          <a:blip r:embed="rId2"/>
          <a:stretch/>
        </p:blipFill>
        <p:spPr>
          <a:xfrm>
            <a:off x="8305920" y="6172200"/>
            <a:ext cx="68580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ds知识应用"/>
          <p:cNvPicPr/>
          <p:nvPr/>
        </p:nvPicPr>
        <p:blipFill>
          <a:blip r:embed="rId1"/>
          <a:stretch/>
        </p:blipFill>
        <p:spPr>
          <a:xfrm>
            <a:off x="1474920" y="53352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1915920" y="1219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根据特点分类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600200" y="30481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节从小数部分第一位开始的，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纯循环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600200" y="4114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节不是从小数部分第一位开始的，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混循环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82" name="Group 6"/>
          <p:cNvGrpSpPr/>
          <p:nvPr/>
        </p:nvGrpSpPr>
        <p:grpSpPr>
          <a:xfrm>
            <a:off x="1762560" y="1523880"/>
            <a:ext cx="6693480" cy="1459080"/>
            <a:chOff x="1762560" y="1523880"/>
            <a:chExt cx="6693480" cy="1459080"/>
          </a:xfrm>
        </p:grpSpPr>
        <p:sp>
          <p:nvSpPr>
            <p:cNvPr id="483" name="Text Box 7"/>
            <p:cNvSpPr/>
            <p:nvPr/>
          </p:nvSpPr>
          <p:spPr>
            <a:xfrm>
              <a:off x="1762560" y="1523880"/>
              <a:ext cx="59738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第一类：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24382438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            8.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4747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第二类：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666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                 0.44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222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4955040" y="160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65040" y="160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4136040" y="22860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7469640" y="230004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88" name="Text Box 12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知识应用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s知识拓展"/>
          <p:cNvPicPr/>
          <p:nvPr/>
        </p:nvPicPr>
        <p:blipFill>
          <a:blip r:embed="rId1"/>
          <a:stretch/>
        </p:blipFill>
        <p:spPr>
          <a:xfrm>
            <a:off x="1501920" y="304920"/>
            <a:ext cx="1622160" cy="399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3">
            <a:hlinkClick r:id="rId2"/>
          </p:cNvPr>
          <p:cNvPicPr/>
          <p:nvPr/>
        </p:nvPicPr>
        <p:blipFill>
          <a:blip r:embed="rId3"/>
          <a:srcRect l="0" t="0" r="0" b="7472"/>
          <a:stretch/>
        </p:blipFill>
        <p:spPr>
          <a:xfrm>
            <a:off x="1982880" y="1143000"/>
            <a:ext cx="5637240" cy="39132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拓展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00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579132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64760" y="-15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谈一谈：今天你有什么收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520" y="1490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有限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不循环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无限小数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　　　　　循环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2666880" y="1052640"/>
            <a:ext cx="287280" cy="23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4965840" y="2743200"/>
            <a:ext cx="215640" cy="1366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762120" y="4191120"/>
            <a:ext cx="8540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小数，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数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某一位起，一个数字或者几个数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依次不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重复出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样的小数叫做循环小数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863640" y="5562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小数部分依次不断重复的一个或几个数字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叫做这个循环小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循环节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小结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83A-8BBF-4B86-A16D-EE5CC19EF0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8"/>
          <p:cNvSpPr/>
          <p:nvPr/>
        </p:nvSpPr>
        <p:spPr>
          <a:xfrm>
            <a:off x="236232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6" name="Picture 2" descr="gif004"/>
          <p:cNvPicPr/>
          <p:nvPr/>
        </p:nvPicPr>
        <p:blipFill>
          <a:blip r:embed="rId1"/>
          <a:stretch/>
        </p:blipFill>
        <p:spPr>
          <a:xfrm>
            <a:off x="1447920" y="5029200"/>
            <a:ext cx="115236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1"/>
          <p:cNvSpPr/>
          <p:nvPr/>
        </p:nvSpPr>
        <p:spPr>
          <a:xfrm>
            <a:off x="236160" y="-226440"/>
            <a:ext cx="9115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教学例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8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8" name="Picture 32" descr="image001"/>
          <p:cNvPicPr/>
          <p:nvPr/>
        </p:nvPicPr>
        <p:blipFill>
          <a:blip r:embed="rId2"/>
          <a:stretch/>
        </p:blipFill>
        <p:spPr>
          <a:xfrm>
            <a:off x="1295280" y="0"/>
            <a:ext cx="7696440" cy="41911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4"/>
          <p:cNvSpPr/>
          <p:nvPr/>
        </p:nvSpPr>
        <p:spPr>
          <a:xfrm>
            <a:off x="3352680" y="4343400"/>
            <a:ext cx="3733920" cy="1066680"/>
          </a:xfrm>
          <a:prstGeom prst="cloudCallout">
            <a:avLst>
              <a:gd name="adj1" fmla="val -70069"/>
              <a:gd name="adj2" fmla="val 52379"/>
            </a:avLst>
          </a:prstGeom>
          <a:solidFill>
            <a:srgbClr val="ffff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根据以上信息，你能列出什么算式呢？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500120" y="8377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循环小数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1.360360</a:t>
            </a:r>
            <a:r>
              <a:rPr b="1" lang="en-US" sz="4400" spc="-1" strike="noStrike" baseline="30000">
                <a:solidFill>
                  <a:srgbClr val="00001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小数部分第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50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位上是数字几？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勇敢尝试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06" name="Group 9"/>
          <p:cNvGrpSpPr/>
          <p:nvPr/>
        </p:nvGrpSpPr>
        <p:grpSpPr>
          <a:xfrm>
            <a:off x="1338120" y="2666880"/>
            <a:ext cx="7805880" cy="1739880"/>
            <a:chOff x="1338120" y="2666880"/>
            <a:chExt cx="7805880" cy="1739880"/>
          </a:xfrm>
        </p:grpSpPr>
        <p:sp>
          <p:nvSpPr>
            <p:cNvPr id="507" name="Text Box 7"/>
            <p:cNvSpPr/>
            <p:nvPr/>
          </p:nvSpPr>
          <p:spPr>
            <a:xfrm>
              <a:off x="1338120" y="2666880"/>
              <a:ext cx="7805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想：这个循环小数的循环节是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736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，从小数部分第一位就开始循环，就可以用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50÷3=16          2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，所以小数部分第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50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位上的数字是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6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。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8" name="Text Box 8"/>
            <p:cNvSpPr/>
            <p:nvPr/>
          </p:nvSpPr>
          <p:spPr>
            <a:xfrm>
              <a:off x="5182920" y="3644640"/>
              <a:ext cx="19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……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002"/>
          <p:cNvPicPr/>
          <p:nvPr/>
        </p:nvPicPr>
        <p:blipFill>
          <a:blip r:embed="rId1"/>
          <a:stretch/>
        </p:blipFill>
        <p:spPr>
          <a:xfrm>
            <a:off x="0" y="-27000"/>
            <a:ext cx="9109080" cy="6885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-468360" y="1488960"/>
            <a:ext cx="101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00"/>
                </a:solidFill>
                <a:latin typeface="Arial"/>
                <a:ea typeface="华文行楷"/>
              </a:rPr>
              <a:t>谢谢大家</a:t>
            </a:r>
            <a:endParaRPr b="0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-468360" y="3124080"/>
            <a:ext cx="1011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3300"/>
                </a:solidFill>
                <a:latin typeface="Arial"/>
                <a:ea typeface="华文行楷"/>
              </a:rPr>
              <a:t>再见</a:t>
            </a:r>
            <a:endParaRPr b="0" lang="en-US" sz="15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"/>
          <p:cNvSpPr/>
          <p:nvPr/>
        </p:nvSpPr>
        <p:spPr>
          <a:xfrm>
            <a:off x="2362320" y="1371600"/>
            <a:ext cx="26668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2096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 0 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601640" y="12952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7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989080" y="6922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5.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557440" y="1773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3 7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2514600" y="2362320"/>
            <a:ext cx="1981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844720" y="2349360"/>
            <a:ext cx="10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 5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493800" y="692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844720" y="2852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2590920" y="3429000"/>
            <a:ext cx="17524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133800" y="3429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851280" y="692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133800" y="3860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819520" y="4495680"/>
            <a:ext cx="16761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493800" y="4437000"/>
            <a:ext cx="10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 5</a:t>
            </a: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494160" y="4869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895480" y="5410080"/>
            <a:ext cx="167652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3781440" y="5445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781440" y="5805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V="1">
            <a:off x="3124080" y="6308640"/>
            <a:ext cx="1808280" cy="158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4141800" y="62164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1523880" y="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00÷75 =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762000" y="0"/>
            <a:ext cx="17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5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333</a:t>
            </a:r>
            <a:r>
              <a:rPr b="0" lang="en-US" sz="4800" spc="-1" strike="noStrike" baseline="30000">
                <a:solidFill>
                  <a:srgbClr val="333300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141800" y="692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4357800" y="692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4932360" y="155736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余数重复出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4859280" y="249228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商的小数部分重复      出现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4859280" y="3789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永远也除不完，   商是无限的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-452160" y="152280"/>
            <a:ext cx="1642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发现规律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447920" y="0"/>
            <a:ext cx="3429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计算下面两题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06668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28÷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8=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085840" y="1989000"/>
            <a:ext cx="1800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828800" y="1989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 8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353960" y="19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2039760" y="2924280"/>
            <a:ext cx="100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103120" y="13716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116080" y="2421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154240" y="29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413080" y="1371600"/>
            <a:ext cx="8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42064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979640" y="378936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382840" y="3716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649240" y="4076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2208240" y="458136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666880" y="1371600"/>
            <a:ext cx="8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2675160" y="4508640"/>
            <a:ext cx="9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954160" y="486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2438280" y="53737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 flipH="1">
            <a:off x="2869560" y="13716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941560" y="5373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445920" y="53352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555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9720" y="533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78 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.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6÷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1=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435640" y="1752480"/>
            <a:ext cx="1800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16240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 8. 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4717800" y="16765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5435280" y="11430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5457600" y="19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 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5816520" y="2438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5219640" y="251460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608616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5816520" y="2743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5651640" y="3200400"/>
            <a:ext cx="129672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6054480" y="31240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3738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6086160" y="342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 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Text Box 39"/>
          <p:cNvSpPr/>
          <p:nvPr/>
        </p:nvSpPr>
        <p:spPr>
          <a:xfrm>
            <a:off x="6392880" y="3886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5796000" y="39625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666108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8" name="Text Box 42"/>
          <p:cNvSpPr/>
          <p:nvPr/>
        </p:nvSpPr>
        <p:spPr>
          <a:xfrm>
            <a:off x="6373800" y="4191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 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154560" y="46483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Text Box 44"/>
          <p:cNvSpPr/>
          <p:nvPr/>
        </p:nvSpPr>
        <p:spPr>
          <a:xfrm>
            <a:off x="6661080" y="4572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1" name="Text Box 45"/>
          <p:cNvSpPr/>
          <p:nvPr/>
        </p:nvSpPr>
        <p:spPr>
          <a:xfrm>
            <a:off x="687528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661080" y="48769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 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443640" y="53341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6897600" y="5562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 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6897600" y="5257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Text Box 50"/>
          <p:cNvSpPr/>
          <p:nvPr/>
        </p:nvSpPr>
        <p:spPr>
          <a:xfrm>
            <a:off x="7165800" y="123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659640" y="60199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7165800" y="59436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7302960" y="533520"/>
            <a:ext cx="15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4545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继续探索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30480" y="359100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7.14545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6858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5.33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382760" y="206064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1.555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451320" y="404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一位起    一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11948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3371760" y="1916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一位起    一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75000" y="34416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二位起   二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140360" y="4762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一个小数的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小数部分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，从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某一位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起，一个数字或者几个数字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依次不断重复出现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，这样的小数叫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循环小数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2920" y="-386640"/>
            <a:ext cx="91152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概括规律</a:t>
            </a:r>
            <a:r>
              <a:rPr b="0" lang="zh-CN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530360" y="38088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判断下列各数哪些是循环小数？哪些不是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733920" y="1004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696080" y="990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81280" y="1600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92468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58128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80010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733920" y="3290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752480" y="411336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小数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无限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，无限小数的小数部分的位数是无限的，而小数部分的位数是有限的小数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有限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69" name="Group 12"/>
          <p:cNvGrpSpPr/>
          <p:nvPr/>
        </p:nvGrpSpPr>
        <p:grpSpPr>
          <a:xfrm>
            <a:off x="817200" y="914400"/>
            <a:ext cx="8818920" cy="2972160"/>
            <a:chOff x="817200" y="914400"/>
            <a:chExt cx="8818920" cy="2972160"/>
          </a:xfrm>
        </p:grpSpPr>
        <p:sp>
          <p:nvSpPr>
            <p:cNvPr id="270" name="Text Box 13"/>
            <p:cNvSpPr/>
            <p:nvPr/>
          </p:nvSpPr>
          <p:spPr>
            <a:xfrm>
              <a:off x="893160" y="1004760"/>
              <a:ext cx="86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666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2.35435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818640" y="1476360"/>
              <a:ext cx="8719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1.4555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24382438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817200" y="2314440"/>
              <a:ext cx="8818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2.58080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44222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1201320" y="3152880"/>
              <a:ext cx="3740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8.4747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4" name="Text Box 17"/>
            <p:cNvSpPr/>
            <p:nvPr/>
          </p:nvSpPr>
          <p:spPr>
            <a:xfrm>
              <a:off x="2607120" y="914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2568600" y="32385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6300360" y="2400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7" name="Text Box 20"/>
            <p:cNvSpPr/>
            <p:nvPr/>
          </p:nvSpPr>
          <p:spPr>
            <a:xfrm>
              <a:off x="6834240" y="1538280"/>
              <a:ext cx="9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78" name="Text Box 22"/>
          <p:cNvSpPr/>
          <p:nvPr/>
        </p:nvSpPr>
        <p:spPr>
          <a:xfrm>
            <a:off x="-498240" y="76320"/>
            <a:ext cx="1642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分析比较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9" name="Picture 23" descr="ds知识应用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" descr="yu"/>
          <p:cNvPicPr/>
          <p:nvPr/>
        </p:nvPicPr>
        <p:blipFill>
          <a:blip r:embed="rId2"/>
          <a:stretch/>
        </p:blipFill>
        <p:spPr>
          <a:xfrm>
            <a:off x="2819520" y="3809880"/>
            <a:ext cx="411480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2280960" y="623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依次不断重复出现的数字是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419720" y="1676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114800" y="22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243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343400" y="3048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4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419720" y="3733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398920" y="1752480"/>
            <a:ext cx="374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一个循环小数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小数部分，依次重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出现的数字，叫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小数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循环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948240" y="1447920"/>
            <a:ext cx="5104800" cy="2824200"/>
            <a:chOff x="948240" y="1447920"/>
            <a:chExt cx="5104800" cy="2824200"/>
          </a:xfrm>
        </p:grpSpPr>
        <p:sp>
          <p:nvSpPr>
            <p:cNvPr id="288" name="Text Box 10"/>
            <p:cNvSpPr/>
            <p:nvPr/>
          </p:nvSpPr>
          <p:spPr>
            <a:xfrm>
              <a:off x="948240" y="1447920"/>
              <a:ext cx="510480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666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2382438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8.4747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44222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2622960" y="15242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3327840" y="2210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2565720" y="28958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2794320" y="3581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93" name="Text Box 15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继续探索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600200" y="547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简便写法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676520" y="1219320"/>
            <a:ext cx="6400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循环小数的时候，为了简便，小数的循环部分只写出第一个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循环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，并在这个循环节的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首位和末位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数字上面各记一个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圆点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作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3.3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800600" y="36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·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429000" y="45194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作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5.32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99" name="Group 31"/>
          <p:cNvGrpSpPr/>
          <p:nvPr/>
        </p:nvGrpSpPr>
        <p:grpSpPr>
          <a:xfrm>
            <a:off x="4648320" y="4290840"/>
            <a:ext cx="1675800" cy="520560"/>
            <a:chOff x="4648320" y="4290840"/>
            <a:chExt cx="1675800" cy="520560"/>
          </a:xfrm>
        </p:grpSpPr>
        <p:sp>
          <p:nvSpPr>
            <p:cNvPr id="300" name="Text Box 13"/>
            <p:cNvSpPr/>
            <p:nvPr/>
          </p:nvSpPr>
          <p:spPr>
            <a:xfrm>
              <a:off x="4648320" y="4290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4876560" y="42908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2" name="Rectangle 17"/>
          <p:cNvSpPr/>
          <p:nvPr/>
        </p:nvSpPr>
        <p:spPr>
          <a:xfrm>
            <a:off x="5811120" y="396252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点三   三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889600" y="455616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点三二七   二七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3505320" y="5119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写作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6.258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05" name="Group 34"/>
          <p:cNvGrpSpPr/>
          <p:nvPr/>
        </p:nvGrpSpPr>
        <p:grpSpPr>
          <a:xfrm>
            <a:off x="4572000" y="4890960"/>
            <a:ext cx="685800" cy="520560"/>
            <a:chOff x="4572000" y="4890960"/>
            <a:chExt cx="685800" cy="520560"/>
          </a:xfrm>
        </p:grpSpPr>
        <p:sp>
          <p:nvSpPr>
            <p:cNvPr id="306" name="Text Box 21"/>
            <p:cNvSpPr/>
            <p:nvPr/>
          </p:nvSpPr>
          <p:spPr>
            <a:xfrm>
              <a:off x="4572000" y="48909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7" name="Text Box 22"/>
            <p:cNvSpPr/>
            <p:nvPr/>
          </p:nvSpPr>
          <p:spPr>
            <a:xfrm>
              <a:off x="4952880" y="48909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8" name="Rectangle 23"/>
          <p:cNvSpPr/>
          <p:nvPr/>
        </p:nvSpPr>
        <p:spPr>
          <a:xfrm>
            <a:off x="5788800" y="516564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点二五八   二五八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09" name="Group 25"/>
          <p:cNvGrpSpPr/>
          <p:nvPr/>
        </p:nvGrpSpPr>
        <p:grpSpPr>
          <a:xfrm>
            <a:off x="1523880" y="3871800"/>
            <a:ext cx="1337760" cy="610920"/>
            <a:chOff x="1523880" y="3871800"/>
            <a:chExt cx="1337760" cy="610920"/>
          </a:xfrm>
        </p:grpSpPr>
        <p:sp>
          <p:nvSpPr>
            <p:cNvPr id="310" name="Text Box 15"/>
            <p:cNvSpPr/>
            <p:nvPr/>
          </p:nvSpPr>
          <p:spPr>
            <a:xfrm>
              <a:off x="2325960" y="3871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1" name="Text Box 24"/>
            <p:cNvSpPr/>
            <p:nvPr/>
          </p:nvSpPr>
          <p:spPr>
            <a:xfrm>
              <a:off x="1523880" y="39621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33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12" name="Group 27"/>
          <p:cNvGrpSpPr/>
          <p:nvPr/>
        </p:nvGrpSpPr>
        <p:grpSpPr>
          <a:xfrm>
            <a:off x="1447920" y="4424400"/>
            <a:ext cx="1947240" cy="591840"/>
            <a:chOff x="1447920" y="4424400"/>
            <a:chExt cx="1947240" cy="591840"/>
          </a:xfrm>
        </p:grpSpPr>
        <p:sp>
          <p:nvSpPr>
            <p:cNvPr id="313" name="Text Box 16"/>
            <p:cNvSpPr/>
            <p:nvPr/>
          </p:nvSpPr>
          <p:spPr>
            <a:xfrm>
              <a:off x="2859480" y="4424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4" name="Text Box 26"/>
            <p:cNvSpPr/>
            <p:nvPr/>
          </p:nvSpPr>
          <p:spPr>
            <a:xfrm>
              <a:off x="1447920" y="4495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5.32727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15" name="Group 29"/>
          <p:cNvGrpSpPr/>
          <p:nvPr/>
        </p:nvGrpSpPr>
        <p:grpSpPr>
          <a:xfrm>
            <a:off x="1447920" y="5029200"/>
            <a:ext cx="1598040" cy="610920"/>
            <a:chOff x="1447920" y="5029200"/>
            <a:chExt cx="1598040" cy="610920"/>
          </a:xfrm>
        </p:grpSpPr>
        <p:sp>
          <p:nvSpPr>
            <p:cNvPr id="316" name="Text Box 20"/>
            <p:cNvSpPr/>
            <p:nvPr/>
          </p:nvSpPr>
          <p:spPr>
            <a:xfrm>
              <a:off x="2510280" y="5029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1447920" y="5119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6.258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18" name="Text Box 33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应用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19" name="Picture 35" descr="ds知识应用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492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240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s知识拓展"/>
          <p:cNvPicPr/>
          <p:nvPr/>
        </p:nvPicPr>
        <p:blipFill>
          <a:blip r:embed="rId1"/>
          <a:stretch/>
        </p:blipFill>
        <p:spPr>
          <a:xfrm>
            <a:off x="1501920" y="22860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555920" y="838080"/>
            <a:ext cx="58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请用正确的简便方法表示循环小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23" name="Picture 4" descr="1">
            <a:hlinkClick r:id="rId2"/>
          </p:cNvPr>
          <p:cNvPicPr/>
          <p:nvPr/>
        </p:nvPicPr>
        <p:blipFill>
          <a:blip r:embed="rId3"/>
          <a:srcRect l="0" t="0" r="0" b="7598"/>
          <a:stretch/>
        </p:blipFill>
        <p:spPr>
          <a:xfrm>
            <a:off x="2058840" y="1600200"/>
            <a:ext cx="5180040" cy="3591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拓展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47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46:27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