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23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9.jpeg" ContentType="image/jpeg"/>
  <Override PartName="/ppt/media/image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470-E317-4C2A-AF9B-517D62BD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B20-A1BD-4F6B-8B68-5BEFB3B7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CFE-0089-4752-871E-E2240C3E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E02-9644-4748-92E3-1A826EA4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05C-78F4-4DAA-B582-5A0E6467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EB5-23F8-423D-BEE0-8CE3F077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7D4-4525-478F-B3C9-0C05AACB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3BD-DA43-4DBC-9460-B8D0BC80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E7A-0165-4724-86A6-49D3FDBF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C69-5D9D-4407-BAA4-B229F80D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4D4-ACE4-4B4B-9168-BFDCEB42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C35-24D9-4563-8F5A-338D5579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F998-E477-4AB8-93AF-BC43E5417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-36360" y="-9828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 flipH="1">
            <a:off x="1763640" y="314172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曹雪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枉凝眉.mp3" descr=""/>
          <p:cNvPicPr/>
          <p:nvPr/>
        </p:nvPicPr>
        <p:blipFill>
          <a:blip r:embed="rId2"/>
          <a:stretch/>
        </p:blipFill>
        <p:spPr>
          <a:xfrm>
            <a:off x="1522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63817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4640" y="836640"/>
            <a:ext cx="3498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Times New Roman"/>
              </a:rPr>
              <a:t>香菱学诗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hlm_09"/>
          <p:cNvPicPr/>
          <p:nvPr/>
        </p:nvPicPr>
        <p:blipFill>
          <a:blip r:embed="rId1"/>
          <a:stretch/>
        </p:blipFill>
        <p:spPr>
          <a:xfrm>
            <a:off x="0" y="0"/>
            <a:ext cx="8915400" cy="1074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20050628110453560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4019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0" y="3657600"/>
            <a:ext cx="914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五回中，贾宝玉梦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太虚幻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翻看副册时，只见画着一株桂花，下面有一池沼，其中水涸泥干，莲枯藕败，后面书云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根并荷花一茎香，平生遭际实堪伤。自从两地生孤木，致使香魂返故乡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判词说的就是香菱。她在小说中是出场最早的薄命女，自幼被拐，十几岁时被呆霸王薛蟠强买为妾，后来正妻金桂一来，她的命运就更为不堪，很快就被折磨致死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叹香菱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79280" y="-98280"/>
            <a:ext cx="57913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香菱是一个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从官宦小姐沦为奴婢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的悲剧人物。她有着不幸的命运：从小遭受灾难，被拐卖，又被呆霸王薛蟠生拖死拽弄到家里，终于沦为侍妾，受尽凌辱和折磨。薛蟠遭打外出后，香菱住进了大观园，有机会接触大观园内这许多富于才情的少女们，特别是像林黛玉这样的才女，萌发了强烈的精神追求，本文就是从香菱刻苦学诗写起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2005523125057"/>
          <p:cNvPicPr/>
          <p:nvPr/>
        </p:nvPicPr>
        <p:blipFill>
          <a:blip r:embed="rId1"/>
          <a:stretch/>
        </p:blipFill>
        <p:spPr>
          <a:xfrm>
            <a:off x="5908680" y="228600"/>
            <a:ext cx="3235320" cy="6477120"/>
          </a:xfrm>
          <a:prstGeom prst="rect">
            <a:avLst/>
          </a:prstGeom>
          <a:ln w="0">
            <a:noFill/>
          </a:ln>
        </p:spPr>
      </p:pic>
      <p:pic>
        <p:nvPicPr>
          <p:cNvPr id="74" name="叹香菱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200411102026100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叹香菱1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-36360" y="44280"/>
            <a:ext cx="91440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字音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阮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庾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鲍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ào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暧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à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í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ào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纨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á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藕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ǒ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　　榭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iè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坞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鳏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u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橄榄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腻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摩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jié)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揣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摩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u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蘅芜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é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ú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uà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205740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词语解释：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造化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腻烦：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揣摩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诌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鳏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穿凿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地灵人杰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自暴自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起承转合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676520" y="838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福气；运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600200" y="1523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因次数过多或时间过长而感到厌倦。</a:t>
            </a: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523880" y="21337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反复思考推求。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295280" y="28195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编造言词。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144792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形容忧愁失眠的样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1447920" y="40384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非常牵强的解释，把没有这种意思的说成有这种意思。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981080" y="47242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山川灵秀，人物杰出。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2057400" y="54100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自己甘心落后，不求上进。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1979640" y="59500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旧时写文章常用的行文的顺序。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0" y="304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香菱学诗的过程分为几个阶段，如何概括？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1600200"/>
            <a:ext cx="914400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香菱学诗可分三个步骤：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拜黛玉为师，并在黛玉的指导下细细品味王维诗；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边读杜甫诗，一边尝试作诗；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经历了两次失败，终于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0" descr="2005320951860770"/>
          <p:cNvPicPr/>
          <p:nvPr/>
        </p:nvPicPr>
        <p:blipFill>
          <a:blip r:embed="rId1">
            <a:lum contrast="-48000"/>
            <a:alphaModFix amt="50000"/>
          </a:blip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文中哪些语句表现出香菱学诗的专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114300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香菱拿了诗，回至蘅芜苑中，诸事不顾，只向灯下一首一首的读起来。宝钗连催她数次睡觉，她也不睡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24382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如此茶饭无心，坐卧不定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0" y="32986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只在池边树下，或坐在山石上出神，或蹲在地下抠土，来往的人都诧异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0" y="4648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至三更以后上床卧下，两眼鳏鳏，直到五更方才朦胧睡去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4952880" y="152280"/>
            <a:ext cx="35816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香菱学诗的过程表现了一种什么精神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请用自己的话进行概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105520" y="4191120"/>
            <a:ext cx="3429000" cy="21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专心致志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废寝忘食。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hj005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u=1511407228,2066329400&amp;gp=1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380880" y="304920"/>
            <a:ext cx="784872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请你对香菱写的第三首诗作一点分析理解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精华欲掩料应难，影自娟娟魄自寒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一片砧敲千里白，半轮鸡唱五更残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绿蓑江上秋闻笛，红袖楼头夜倚栏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博得嫦娥应借问，缘何不使永团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3124080" y="152280"/>
            <a:ext cx="5562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曹雪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字梦阮，号雪芹，又号芹溪、芹圃。祖籍今辽宁省辽阳市。曹雪芹约于乾隆九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4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后开始写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石头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后来雪芹贫病交迫，乾隆二十七年壬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6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殇子，禁不起丧子之痛，此年除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6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雪芹病逝，终年虚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曹雪芹生于荣华，中经巨变，历尽沧桑，于世态所味甚深，而又博学通识，才华富赡，胸多波澜，笔无滞碍，才得成此绝世之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38EDJAU5_0"/>
          <p:cNvPicPr/>
          <p:nvPr/>
        </p:nvPicPr>
        <p:blipFill>
          <a:blip r:embed="rId1"/>
          <a:stretch/>
        </p:blipFill>
        <p:spPr>
          <a:xfrm>
            <a:off x="228600" y="342900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aoxq"/>
          <p:cNvPicPr/>
          <p:nvPr/>
        </p:nvPicPr>
        <p:blipFill>
          <a:blip r:embed="rId2"/>
          <a:stretch/>
        </p:blipFill>
        <p:spPr>
          <a:xfrm>
            <a:off x="228600" y="152280"/>
            <a:ext cx="2362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u=2748206453,3481156265&amp;gp=0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228600" y="2514600"/>
            <a:ext cx="4419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她仿佛对月低吟，顾影自怜，把自己沉痛的遭遇融入寒月之中，结句的感喟本是自己的心声，却推给处境同样寂寞的嫦娥，曲折含蓄。</a:t>
            </a:r>
            <a:r>
              <a:rPr b="1" lang="zh-CN" sz="37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304920" y="380880"/>
            <a:ext cx="85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从文章中你觉得香菱是一个怎样的人？从哪里可以看出来？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　　精华灵秀，悟性极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685800" y="1981080"/>
            <a:ext cx="8001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学诗时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挖心搜胆，耳不旁听，目不别视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，已到了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呆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疯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魔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的程度。</a:t>
            </a:r>
            <a:r>
              <a:rPr b="1" lang="zh-CN" sz="25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85800" y="495288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　　她说：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诗的好处，有口里说不出来的意思，想去却是逼真的。有似乎无理的，想去竟是有理有情的。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en-US" sz="25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62120" y="3276720"/>
            <a:ext cx="716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　　诸事不顾，只向灯下一首一首地读起来。宝钗连催他数次睡觉，他也不睡。宝钗见他这般苦心，只得随他去了。</a:t>
            </a:r>
            <a:r>
              <a:rPr b="1" lang="zh-CN" sz="25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20055261747529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3808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文中林黛玉论写诗是如何论的？你有哪些感触？</a:t>
            </a:r>
            <a:r>
              <a:rPr b="1" lang="zh-CN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1143000"/>
            <a:ext cx="91440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不过是起承转合，当中承转是两副对子，平声对仄声，虚的对实的，实的对虚的，若是果有了奇句，连平仄虚实不对都使得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"</a:t>
            </a:r>
            <a:r>
              <a:rPr b="1" lang="en-US" sz="25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26668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词句究竟还是末事，第一立意要紧。若意趣真了，连词句不用修饰，自是好的，这叫做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'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不以词害意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"</a:t>
            </a:r>
            <a:r>
              <a:rPr b="1" lang="en-US" sz="25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4114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　　林黛玉看似轻巧的几句话，却句句点出写诗的要旨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重在立意，轻在形式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，如今作文何尝不是如此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200583936518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0" y="228600"/>
            <a:ext cx="91440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林黛玉在全文中是如何指导香菱作诗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　　对我们有何现实的指导意义？</a:t>
            </a:r>
            <a:r>
              <a:rPr b="1" lang="zh-CN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1752480"/>
            <a:ext cx="9144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　　首先，要多读。</a:t>
            </a:r>
            <a:r>
              <a:rPr b="1" lang="zh-CN" sz="3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2743200"/>
            <a:ext cx="9144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　其次，黛玉认为，要学诗就要学一流的。</a:t>
            </a:r>
            <a:r>
              <a:rPr b="1" lang="zh-CN" sz="3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3733920"/>
            <a:ext cx="9144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宋体"/>
              </a:rPr>
              <a:t>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　第三，要大胆创作，要敢于想像。</a:t>
            </a:r>
            <a:r>
              <a:rPr b="1" lang="zh-CN" sz="3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572000" y="152280"/>
            <a:ext cx="4419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结合文章内容，谈谈课文中的林黛玉有怎样的性格特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qianqian08zhao_1124271616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4572000" y="2438280"/>
            <a:ext cx="4267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在本文中我们却看到了一位诗人气质的林姑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她热情指导香菱，不厌其烦，不顾劳累，显现出了宽大的襟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从她给香菱所开的书目来看，她的学识积累又是何等的深厚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2286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中</a:t>
            </a:r>
            <a:r>
              <a:rPr b="1" lang="zh-CN" sz="2800" spc="-1" strike="noStrike">
                <a:solidFill>
                  <a:srgbClr val="003300"/>
                </a:solidFill>
                <a:latin typeface="_x000b_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考</a:t>
            </a:r>
            <a:r>
              <a:rPr b="1" lang="zh-CN" sz="2800" spc="-1" strike="noStrike">
                <a:solidFill>
                  <a:srgbClr val="003300"/>
                </a:solidFill>
                <a:latin typeface="_x000b_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003300"/>
                </a:solidFill>
                <a:latin typeface="_x000b_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、（内蒙古自治区通辽市）下列句子没有语病的一句是（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）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他从提包里拿出一叠厚厚的人民币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在经济全球化的大潮中，使我们受到了极大的促动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信息高速公路，对人类的影响，将远远超过以往任何一次科技革命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学习写作是否一定要多读多写呢？从前人的写作经验来看，这是一条必由之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69200" y="106668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614-6056-43D5-84CE-E4AA5A2C1B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990720"/>
            <a:ext cx="9144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、（山东省滨州市）下列句子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没有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语病的一项是（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 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鲁迅先生的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故乡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，实际上是写了回忆中、现实中、理想中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大家必须认真克服并及时发现我们工作中的错误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中国是最早建立图书馆的国家之一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能否不断地学习实践是人们获得才能的基础和源泉。</a:t>
            </a:r>
            <a:r>
              <a:rPr b="1" lang="zh-CN" sz="29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8308440" y="121932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34920" y="189000"/>
            <a:ext cx="91440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、（浙江省嘉兴市）下列一段话中画线的四句话，没有语病的一项是（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）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主题班会一开始，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A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林非就首先第一个上台发言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。他说：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3300"/>
                </a:solidFill>
                <a:latin typeface="_x000b_"/>
              </a:rPr>
              <a:t>B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我语文不好的原因是课余时间没有阅读课外书的结果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。我决心向张红学习，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C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每天课外阅读量至少在</a:t>
            </a:r>
            <a:r>
              <a:rPr b="1" lang="en-US" sz="2800" spc="-1" strike="noStrike" u="sng">
                <a:solidFill>
                  <a:srgbClr val="003300"/>
                </a:solidFill>
                <a:uFillTx/>
                <a:latin typeface="宋体"/>
              </a:rPr>
              <a:t>2000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字以上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，争取天天写读书体会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……”</a:t>
            </a:r>
            <a:r>
              <a:rPr b="1" lang="en-US" sz="2800" spc="-1" strike="noStrike">
                <a:solidFill>
                  <a:srgbClr val="003300"/>
                </a:solidFill>
                <a:latin typeface="_x000b_"/>
              </a:rPr>
              <a:t>D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林非的发言，赢得了同学们热烈的掌声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973960" y="15238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4876920" y="304920"/>
            <a:ext cx="36576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又名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石头记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以作者自己和亲戚家庭的败落为创作素材的，因此带有一定的回忆性质；但他创作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是小说而不是自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总的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主题思想是反封建主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在这个总主题下，作者通过贾宝玉、林黛玉两个典型人物，对当时现存正统的封建社会秩序都表示反对，因而这两个典型就成为封建社会的叛逆形象。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1749820003"/>
          <p:cNvPicPr/>
          <p:nvPr/>
        </p:nvPicPr>
        <p:blipFill>
          <a:blip r:embed="rId1"/>
          <a:stretch/>
        </p:blipFill>
        <p:spPr>
          <a:xfrm>
            <a:off x="0" y="685800"/>
            <a:ext cx="4267080" cy="4664160"/>
          </a:xfrm>
          <a:prstGeom prst="rect">
            <a:avLst/>
          </a:prstGeom>
          <a:ln w="0">
            <a:noFill/>
          </a:ln>
        </p:spPr>
      </p:pic>
      <p:pic>
        <p:nvPicPr>
          <p:cNvPr id="51" name="葬花吟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595008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581280" y="152280"/>
            <a:ext cx="5562720" cy="17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共写了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七百多个人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其中称得上典型的也有数十人。如贾宝玉、林黛玉、薛宝钗、王熙凤、晴雯、袭人、史湘云、妙玉、贾母、刘姥姥等都是家喻户晓的人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曹雪芹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既是现实主义的又是理想主义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他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世纪中国封建社会的批判是现实主义的，而他对宝黛爱情深刻动人的描写、他们至死不渝的追求和对美好的自由幸福生活的渴望，则既是现实主义的又是理想主义的，而这种对理想生活的渴望和追求，正是曹雪芹对后来社会的奉献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无标题"/>
          <p:cNvPicPr/>
          <p:nvPr/>
        </p:nvPicPr>
        <p:blipFill>
          <a:blip r:embed="rId1"/>
          <a:stretch/>
        </p:blipFill>
        <p:spPr>
          <a:xfrm>
            <a:off x="304920" y="1143000"/>
            <a:ext cx="28573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35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101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20004_20050909_224"/>
          <p:cNvPicPr/>
          <p:nvPr/>
        </p:nvPicPr>
        <p:blipFill>
          <a:blip r:embed="rId1"/>
          <a:stretch/>
        </p:blipFill>
        <p:spPr>
          <a:xfrm>
            <a:off x="1905120" y="152280"/>
            <a:ext cx="507996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200596011389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A1081909366_501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3:53:4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15:03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