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B8F-D23A-4E22-B5EE-306228F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9DBE-BAC3-4EF0-A657-F0299C4F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232-775C-4D6E-904D-CFB6200F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753-B894-49BD-90E6-A212CC22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7BE-03B0-469D-9C3A-7237457B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A9F-C1A2-4AE1-97EC-0C1AEC18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C63-A9E4-4634-B293-F754BEA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0E1-4492-4533-A548-FE81F67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3093-7A51-4CB3-A506-8045832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7E7-3B77-4D4F-87D2-1F097B5B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6178-595F-4C99-B330-91DEEB8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AC4-F7D6-492F-AB85-E9226F9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3E6-85C1-4814-AB78-EAC9952DA40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1160" y="0"/>
            <a:ext cx="9167760" cy="5145120"/>
            <a:chOff x="-11160" y="0"/>
            <a:chExt cx="9167760" cy="5145120"/>
          </a:xfrm>
        </p:grpSpPr>
        <p:pic>
          <p:nvPicPr>
            <p:cNvPr id="42" name="矩形 21" descr=""/>
            <p:cNvPicPr/>
            <p:nvPr/>
          </p:nvPicPr>
          <p:blipFill>
            <a:blip r:embed="rId1"/>
            <a:stretch/>
          </p:blipFill>
          <p:spPr>
            <a:xfrm>
              <a:off x="-9720" y="0"/>
              <a:ext cx="91663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-11160" y="0"/>
              <a:ext cx="916776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3" descr="E:\卡拉赞\GUANXIAN.png"/>
          <p:cNvPicPr/>
          <p:nvPr/>
        </p:nvPicPr>
        <p:blipFill>
          <a:blip r:embed="rId2"/>
          <a:srcRect l="0" t="5983" r="0" b="0"/>
          <a:stretch/>
        </p:blipFill>
        <p:spPr>
          <a:xfrm>
            <a:off x="-47520" y="295200"/>
            <a:ext cx="9144000" cy="4838760"/>
          </a:xfrm>
          <a:prstGeom prst="rect">
            <a:avLst/>
          </a:prstGeom>
          <a:ln w="0">
            <a:noFill/>
          </a:ln>
        </p:spPr>
      </p:pic>
      <p:sp>
        <p:nvSpPr>
          <p:cNvPr id="45" name="Oval 6"/>
          <p:cNvSpPr/>
          <p:nvPr/>
        </p:nvSpPr>
        <p:spPr>
          <a:xfrm flipH="1">
            <a:off x="0" y="3946680"/>
            <a:ext cx="9158400" cy="118872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6"/>
          <p:cNvSpPr/>
          <p:nvPr/>
        </p:nvSpPr>
        <p:spPr>
          <a:xfrm flipH="1">
            <a:off x="-13320" y="3735360"/>
            <a:ext cx="91566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d1a7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 flipH="1">
            <a:off x="0" y="3573360"/>
            <a:ext cx="91584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五角星 6"/>
          <p:cNvSpPr/>
          <p:nvPr/>
        </p:nvSpPr>
        <p:spPr>
          <a:xfrm rot="19800000">
            <a:off x="4195800" y="1402920"/>
            <a:ext cx="2663640" cy="2664000"/>
          </a:xfrm>
          <a:custGeom>
            <a:avLst/>
            <a:gdLst/>
            <a:ahLst/>
            <a:rect l="l" t="t" r="r" b="b"/>
            <a:pathLst>
              <a:path w="2664296" h="2664296">
                <a:moveTo>
                  <a:pt x="3" y="1017668"/>
                </a:moveTo>
                <a:lnTo>
                  <a:pt x="920295" y="876744"/>
                </a:lnTo>
                <a:lnTo>
                  <a:pt x="1332148" y="0"/>
                </a:lnTo>
                <a:lnTo>
                  <a:pt x="1744001" y="876744"/>
                </a:lnTo>
                <a:lnTo>
                  <a:pt x="2664293" y="1017668"/>
                </a:lnTo>
                <a:lnTo>
                  <a:pt x="1998540" y="1700450"/>
                </a:lnTo>
                <a:lnTo>
                  <a:pt x="2155459" y="2664289"/>
                </a:lnTo>
                <a:lnTo>
                  <a:pt x="1332148" y="2209528"/>
                </a:lnTo>
                <a:lnTo>
                  <a:pt x="508837" y="2664289"/>
                </a:lnTo>
                <a:lnTo>
                  <a:pt x="665756" y="1700450"/>
                </a:lnTo>
                <a:lnTo>
                  <a:pt x="3" y="1017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五角星 5"/>
          <p:cNvSpPr/>
          <p:nvPr/>
        </p:nvSpPr>
        <p:spPr>
          <a:xfrm rot="19800000">
            <a:off x="4051080" y="2193480"/>
            <a:ext cx="1871640" cy="18734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五角星 8"/>
          <p:cNvSpPr/>
          <p:nvPr/>
        </p:nvSpPr>
        <p:spPr>
          <a:xfrm rot="19800000">
            <a:off x="1963800" y="1706040"/>
            <a:ext cx="156672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五角星 5"/>
          <p:cNvSpPr/>
          <p:nvPr/>
        </p:nvSpPr>
        <p:spPr>
          <a:xfrm rot="19800000">
            <a:off x="1717560" y="230184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五角星 5"/>
          <p:cNvSpPr/>
          <p:nvPr/>
        </p:nvSpPr>
        <p:spPr>
          <a:xfrm rot="19800000">
            <a:off x="2882880" y="3444480"/>
            <a:ext cx="1268280" cy="12700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五角星 11"/>
          <p:cNvSpPr/>
          <p:nvPr/>
        </p:nvSpPr>
        <p:spPr>
          <a:xfrm rot="19800000">
            <a:off x="7029000" y="1069560"/>
            <a:ext cx="1324080" cy="1322280"/>
          </a:xfrm>
          <a:custGeom>
            <a:avLst/>
            <a:gdLst/>
            <a:ahLst/>
            <a:rect l="l" t="t" r="r" b="b"/>
            <a:pathLst>
              <a:path w="1323267" h="1323267">
                <a:moveTo>
                  <a:pt x="1" y="505442"/>
                </a:moveTo>
                <a:lnTo>
                  <a:pt x="457080" y="435449"/>
                </a:lnTo>
                <a:lnTo>
                  <a:pt x="661634" y="0"/>
                </a:lnTo>
                <a:lnTo>
                  <a:pt x="866187" y="435449"/>
                </a:lnTo>
                <a:lnTo>
                  <a:pt x="1323266" y="505442"/>
                </a:lnTo>
                <a:lnTo>
                  <a:pt x="992608" y="844557"/>
                </a:lnTo>
                <a:lnTo>
                  <a:pt x="1070545" y="1323264"/>
                </a:lnTo>
                <a:lnTo>
                  <a:pt x="661634" y="1097399"/>
                </a:lnTo>
                <a:lnTo>
                  <a:pt x="252722" y="1323264"/>
                </a:lnTo>
                <a:lnTo>
                  <a:pt x="330659" y="844557"/>
                </a:lnTo>
                <a:lnTo>
                  <a:pt x="1" y="505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五角星 5"/>
          <p:cNvSpPr/>
          <p:nvPr/>
        </p:nvSpPr>
        <p:spPr>
          <a:xfrm rot="19800000">
            <a:off x="7640640" y="421920"/>
            <a:ext cx="606600" cy="606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五角星 13"/>
          <p:cNvSpPr/>
          <p:nvPr/>
        </p:nvSpPr>
        <p:spPr>
          <a:xfrm rot="19800000">
            <a:off x="1290240" y="4065120"/>
            <a:ext cx="827280" cy="827280"/>
          </a:xfrm>
          <a:custGeom>
            <a:avLst/>
            <a:gdLst/>
            <a:ahLst/>
            <a:rect l="l" t="t" r="r" b="b"/>
            <a:pathLst>
              <a:path w="827198" h="827198">
                <a:moveTo>
                  <a:pt x="1" y="315961"/>
                </a:moveTo>
                <a:lnTo>
                  <a:pt x="285729" y="272207"/>
                </a:lnTo>
                <a:lnTo>
                  <a:pt x="413599" y="0"/>
                </a:lnTo>
                <a:lnTo>
                  <a:pt x="541469" y="272207"/>
                </a:lnTo>
                <a:lnTo>
                  <a:pt x="827197" y="315961"/>
                </a:lnTo>
                <a:lnTo>
                  <a:pt x="620497" y="527948"/>
                </a:lnTo>
                <a:lnTo>
                  <a:pt x="669217" y="827196"/>
                </a:lnTo>
                <a:lnTo>
                  <a:pt x="413599" y="686004"/>
                </a:lnTo>
                <a:lnTo>
                  <a:pt x="157981" y="827196"/>
                </a:lnTo>
                <a:lnTo>
                  <a:pt x="206701" y="527948"/>
                </a:lnTo>
                <a:lnTo>
                  <a:pt x="1" y="3159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五角星 5"/>
          <p:cNvSpPr/>
          <p:nvPr/>
        </p:nvSpPr>
        <p:spPr>
          <a:xfrm rot="19800000">
            <a:off x="7292880" y="20908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7992360" y="4195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RAPI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720" y="4078440"/>
            <a:ext cx="453960" cy="423720"/>
            <a:chOff x="7632720" y="4078440"/>
            <a:chExt cx="453960" cy="423720"/>
          </a:xfrm>
        </p:grpSpPr>
        <p:grpSp>
          <p:nvGrpSpPr>
            <p:cNvPr id="59" name=""/>
            <p:cNvGrpSpPr/>
            <p:nvPr/>
          </p:nvGrpSpPr>
          <p:grpSpPr>
            <a:xfrm>
              <a:off x="7632720" y="4145760"/>
              <a:ext cx="405000" cy="300960"/>
              <a:chOff x="7632720" y="4145760"/>
              <a:chExt cx="405000" cy="300960"/>
            </a:xfrm>
          </p:grpSpPr>
          <p:pic>
            <p:nvPicPr>
              <p:cNvPr id="60" name="Freeform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720" y="4145760"/>
                <a:ext cx="405000" cy="30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7632720" y="4146480"/>
                <a:ext cx="4024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761600" y="4078440"/>
              <a:ext cx="183960" cy="423720"/>
              <a:chOff x="7761600" y="4078440"/>
              <a:chExt cx="183960" cy="423720"/>
            </a:xfrm>
          </p:grpSpPr>
          <p:pic>
            <p:nvPicPr>
              <p:cNvPr id="63" name="Freeform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7766640" y="4078800"/>
                <a:ext cx="177120" cy="4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761600" y="4078440"/>
                <a:ext cx="18396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718400" y="4090680"/>
              <a:ext cx="276120" cy="380880"/>
              <a:chOff x="7718400" y="4090680"/>
              <a:chExt cx="276120" cy="380880"/>
            </a:xfrm>
          </p:grpSpPr>
          <p:pic>
            <p:nvPicPr>
              <p:cNvPr id="66" name="Freeform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0" y="4093560"/>
                <a:ext cx="27612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719480" y="4090680"/>
                <a:ext cx="2721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681680" y="4195080"/>
              <a:ext cx="405000" cy="202680"/>
              <a:chOff x="7681680" y="4195080"/>
              <a:chExt cx="405000" cy="202680"/>
            </a:xfrm>
          </p:grpSpPr>
          <p:pic>
            <p:nvPicPr>
              <p:cNvPr id="69" name="Freeform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83480" y="4195080"/>
                <a:ext cx="40032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7681680" y="4195800"/>
                <a:ext cx="40500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Freeform 52"/>
            <p:cNvSpPr/>
            <p:nvPr/>
          </p:nvSpPr>
          <p:spPr>
            <a:xfrm>
              <a:off x="7808760" y="4188600"/>
              <a:ext cx="163080" cy="16668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2" y="55"/>
                  </a:moveTo>
                  <a:cubicBezTo>
                    <a:pt x="0" y="86"/>
                    <a:pt x="23" y="112"/>
                    <a:pt x="53" y="114"/>
                  </a:cubicBezTo>
                  <a:cubicBezTo>
                    <a:pt x="84" y="116"/>
                    <a:pt x="110" y="93"/>
                    <a:pt x="112" y="62"/>
                  </a:cubicBezTo>
                  <a:cubicBezTo>
                    <a:pt x="114" y="31"/>
                    <a:pt x="91" y="4"/>
                    <a:pt x="61" y="2"/>
                  </a:cubicBezTo>
                  <a:cubicBezTo>
                    <a:pt x="30" y="0"/>
                    <a:pt x="4" y="24"/>
                    <a:pt x="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6640" y="95400"/>
            <a:ext cx="6813000" cy="2101320"/>
            <a:chOff x="476640" y="95400"/>
            <a:chExt cx="6813000" cy="2101320"/>
          </a:xfrm>
        </p:grpSpPr>
        <p:sp>
          <p:nvSpPr>
            <p:cNvPr id="73" name="TextBox 7"/>
            <p:cNvSpPr/>
            <p:nvPr/>
          </p:nvSpPr>
          <p:spPr>
            <a:xfrm>
              <a:off x="617760" y="95400"/>
              <a:ext cx="3381120" cy="16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00b0f0"/>
                  </a:solidFill>
                  <a:latin typeface="方正超粗黑简体"/>
                  <a:ea typeface="方正超粗黑简体"/>
                </a:rPr>
                <a:t>20</a:t>
              </a:r>
              <a:r>
                <a:rPr b="0" lang="en-US" sz="105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14</a:t>
              </a:r>
              <a:endParaRPr b="0" lang="en-US" sz="10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8"/>
            <p:cNvSpPr/>
            <p:nvPr/>
          </p:nvSpPr>
          <p:spPr>
            <a:xfrm>
              <a:off x="476640" y="1416960"/>
              <a:ext cx="341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OWERPOINT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4397760" y="1149120"/>
              <a:ext cx="1541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UCCESS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3"/>
            <p:cNvSpPr/>
            <p:nvPr/>
          </p:nvSpPr>
          <p:spPr>
            <a:xfrm>
              <a:off x="4394520" y="310320"/>
              <a:ext cx="2895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hanghai Rapidesign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vertising Co.,lt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矩形 20"/>
            <p:cNvSpPr/>
            <p:nvPr/>
          </p:nvSpPr>
          <p:spPr>
            <a:xfrm>
              <a:off x="4093200" y="432720"/>
              <a:ext cx="115920" cy="1570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Freeform 16"/>
          <p:cNvSpPr/>
          <p:nvPr/>
        </p:nvSpPr>
        <p:spPr>
          <a:xfrm>
            <a:off x="838080" y="5143680"/>
            <a:ext cx="1679760" cy="4943160"/>
          </a:xfrm>
          <a:custGeom>
            <a:avLst/>
            <a:gdLst/>
            <a:ahLst/>
            <a:rect l="l" t="t" r="r" b="b"/>
            <a:pathLst>
              <a:path w="871" h="2564">
                <a:moveTo>
                  <a:pt x="557" y="2564"/>
                </a:moveTo>
                <a:cubicBezTo>
                  <a:pt x="551" y="2198"/>
                  <a:pt x="551" y="2198"/>
                  <a:pt x="551" y="2198"/>
                </a:cubicBezTo>
                <a:cubicBezTo>
                  <a:pt x="531" y="2008"/>
                  <a:pt x="603" y="1684"/>
                  <a:pt x="603" y="1684"/>
                </a:cubicBezTo>
                <a:cubicBezTo>
                  <a:pt x="625" y="1564"/>
                  <a:pt x="591" y="1430"/>
                  <a:pt x="591" y="1430"/>
                </a:cubicBezTo>
                <a:cubicBezTo>
                  <a:pt x="619" y="1368"/>
                  <a:pt x="643" y="1210"/>
                  <a:pt x="643" y="1210"/>
                </a:cubicBezTo>
                <a:cubicBezTo>
                  <a:pt x="669" y="1256"/>
                  <a:pt x="789" y="1094"/>
                  <a:pt x="789" y="1094"/>
                </a:cubicBezTo>
                <a:cubicBezTo>
                  <a:pt x="839" y="1048"/>
                  <a:pt x="817" y="988"/>
                  <a:pt x="817" y="988"/>
                </a:cubicBezTo>
                <a:cubicBezTo>
                  <a:pt x="871" y="932"/>
                  <a:pt x="841" y="822"/>
                  <a:pt x="841" y="822"/>
                </a:cubicBezTo>
                <a:cubicBezTo>
                  <a:pt x="859" y="796"/>
                  <a:pt x="853" y="734"/>
                  <a:pt x="853" y="734"/>
                </a:cubicBezTo>
                <a:cubicBezTo>
                  <a:pt x="851" y="634"/>
                  <a:pt x="779" y="478"/>
                  <a:pt x="779" y="478"/>
                </a:cubicBezTo>
                <a:cubicBezTo>
                  <a:pt x="788" y="426"/>
                  <a:pt x="788" y="426"/>
                  <a:pt x="788" y="426"/>
                </a:cubicBezTo>
                <a:cubicBezTo>
                  <a:pt x="782" y="333"/>
                  <a:pt x="619" y="164"/>
                  <a:pt x="619" y="164"/>
                </a:cubicBezTo>
                <a:cubicBezTo>
                  <a:pt x="531" y="0"/>
                  <a:pt x="406" y="164"/>
                  <a:pt x="406" y="164"/>
                </a:cubicBezTo>
                <a:cubicBezTo>
                  <a:pt x="335" y="257"/>
                  <a:pt x="74" y="448"/>
                  <a:pt x="74" y="448"/>
                </a:cubicBezTo>
                <a:cubicBezTo>
                  <a:pt x="0" y="491"/>
                  <a:pt x="24" y="562"/>
                  <a:pt x="24" y="562"/>
                </a:cubicBezTo>
                <a:cubicBezTo>
                  <a:pt x="31" y="748"/>
                  <a:pt x="86" y="1430"/>
                  <a:pt x="86" y="1430"/>
                </a:cubicBezTo>
                <a:cubicBezTo>
                  <a:pt x="159" y="2014"/>
                  <a:pt x="2" y="2548"/>
                  <a:pt x="2" y="2548"/>
                </a:cubicBezTo>
                <a:lnTo>
                  <a:pt x="557" y="256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8"/>
          <p:cNvSpPr/>
          <p:nvPr/>
        </p:nvSpPr>
        <p:spPr>
          <a:xfrm flipH="1">
            <a:off x="-5551560" y="1415880"/>
            <a:ext cx="5538960" cy="2119320"/>
          </a:xfrm>
          <a:custGeom>
            <a:avLst/>
            <a:gdLst/>
            <a:ahLst/>
            <a:rect l="l" t="t" r="r" b="b"/>
            <a:pathLst>
              <a:path w="1205" h="461">
                <a:moveTo>
                  <a:pt x="159" y="204"/>
                </a:moveTo>
                <a:cubicBezTo>
                  <a:pt x="160" y="196"/>
                  <a:pt x="160" y="196"/>
                  <a:pt x="160" y="196"/>
                </a:cubicBezTo>
                <a:cubicBezTo>
                  <a:pt x="130" y="160"/>
                  <a:pt x="130" y="160"/>
                  <a:pt x="130" y="160"/>
                </a:cubicBezTo>
                <a:cubicBezTo>
                  <a:pt x="113" y="150"/>
                  <a:pt x="59" y="96"/>
                  <a:pt x="59" y="96"/>
                </a:cubicBezTo>
                <a:cubicBezTo>
                  <a:pt x="0" y="40"/>
                  <a:pt x="29" y="9"/>
                  <a:pt x="29" y="9"/>
                </a:cubicBezTo>
                <a:cubicBezTo>
                  <a:pt x="36" y="0"/>
                  <a:pt x="62" y="33"/>
                  <a:pt x="62" y="33"/>
                </a:cubicBezTo>
                <a:cubicBezTo>
                  <a:pt x="71" y="50"/>
                  <a:pt x="139" y="97"/>
                  <a:pt x="139" y="97"/>
                </a:cubicBezTo>
                <a:cubicBezTo>
                  <a:pt x="158" y="108"/>
                  <a:pt x="172" y="116"/>
                  <a:pt x="172" y="116"/>
                </a:cubicBezTo>
                <a:cubicBezTo>
                  <a:pt x="199" y="148"/>
                  <a:pt x="231" y="171"/>
                  <a:pt x="231" y="171"/>
                </a:cubicBezTo>
                <a:cubicBezTo>
                  <a:pt x="231" y="171"/>
                  <a:pt x="261" y="159"/>
                  <a:pt x="279" y="156"/>
                </a:cubicBezTo>
                <a:cubicBezTo>
                  <a:pt x="296" y="153"/>
                  <a:pt x="325" y="162"/>
                  <a:pt x="325" y="162"/>
                </a:cubicBezTo>
                <a:cubicBezTo>
                  <a:pt x="349" y="138"/>
                  <a:pt x="370" y="162"/>
                  <a:pt x="370" y="162"/>
                </a:cubicBezTo>
                <a:cubicBezTo>
                  <a:pt x="404" y="205"/>
                  <a:pt x="521" y="296"/>
                  <a:pt x="521" y="296"/>
                </a:cubicBezTo>
                <a:cubicBezTo>
                  <a:pt x="549" y="263"/>
                  <a:pt x="571" y="278"/>
                  <a:pt x="571" y="278"/>
                </a:cubicBezTo>
                <a:cubicBezTo>
                  <a:pt x="608" y="291"/>
                  <a:pt x="684" y="278"/>
                  <a:pt x="684" y="278"/>
                </a:cubicBezTo>
                <a:cubicBezTo>
                  <a:pt x="1091" y="205"/>
                  <a:pt x="1205" y="176"/>
                  <a:pt x="1205" y="176"/>
                </a:cubicBezTo>
                <a:cubicBezTo>
                  <a:pt x="1205" y="435"/>
                  <a:pt x="1205" y="435"/>
                  <a:pt x="1205" y="435"/>
                </a:cubicBezTo>
                <a:cubicBezTo>
                  <a:pt x="1049" y="461"/>
                  <a:pt x="735" y="437"/>
                  <a:pt x="735" y="437"/>
                </a:cubicBezTo>
                <a:cubicBezTo>
                  <a:pt x="655" y="430"/>
                  <a:pt x="606" y="438"/>
                  <a:pt x="606" y="438"/>
                </a:cubicBezTo>
                <a:cubicBezTo>
                  <a:pt x="519" y="451"/>
                  <a:pt x="399" y="445"/>
                  <a:pt x="399" y="445"/>
                </a:cubicBezTo>
                <a:cubicBezTo>
                  <a:pt x="366" y="435"/>
                  <a:pt x="309" y="437"/>
                  <a:pt x="309" y="437"/>
                </a:cubicBezTo>
                <a:cubicBezTo>
                  <a:pt x="279" y="424"/>
                  <a:pt x="230" y="397"/>
                  <a:pt x="230" y="397"/>
                </a:cubicBezTo>
                <a:cubicBezTo>
                  <a:pt x="148" y="351"/>
                  <a:pt x="168" y="266"/>
                  <a:pt x="168" y="266"/>
                </a:cubicBezTo>
                <a:cubicBezTo>
                  <a:pt x="168" y="266"/>
                  <a:pt x="184" y="252"/>
                  <a:pt x="159" y="20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4"/>
          <p:cNvSpPr/>
          <p:nvPr/>
        </p:nvSpPr>
        <p:spPr>
          <a:xfrm flipH="1" rot="6300000">
            <a:off x="6973200" y="-122328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31"/>
          <p:cNvSpPr/>
          <p:nvPr/>
        </p:nvSpPr>
        <p:spPr>
          <a:xfrm>
            <a:off x="1585800" y="5146560"/>
            <a:ext cx="600120" cy="60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五角星 52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五角星 55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五角星 56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五角星 59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137240" y="290520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新年动态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4.44444E-006 L 0.275 -0.29167 E">
                                      <p:cBhvr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05556E-006 4.44444E-006 L 0.26875 -0.33334 E">
                                      <p:cBhvr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05556E-006 4.44444E-006 L 0.25937 -0.36667 E">
                                      <p:cBhvr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autoRev="1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05556E-006 4.44444E-006 L 0.25 -0.55 E">
                                      <p:cBhvr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2" dur="1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autoRev="1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05556E-006 4.44444E-006 L 0.425 -0.55556 E">
                                      <p:cBhvr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autoRev="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05556E-006 4.44444E-006 L 0.33125 -0.48056 E">
                                      <p:cBhvr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0833 0.28241 L 1.38889E-006 1.23457E-007 E">
                                      <p:cBhvr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05556E-006 4.44444E-006 L 0.15104 -0.25926 E">
                                      <p:cBhvr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autoRev="1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3.05556E-006 4.44444E-006 L 0.66562 -0.88889 E">
                                      <p:cBhvr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0.10521 0.59352 L 2.77778E-006 -6.17284E-007 E">
                                      <p:cBhvr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3.05556E-006 2.28916E-006 L 0.08889 -0.56349 E">
                                      <p:cBhvr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3855 0.48611 L 4.16667E-006 -2.46914E-006 E">
                                      <p:cBhvr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3.33333E-006 -2.46914E-006 L 0.05417 -0.48055 E">
                                      <p:cBhvr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3.05556E-006 4.44444E-006 L 0.60625 -0.80926 E">
                                      <p:cBhvr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64914 0.54753 L 4.44444E-006 2.46914E-007 E">
                                      <p:cBhvr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autoRev="1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3.05556E-006 4.44444E-006 L 0.63437 -0.6 E">
                                      <p:cBhvr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.01145 0.20833 L 4.16667E-006 -3.7037E-007 E">
                                      <p:cBhvr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autoRev="1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1.66667E-006 -3.95062E-006 L 0.00312 -0.21666 E">
                                      <p:cBhvr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16500"/>
                                  </p:stCondLst>
                                  <p:childTnLst>
                                    <p:animMotion origin="layout" path="M 2.77778E-007 -2.83951E-006 L 0.56667 -0.00154 E">
                                      <p:cBhvr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17000"/>
                                  </p:stCondLst>
                                  <p:childTnLst>
                                    <p:animRot by="1200000">
                                      <p:cBhvr>
                                        <p:cTn id="107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8">
                                  <p:stCondLst>
                                    <p:cond delay="1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 repeatCount="2000">
                                  <p:stCondLst>
                                    <p:cond delay="17000"/>
                                  </p:stCondLst>
                                  <p:childTnLst>
                                    <p:animRot by="-21599820">
                                      <p:cBhvr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 repeatCount="200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 repeatCount="2000">
                                  <p:stCondLst>
                                    <p:cond delay="1750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 repeatCount="200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 repeatCount="2000">
                                  <p:stCondLst>
                                    <p:cond delay="1760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 repeatCount="2000">
                                  <p:stCondLst>
                                    <p:cond delay="177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2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 repeatCount="2000">
                                  <p:stCondLst>
                                    <p:cond delay="1770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 repeatCount="2000">
                                  <p:stCondLst>
                                    <p:cond delay="17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2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 repeatCount="2000">
                                  <p:stCondLst>
                                    <p:cond delay="1780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 repeatCount="2000">
                                  <p:stCondLst>
                                    <p:cond delay="179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 repeatCount="2000">
                                  <p:stCondLst>
                                    <p:cond delay="1790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200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 repeatCount="2000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 repeatCount="2000">
                                  <p:stCondLst>
                                    <p:cond delay="181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 repeatCount="2000">
                                  <p:stCondLst>
                                    <p:cond delay="1810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2000">
                                  <p:stCondLst>
                                    <p:cond delay="18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 repeatCount="2000">
                                  <p:stCondLst>
                                    <p:cond delay="1820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144000" cy="1932120"/>
          </a:xfrm>
          <a:custGeom>
            <a:avLst/>
            <a:gdLst/>
            <a:ahLst/>
            <a:rect l="l" t="t" r="r" b="b"/>
            <a:pathLst>
              <a:path w="9144000" h="1931994">
                <a:moveTo>
                  <a:pt x="0" y="0"/>
                </a:moveTo>
                <a:lnTo>
                  <a:pt x="9144000" y="0"/>
                </a:lnTo>
                <a:lnTo>
                  <a:pt x="9144000" y="1312686"/>
                </a:lnTo>
                <a:cubicBezTo>
                  <a:pt x="8601739" y="1266259"/>
                  <a:pt x="7954001" y="1250245"/>
                  <a:pt x="7291812" y="1250310"/>
                </a:cubicBezTo>
                <a:cubicBezTo>
                  <a:pt x="6281032" y="1250409"/>
                  <a:pt x="5236584" y="1287973"/>
                  <a:pt x="4481945" y="1314751"/>
                </a:cubicBezTo>
                <a:cubicBezTo>
                  <a:pt x="3125499" y="1362884"/>
                  <a:pt x="1331886" y="1679974"/>
                  <a:pt x="0" y="193199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:\卡拉赞\GUANXIAN.png"/>
          <p:cNvPicPr/>
          <p:nvPr/>
        </p:nvPicPr>
        <p:blipFill>
          <a:blip r:embed="rId1"/>
          <a:srcRect l="0" t="50073" r="0" b="0"/>
          <a:stretch/>
        </p:blipFill>
        <p:spPr>
          <a:xfrm>
            <a:off x="14400" y="0"/>
            <a:ext cx="9144000" cy="2568600"/>
          </a:xfrm>
          <a:prstGeom prst="rect">
            <a:avLst/>
          </a:prstGeom>
          <a:ln w="0">
            <a:noFill/>
          </a:ln>
        </p:spPr>
      </p:pic>
      <p:sp>
        <p:nvSpPr>
          <p:cNvPr id="94" name="Oval 6"/>
          <p:cNvSpPr/>
          <p:nvPr/>
        </p:nvSpPr>
        <p:spPr>
          <a:xfrm flipH="1">
            <a:off x="-13320" y="1238400"/>
            <a:ext cx="9156600" cy="118728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五角星 5"/>
          <p:cNvSpPr/>
          <p:nvPr/>
        </p:nvSpPr>
        <p:spPr>
          <a:xfrm rot="19800000">
            <a:off x="738000" y="91800"/>
            <a:ext cx="156528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五角星 5"/>
          <p:cNvSpPr/>
          <p:nvPr/>
        </p:nvSpPr>
        <p:spPr>
          <a:xfrm rot="19800000">
            <a:off x="430200" y="7192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589440" y="527040"/>
            <a:ext cx="216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b0f0"/>
                </a:solidFill>
                <a:latin typeface="方正超粗黑简体"/>
                <a:ea typeface="方正超粗黑简体"/>
              </a:rPr>
              <a:t>20</a:t>
            </a:r>
            <a:r>
              <a:rPr b="0" lang="en-US" sz="65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14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539760" y="13460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Happy New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1012680" y="3892680"/>
            <a:ext cx="5021280" cy="29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11"/>
          <p:cNvSpPr/>
          <p:nvPr/>
        </p:nvSpPr>
        <p:spPr>
          <a:xfrm>
            <a:off x="612720" y="3892680"/>
            <a:ext cx="290520" cy="290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椭圆 15"/>
          <p:cNvSpPr/>
          <p:nvPr/>
        </p:nvSpPr>
        <p:spPr>
          <a:xfrm>
            <a:off x="6141960" y="3892680"/>
            <a:ext cx="290520" cy="290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6"/>
          <p:cNvSpPr/>
          <p:nvPr/>
        </p:nvSpPr>
        <p:spPr>
          <a:xfrm>
            <a:off x="6581880" y="3892680"/>
            <a:ext cx="5022720" cy="29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等腰三角形 12"/>
          <p:cNvSpPr/>
          <p:nvPr/>
        </p:nvSpPr>
        <p:spPr>
          <a:xfrm rot="21299400">
            <a:off x="98388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等腰三角形 22"/>
          <p:cNvSpPr/>
          <p:nvPr/>
        </p:nvSpPr>
        <p:spPr>
          <a:xfrm flipH="1" rot="300600">
            <a:off x="2696040" y="1608120"/>
            <a:ext cx="949320" cy="2195280"/>
          </a:xfrm>
          <a:custGeom>
            <a:avLst/>
            <a:gdLst/>
            <a:ahLst/>
            <a:rect l="l" t="t" r="r" b="b"/>
            <a:pathLst>
              <a:path w="1292700" h="2989786">
                <a:moveTo>
                  <a:pt x="832355" y="0"/>
                </a:moveTo>
                <a:lnTo>
                  <a:pt x="418757" y="713100"/>
                </a:lnTo>
                <a:lnTo>
                  <a:pt x="566846" y="713100"/>
                </a:lnTo>
                <a:lnTo>
                  <a:pt x="106024" y="1146737"/>
                </a:lnTo>
                <a:lnTo>
                  <a:pt x="554830" y="1280763"/>
                </a:lnTo>
                <a:lnTo>
                  <a:pt x="211299" y="1890594"/>
                </a:lnTo>
                <a:lnTo>
                  <a:pt x="429705" y="1887849"/>
                </a:lnTo>
                <a:lnTo>
                  <a:pt x="0" y="2279781"/>
                </a:lnTo>
                <a:lnTo>
                  <a:pt x="547661" y="2452652"/>
                </a:lnTo>
                <a:lnTo>
                  <a:pt x="502523" y="2967921"/>
                </a:lnTo>
                <a:lnTo>
                  <a:pt x="752112" y="2989786"/>
                </a:lnTo>
                <a:lnTo>
                  <a:pt x="792398" y="2529904"/>
                </a:lnTo>
                <a:lnTo>
                  <a:pt x="1095562" y="2625598"/>
                </a:lnTo>
                <a:lnTo>
                  <a:pt x="929316" y="1881568"/>
                </a:lnTo>
                <a:lnTo>
                  <a:pt x="1292700" y="1877000"/>
                </a:lnTo>
                <a:lnTo>
                  <a:pt x="1019651" y="1419572"/>
                </a:lnTo>
                <a:lnTo>
                  <a:pt x="1109459" y="1446391"/>
                </a:lnTo>
                <a:lnTo>
                  <a:pt x="933593" y="713100"/>
                </a:lnTo>
                <a:lnTo>
                  <a:pt x="1245953" y="713100"/>
                </a:lnTo>
                <a:lnTo>
                  <a:pt x="832355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51880" y="4299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re You Ready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五角星 28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角星 31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角星 32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五角星 35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等腰三角形 12"/>
          <p:cNvSpPr/>
          <p:nvPr/>
        </p:nvSpPr>
        <p:spPr>
          <a:xfrm rot="21299400">
            <a:off x="421596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等腰三角形 22"/>
          <p:cNvSpPr/>
          <p:nvPr/>
        </p:nvSpPr>
        <p:spPr>
          <a:xfrm flipH="1" rot="300600">
            <a:off x="5928120" y="1608120"/>
            <a:ext cx="949320" cy="2195280"/>
          </a:xfrm>
          <a:custGeom>
            <a:avLst/>
            <a:gdLst/>
            <a:ahLst/>
            <a:rect l="l" t="t" r="r" b="b"/>
            <a:pathLst>
              <a:path w="1292700" h="2989786">
                <a:moveTo>
                  <a:pt x="832355" y="0"/>
                </a:moveTo>
                <a:lnTo>
                  <a:pt x="418757" y="713100"/>
                </a:lnTo>
                <a:lnTo>
                  <a:pt x="566846" y="713100"/>
                </a:lnTo>
                <a:lnTo>
                  <a:pt x="106024" y="1146737"/>
                </a:lnTo>
                <a:lnTo>
                  <a:pt x="554830" y="1280763"/>
                </a:lnTo>
                <a:lnTo>
                  <a:pt x="211299" y="1890594"/>
                </a:lnTo>
                <a:lnTo>
                  <a:pt x="429705" y="1887849"/>
                </a:lnTo>
                <a:lnTo>
                  <a:pt x="0" y="2279781"/>
                </a:lnTo>
                <a:lnTo>
                  <a:pt x="547661" y="2452652"/>
                </a:lnTo>
                <a:lnTo>
                  <a:pt x="502523" y="2967921"/>
                </a:lnTo>
                <a:lnTo>
                  <a:pt x="752112" y="2989786"/>
                </a:lnTo>
                <a:lnTo>
                  <a:pt x="792398" y="2529904"/>
                </a:lnTo>
                <a:lnTo>
                  <a:pt x="1095562" y="2625598"/>
                </a:lnTo>
                <a:lnTo>
                  <a:pt x="929316" y="1881568"/>
                </a:lnTo>
                <a:lnTo>
                  <a:pt x="1292700" y="1877000"/>
                </a:lnTo>
                <a:lnTo>
                  <a:pt x="1019651" y="1419572"/>
                </a:lnTo>
                <a:lnTo>
                  <a:pt x="1109459" y="1446391"/>
                </a:lnTo>
                <a:lnTo>
                  <a:pt x="933593" y="713100"/>
                </a:lnTo>
                <a:lnTo>
                  <a:pt x="1245953" y="713100"/>
                </a:lnTo>
                <a:lnTo>
                  <a:pt x="832355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等腰三角形 12"/>
          <p:cNvSpPr/>
          <p:nvPr/>
        </p:nvSpPr>
        <p:spPr>
          <a:xfrm rot="21299400">
            <a:off x="754668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6308640" y="437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新年进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f7f7f"/>
                </a:solidFill>
                <a:uFillTx/>
                <a:latin typeface="Calibri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7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8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11160" y="0"/>
            <a:ext cx="9167760" cy="5145120"/>
            <a:chOff x="-11160" y="0"/>
            <a:chExt cx="9167760" cy="5145120"/>
          </a:xfrm>
        </p:grpSpPr>
        <p:pic>
          <p:nvPicPr>
            <p:cNvPr id="120" name="矩形 21" descr=""/>
            <p:cNvPicPr/>
            <p:nvPr/>
          </p:nvPicPr>
          <p:blipFill>
            <a:blip r:embed="rId1"/>
            <a:stretch/>
          </p:blipFill>
          <p:spPr>
            <a:xfrm>
              <a:off x="-9720" y="0"/>
              <a:ext cx="91663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1160" y="0"/>
              <a:ext cx="916776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Picture 3" descr="E:\卡拉赞\GUANXIAN.png"/>
          <p:cNvPicPr/>
          <p:nvPr/>
        </p:nvPicPr>
        <p:blipFill>
          <a:blip r:embed="rId2"/>
          <a:srcRect l="0" t="5983" r="0" b="0"/>
          <a:stretch/>
        </p:blipFill>
        <p:spPr>
          <a:xfrm>
            <a:off x="14400" y="38160"/>
            <a:ext cx="9144000" cy="4836960"/>
          </a:xfrm>
          <a:prstGeom prst="rect">
            <a:avLst/>
          </a:prstGeom>
          <a:ln w="0">
            <a:noFill/>
          </a:ln>
        </p:spPr>
      </p:pic>
      <p:sp>
        <p:nvSpPr>
          <p:cNvPr id="123" name="Oval 6"/>
          <p:cNvSpPr/>
          <p:nvPr/>
        </p:nvSpPr>
        <p:spPr>
          <a:xfrm flipH="1">
            <a:off x="0" y="3946680"/>
            <a:ext cx="9158400" cy="118872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6"/>
          <p:cNvSpPr/>
          <p:nvPr/>
        </p:nvSpPr>
        <p:spPr>
          <a:xfrm flipH="1">
            <a:off x="-13320" y="3735360"/>
            <a:ext cx="91566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d1a7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6"/>
          <p:cNvSpPr/>
          <p:nvPr/>
        </p:nvSpPr>
        <p:spPr>
          <a:xfrm flipH="1">
            <a:off x="0" y="3573360"/>
            <a:ext cx="91584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五角星 6"/>
          <p:cNvSpPr/>
          <p:nvPr/>
        </p:nvSpPr>
        <p:spPr>
          <a:xfrm rot="19800000">
            <a:off x="4195800" y="1402920"/>
            <a:ext cx="2663640" cy="2664000"/>
          </a:xfrm>
          <a:custGeom>
            <a:avLst/>
            <a:gdLst/>
            <a:ahLst/>
            <a:rect l="l" t="t" r="r" b="b"/>
            <a:pathLst>
              <a:path w="2664296" h="2664296">
                <a:moveTo>
                  <a:pt x="3" y="1017668"/>
                </a:moveTo>
                <a:lnTo>
                  <a:pt x="920295" y="876744"/>
                </a:lnTo>
                <a:lnTo>
                  <a:pt x="1332148" y="0"/>
                </a:lnTo>
                <a:lnTo>
                  <a:pt x="1744001" y="876744"/>
                </a:lnTo>
                <a:lnTo>
                  <a:pt x="2664293" y="1017668"/>
                </a:lnTo>
                <a:lnTo>
                  <a:pt x="1998540" y="1700450"/>
                </a:lnTo>
                <a:lnTo>
                  <a:pt x="2155459" y="2664289"/>
                </a:lnTo>
                <a:lnTo>
                  <a:pt x="1332148" y="2209528"/>
                </a:lnTo>
                <a:lnTo>
                  <a:pt x="508837" y="2664289"/>
                </a:lnTo>
                <a:lnTo>
                  <a:pt x="665756" y="1700450"/>
                </a:lnTo>
                <a:lnTo>
                  <a:pt x="3" y="1017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五角星 5"/>
          <p:cNvSpPr/>
          <p:nvPr/>
        </p:nvSpPr>
        <p:spPr>
          <a:xfrm rot="19800000">
            <a:off x="4051080" y="2193480"/>
            <a:ext cx="1871640" cy="18734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五角星 8"/>
          <p:cNvSpPr/>
          <p:nvPr/>
        </p:nvSpPr>
        <p:spPr>
          <a:xfrm rot="19800000">
            <a:off x="1963800" y="1706040"/>
            <a:ext cx="156672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角星 5"/>
          <p:cNvSpPr/>
          <p:nvPr/>
        </p:nvSpPr>
        <p:spPr>
          <a:xfrm rot="19800000">
            <a:off x="1655640" y="2333160"/>
            <a:ext cx="1100160" cy="110196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五角星 5"/>
          <p:cNvSpPr/>
          <p:nvPr/>
        </p:nvSpPr>
        <p:spPr>
          <a:xfrm rot="19800000">
            <a:off x="2882880" y="3444480"/>
            <a:ext cx="1268280" cy="12700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五角星 11"/>
          <p:cNvSpPr/>
          <p:nvPr/>
        </p:nvSpPr>
        <p:spPr>
          <a:xfrm rot="19800000">
            <a:off x="7029000" y="1069560"/>
            <a:ext cx="1324080" cy="1322280"/>
          </a:xfrm>
          <a:custGeom>
            <a:avLst/>
            <a:gdLst/>
            <a:ahLst/>
            <a:rect l="l" t="t" r="r" b="b"/>
            <a:pathLst>
              <a:path w="1323267" h="1323267">
                <a:moveTo>
                  <a:pt x="1" y="505442"/>
                </a:moveTo>
                <a:lnTo>
                  <a:pt x="457080" y="435449"/>
                </a:lnTo>
                <a:lnTo>
                  <a:pt x="661634" y="0"/>
                </a:lnTo>
                <a:lnTo>
                  <a:pt x="866187" y="435449"/>
                </a:lnTo>
                <a:lnTo>
                  <a:pt x="1323266" y="505442"/>
                </a:lnTo>
                <a:lnTo>
                  <a:pt x="992608" y="844557"/>
                </a:lnTo>
                <a:lnTo>
                  <a:pt x="1070545" y="1323264"/>
                </a:lnTo>
                <a:lnTo>
                  <a:pt x="661634" y="1097399"/>
                </a:lnTo>
                <a:lnTo>
                  <a:pt x="252722" y="1323264"/>
                </a:lnTo>
                <a:lnTo>
                  <a:pt x="330659" y="844557"/>
                </a:lnTo>
                <a:lnTo>
                  <a:pt x="1" y="505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角星 5"/>
          <p:cNvSpPr/>
          <p:nvPr/>
        </p:nvSpPr>
        <p:spPr>
          <a:xfrm rot="19800000">
            <a:off x="7640640" y="421920"/>
            <a:ext cx="606600" cy="606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五角星 13"/>
          <p:cNvSpPr/>
          <p:nvPr/>
        </p:nvSpPr>
        <p:spPr>
          <a:xfrm rot="19800000">
            <a:off x="1290240" y="4065120"/>
            <a:ext cx="827280" cy="827280"/>
          </a:xfrm>
          <a:custGeom>
            <a:avLst/>
            <a:gdLst/>
            <a:ahLst/>
            <a:rect l="l" t="t" r="r" b="b"/>
            <a:pathLst>
              <a:path w="827198" h="827198">
                <a:moveTo>
                  <a:pt x="1" y="315961"/>
                </a:moveTo>
                <a:lnTo>
                  <a:pt x="285729" y="272207"/>
                </a:lnTo>
                <a:lnTo>
                  <a:pt x="413599" y="0"/>
                </a:lnTo>
                <a:lnTo>
                  <a:pt x="541469" y="272207"/>
                </a:lnTo>
                <a:lnTo>
                  <a:pt x="827197" y="315961"/>
                </a:lnTo>
                <a:lnTo>
                  <a:pt x="620497" y="527948"/>
                </a:lnTo>
                <a:lnTo>
                  <a:pt x="669217" y="827196"/>
                </a:lnTo>
                <a:lnTo>
                  <a:pt x="413599" y="686004"/>
                </a:lnTo>
                <a:lnTo>
                  <a:pt x="157981" y="827196"/>
                </a:lnTo>
                <a:lnTo>
                  <a:pt x="206701" y="527948"/>
                </a:lnTo>
                <a:lnTo>
                  <a:pt x="1" y="3159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五角星 5"/>
          <p:cNvSpPr/>
          <p:nvPr/>
        </p:nvSpPr>
        <p:spPr>
          <a:xfrm rot="19800000">
            <a:off x="7292880" y="20908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>
            <a:off x="7992360" y="4195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RAPI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32720" y="4078440"/>
            <a:ext cx="453960" cy="423720"/>
            <a:chOff x="7632720" y="4078440"/>
            <a:chExt cx="453960" cy="423720"/>
          </a:xfrm>
        </p:grpSpPr>
        <p:grpSp>
          <p:nvGrpSpPr>
            <p:cNvPr id="137" name=""/>
            <p:cNvGrpSpPr/>
            <p:nvPr/>
          </p:nvGrpSpPr>
          <p:grpSpPr>
            <a:xfrm>
              <a:off x="7632720" y="4145760"/>
              <a:ext cx="405000" cy="300960"/>
              <a:chOff x="7632720" y="4145760"/>
              <a:chExt cx="405000" cy="300960"/>
            </a:xfrm>
          </p:grpSpPr>
          <p:pic>
            <p:nvPicPr>
              <p:cNvPr id="138" name="Freeform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720" y="4145760"/>
                <a:ext cx="405000" cy="30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632720" y="4146480"/>
                <a:ext cx="4024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761600" y="4078440"/>
              <a:ext cx="183960" cy="423720"/>
              <a:chOff x="7761600" y="4078440"/>
              <a:chExt cx="183960" cy="423720"/>
            </a:xfrm>
          </p:grpSpPr>
          <p:pic>
            <p:nvPicPr>
              <p:cNvPr id="141" name="Freeform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7766640" y="4078800"/>
                <a:ext cx="177120" cy="4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7761600" y="4078440"/>
                <a:ext cx="18396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718400" y="4090680"/>
              <a:ext cx="276120" cy="380880"/>
              <a:chOff x="7718400" y="4090680"/>
              <a:chExt cx="276120" cy="380880"/>
            </a:xfrm>
          </p:grpSpPr>
          <p:pic>
            <p:nvPicPr>
              <p:cNvPr id="144" name="Freeform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0" y="4093560"/>
                <a:ext cx="27612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719480" y="4090680"/>
                <a:ext cx="2721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681680" y="4195080"/>
              <a:ext cx="405000" cy="202680"/>
              <a:chOff x="7681680" y="4195080"/>
              <a:chExt cx="405000" cy="202680"/>
            </a:xfrm>
          </p:grpSpPr>
          <p:pic>
            <p:nvPicPr>
              <p:cNvPr id="147" name="Freeform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83480" y="4195080"/>
                <a:ext cx="40032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7681680" y="4195800"/>
                <a:ext cx="40500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" name="Freeform 52"/>
            <p:cNvSpPr/>
            <p:nvPr/>
          </p:nvSpPr>
          <p:spPr>
            <a:xfrm>
              <a:off x="7808760" y="4188600"/>
              <a:ext cx="163080" cy="16668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2" y="55"/>
                  </a:moveTo>
                  <a:cubicBezTo>
                    <a:pt x="0" y="86"/>
                    <a:pt x="23" y="112"/>
                    <a:pt x="53" y="114"/>
                  </a:cubicBezTo>
                  <a:cubicBezTo>
                    <a:pt x="84" y="116"/>
                    <a:pt x="110" y="93"/>
                    <a:pt x="112" y="62"/>
                  </a:cubicBezTo>
                  <a:cubicBezTo>
                    <a:pt x="114" y="31"/>
                    <a:pt x="91" y="4"/>
                    <a:pt x="61" y="2"/>
                  </a:cubicBezTo>
                  <a:cubicBezTo>
                    <a:pt x="30" y="0"/>
                    <a:pt x="4" y="24"/>
                    <a:pt x="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7640" y="95400"/>
            <a:ext cx="6822000" cy="2101320"/>
            <a:chOff x="467640" y="95400"/>
            <a:chExt cx="6822000" cy="2101320"/>
          </a:xfrm>
        </p:grpSpPr>
        <p:sp>
          <p:nvSpPr>
            <p:cNvPr id="151" name="TextBox 7"/>
            <p:cNvSpPr/>
            <p:nvPr/>
          </p:nvSpPr>
          <p:spPr>
            <a:xfrm>
              <a:off x="617760" y="95400"/>
              <a:ext cx="3381120" cy="16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00b0f0"/>
                  </a:solidFill>
                  <a:latin typeface="方正超粗黑简体"/>
                  <a:ea typeface="方正超粗黑简体"/>
                </a:rPr>
                <a:t>20</a:t>
              </a:r>
              <a:r>
                <a:rPr b="0" lang="en-US" sz="105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14</a:t>
              </a:r>
              <a:endParaRPr b="0" lang="en-US" sz="10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8"/>
            <p:cNvSpPr/>
            <p:nvPr/>
          </p:nvSpPr>
          <p:spPr>
            <a:xfrm>
              <a:off x="467640" y="1416960"/>
              <a:ext cx="3484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HANK     YOU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0"/>
            <p:cNvSpPr/>
            <p:nvPr/>
          </p:nvSpPr>
          <p:spPr>
            <a:xfrm>
              <a:off x="4397760" y="1149120"/>
              <a:ext cx="1541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UCCESS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23"/>
            <p:cNvSpPr/>
            <p:nvPr/>
          </p:nvSpPr>
          <p:spPr>
            <a:xfrm>
              <a:off x="4394520" y="310320"/>
              <a:ext cx="2895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hanghai Rapidesign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vertising Co.,lt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>
              <a:off x="4093200" y="432720"/>
              <a:ext cx="115920" cy="1570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Freeform 16"/>
          <p:cNvSpPr/>
          <p:nvPr/>
        </p:nvSpPr>
        <p:spPr>
          <a:xfrm>
            <a:off x="838080" y="5143680"/>
            <a:ext cx="1679760" cy="4943160"/>
          </a:xfrm>
          <a:custGeom>
            <a:avLst/>
            <a:gdLst/>
            <a:ahLst/>
            <a:rect l="l" t="t" r="r" b="b"/>
            <a:pathLst>
              <a:path w="871" h="2564">
                <a:moveTo>
                  <a:pt x="557" y="2564"/>
                </a:moveTo>
                <a:cubicBezTo>
                  <a:pt x="551" y="2198"/>
                  <a:pt x="551" y="2198"/>
                  <a:pt x="551" y="2198"/>
                </a:cubicBezTo>
                <a:cubicBezTo>
                  <a:pt x="531" y="2008"/>
                  <a:pt x="603" y="1684"/>
                  <a:pt x="603" y="1684"/>
                </a:cubicBezTo>
                <a:cubicBezTo>
                  <a:pt x="625" y="1564"/>
                  <a:pt x="591" y="1430"/>
                  <a:pt x="591" y="1430"/>
                </a:cubicBezTo>
                <a:cubicBezTo>
                  <a:pt x="619" y="1368"/>
                  <a:pt x="643" y="1210"/>
                  <a:pt x="643" y="1210"/>
                </a:cubicBezTo>
                <a:cubicBezTo>
                  <a:pt x="669" y="1256"/>
                  <a:pt x="789" y="1094"/>
                  <a:pt x="789" y="1094"/>
                </a:cubicBezTo>
                <a:cubicBezTo>
                  <a:pt x="839" y="1048"/>
                  <a:pt x="817" y="988"/>
                  <a:pt x="817" y="988"/>
                </a:cubicBezTo>
                <a:cubicBezTo>
                  <a:pt x="871" y="932"/>
                  <a:pt x="841" y="822"/>
                  <a:pt x="841" y="822"/>
                </a:cubicBezTo>
                <a:cubicBezTo>
                  <a:pt x="859" y="796"/>
                  <a:pt x="853" y="734"/>
                  <a:pt x="853" y="734"/>
                </a:cubicBezTo>
                <a:cubicBezTo>
                  <a:pt x="851" y="634"/>
                  <a:pt x="779" y="478"/>
                  <a:pt x="779" y="478"/>
                </a:cubicBezTo>
                <a:cubicBezTo>
                  <a:pt x="788" y="426"/>
                  <a:pt x="788" y="426"/>
                  <a:pt x="788" y="426"/>
                </a:cubicBezTo>
                <a:cubicBezTo>
                  <a:pt x="782" y="333"/>
                  <a:pt x="619" y="164"/>
                  <a:pt x="619" y="164"/>
                </a:cubicBezTo>
                <a:cubicBezTo>
                  <a:pt x="531" y="0"/>
                  <a:pt x="406" y="164"/>
                  <a:pt x="406" y="164"/>
                </a:cubicBezTo>
                <a:cubicBezTo>
                  <a:pt x="335" y="257"/>
                  <a:pt x="74" y="448"/>
                  <a:pt x="74" y="448"/>
                </a:cubicBezTo>
                <a:cubicBezTo>
                  <a:pt x="0" y="491"/>
                  <a:pt x="24" y="562"/>
                  <a:pt x="24" y="562"/>
                </a:cubicBezTo>
                <a:cubicBezTo>
                  <a:pt x="31" y="748"/>
                  <a:pt x="86" y="1430"/>
                  <a:pt x="86" y="1430"/>
                </a:cubicBezTo>
                <a:cubicBezTo>
                  <a:pt x="159" y="2014"/>
                  <a:pt x="2" y="2548"/>
                  <a:pt x="2" y="2548"/>
                </a:cubicBezTo>
                <a:lnTo>
                  <a:pt x="557" y="256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8"/>
          <p:cNvSpPr/>
          <p:nvPr/>
        </p:nvSpPr>
        <p:spPr>
          <a:xfrm flipH="1">
            <a:off x="-5551560" y="1415880"/>
            <a:ext cx="5538960" cy="2119320"/>
          </a:xfrm>
          <a:custGeom>
            <a:avLst/>
            <a:gdLst/>
            <a:ahLst/>
            <a:rect l="l" t="t" r="r" b="b"/>
            <a:pathLst>
              <a:path w="1205" h="461">
                <a:moveTo>
                  <a:pt x="159" y="204"/>
                </a:moveTo>
                <a:cubicBezTo>
                  <a:pt x="160" y="196"/>
                  <a:pt x="160" y="196"/>
                  <a:pt x="160" y="196"/>
                </a:cubicBezTo>
                <a:cubicBezTo>
                  <a:pt x="130" y="160"/>
                  <a:pt x="130" y="160"/>
                  <a:pt x="130" y="160"/>
                </a:cubicBezTo>
                <a:cubicBezTo>
                  <a:pt x="113" y="150"/>
                  <a:pt x="59" y="96"/>
                  <a:pt x="59" y="96"/>
                </a:cubicBezTo>
                <a:cubicBezTo>
                  <a:pt x="0" y="40"/>
                  <a:pt x="29" y="9"/>
                  <a:pt x="29" y="9"/>
                </a:cubicBezTo>
                <a:cubicBezTo>
                  <a:pt x="36" y="0"/>
                  <a:pt x="62" y="33"/>
                  <a:pt x="62" y="33"/>
                </a:cubicBezTo>
                <a:cubicBezTo>
                  <a:pt x="71" y="50"/>
                  <a:pt x="139" y="97"/>
                  <a:pt x="139" y="97"/>
                </a:cubicBezTo>
                <a:cubicBezTo>
                  <a:pt x="158" y="108"/>
                  <a:pt x="172" y="116"/>
                  <a:pt x="172" y="116"/>
                </a:cubicBezTo>
                <a:cubicBezTo>
                  <a:pt x="199" y="148"/>
                  <a:pt x="231" y="171"/>
                  <a:pt x="231" y="171"/>
                </a:cubicBezTo>
                <a:cubicBezTo>
                  <a:pt x="231" y="171"/>
                  <a:pt x="261" y="159"/>
                  <a:pt x="279" y="156"/>
                </a:cubicBezTo>
                <a:cubicBezTo>
                  <a:pt x="296" y="153"/>
                  <a:pt x="325" y="162"/>
                  <a:pt x="325" y="162"/>
                </a:cubicBezTo>
                <a:cubicBezTo>
                  <a:pt x="349" y="138"/>
                  <a:pt x="370" y="162"/>
                  <a:pt x="370" y="162"/>
                </a:cubicBezTo>
                <a:cubicBezTo>
                  <a:pt x="404" y="205"/>
                  <a:pt x="521" y="296"/>
                  <a:pt x="521" y="296"/>
                </a:cubicBezTo>
                <a:cubicBezTo>
                  <a:pt x="549" y="263"/>
                  <a:pt x="571" y="278"/>
                  <a:pt x="571" y="278"/>
                </a:cubicBezTo>
                <a:cubicBezTo>
                  <a:pt x="608" y="291"/>
                  <a:pt x="684" y="278"/>
                  <a:pt x="684" y="278"/>
                </a:cubicBezTo>
                <a:cubicBezTo>
                  <a:pt x="1091" y="205"/>
                  <a:pt x="1205" y="176"/>
                  <a:pt x="1205" y="176"/>
                </a:cubicBezTo>
                <a:cubicBezTo>
                  <a:pt x="1205" y="435"/>
                  <a:pt x="1205" y="435"/>
                  <a:pt x="1205" y="435"/>
                </a:cubicBezTo>
                <a:cubicBezTo>
                  <a:pt x="1049" y="461"/>
                  <a:pt x="735" y="437"/>
                  <a:pt x="735" y="437"/>
                </a:cubicBezTo>
                <a:cubicBezTo>
                  <a:pt x="655" y="430"/>
                  <a:pt x="606" y="438"/>
                  <a:pt x="606" y="438"/>
                </a:cubicBezTo>
                <a:cubicBezTo>
                  <a:pt x="519" y="451"/>
                  <a:pt x="399" y="445"/>
                  <a:pt x="399" y="445"/>
                </a:cubicBezTo>
                <a:cubicBezTo>
                  <a:pt x="366" y="435"/>
                  <a:pt x="309" y="437"/>
                  <a:pt x="309" y="437"/>
                </a:cubicBezTo>
                <a:cubicBezTo>
                  <a:pt x="279" y="424"/>
                  <a:pt x="230" y="397"/>
                  <a:pt x="230" y="397"/>
                </a:cubicBezTo>
                <a:cubicBezTo>
                  <a:pt x="148" y="351"/>
                  <a:pt x="168" y="266"/>
                  <a:pt x="168" y="266"/>
                </a:cubicBezTo>
                <a:cubicBezTo>
                  <a:pt x="168" y="266"/>
                  <a:pt x="184" y="252"/>
                  <a:pt x="159" y="20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4"/>
          <p:cNvSpPr/>
          <p:nvPr/>
        </p:nvSpPr>
        <p:spPr>
          <a:xfrm flipH="1" rot="6300000">
            <a:off x="6973200" y="-122328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31"/>
          <p:cNvSpPr/>
          <p:nvPr/>
        </p:nvSpPr>
        <p:spPr>
          <a:xfrm>
            <a:off x="1585800" y="5146560"/>
            <a:ext cx="600120" cy="60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五角星 52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五角星 55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五角星 56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五角星 59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4.44444E-006 L 0.275 -0.29167 E">
                                      <p:cBhvr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autoRev="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05556E-006 4.44444E-006 L 0.26875 -0.33334 E">
                                      <p:cBhvr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05556E-006 4.44444E-006 L 0.25937 -0.36667 E">
                                      <p:cBhvr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autoRev="1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05556E-006 4.44444E-006 L 0.25 -0.55 E">
                                      <p:cBhvr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72" dur="1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autoRev="1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05556E-006 4.44444E-006 L 0.425 -0.55556 E">
                                      <p:cBhvr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autoRev="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05556E-006 4.44444E-006 L 0.33125 -0.48056 E">
                                      <p:cBhvr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0833 0.28241 L 1.38889E-006 1.23457E-007 E">
                                      <p:cBhvr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autoRev="1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05556E-006 4.44444E-006 L 0.15104 -0.25926 E">
                                      <p:cBhvr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29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autoRev="1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3.05556E-006 4.44444E-006 L 0.66562 -0.88889 E">
                                      <p:cBhvr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0.10521 0.59352 L 2.77778E-006 -6.17284E-007 E">
                                      <p:cBhvr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autoRev="1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3.05556E-006 2.28916E-006 L 0.08889 -0.56349 E">
                                      <p:cBhvr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3855 0.48611 L 4.16667E-006 -2.46914E-006 E">
                                      <p:cBhvr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3.33333E-006 -2.46914E-006 L 0.05417 -0.48055 E">
                                      <p:cBhvr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autoRev="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3.05556E-006 4.44444E-006 L 0.60625 -0.80926 E">
                                      <p:cBhvr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64914 0.54753 L 4.44444E-006 2.46914E-007 E">
                                      <p:cBhvr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autoRev="1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3.05556E-006 4.44444E-006 L 0.63437 -0.6 E">
                                      <p:cBhvr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.01145 0.20833 L 4.16667E-006 -3.7037E-007 E">
                                      <p:cBhvr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autoRev="1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1.66667E-006 -3.95062E-006 L 0.00312 -0.21666 E">
                                      <p:cBhvr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2">
                                  <p:stCondLst>
                                    <p:cond delay="16500"/>
                                  </p:stCondLst>
                                  <p:childTnLst>
                                    <p:animMotion origin="layout" path="M 2.77778E-007 -2.83951E-006 L 0.56667 -0.00154 E">
                                      <p:cBhvr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17000"/>
                                  </p:stCondLst>
                                  <p:childTnLst>
                                    <p:animRot by="1200000">
                                      <p:cBhvr>
                                        <p:cTn id="337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8">
                                  <p:stCondLst>
                                    <p:cond delay="1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 repeatCount="2000">
                                  <p:stCondLst>
                                    <p:cond delay="17000"/>
                                  </p:stCondLst>
                                  <p:childTnLst>
                                    <p:animRot by="-21599820">
                                      <p:cBhvr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 repeatCount="200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 repeatCount="2000">
                                  <p:stCondLst>
                                    <p:cond delay="1750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 repeatCount="200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4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2000">
                                  <p:stCondLst>
                                    <p:cond delay="1760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 repeatCount="2000">
                                  <p:stCondLst>
                                    <p:cond delay="177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 repeatCount="2000">
                                  <p:stCondLst>
                                    <p:cond delay="1770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 repeatCount="2000">
                                  <p:stCondLst>
                                    <p:cond delay="17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 repeatCount="2000">
                                  <p:stCondLst>
                                    <p:cond delay="1780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 repeatCount="2000">
                                  <p:stCondLst>
                                    <p:cond delay="179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 repeatCount="2000">
                                  <p:stCondLst>
                                    <p:cond delay="1790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 repeatCount="200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 repeatCount="2000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 repeatCount="2000">
                                  <p:stCondLst>
                                    <p:cond delay="181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 repeatCount="2000">
                                  <p:stCondLst>
                                    <p:cond delay="18100"/>
                                  </p:stCondLst>
                                  <p:childTnLst>
                                    <p:animRot by="21600000">
                                      <p:cBhvr>
                                        <p:cTn id="37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 repeatCount="2000">
                                  <p:stCondLst>
                                    <p:cond delay="18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7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 repeatCount="2000">
                                  <p:stCondLst>
                                    <p:cond delay="18200"/>
                                  </p:stCondLst>
                                  <p:childTnLst>
                                    <p:animRot by="21600000">
                                      <p:cBhvr>
                                        <p:cTn id="3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B4E-8C32-4B98-AEB2-44A928B63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6:33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10:20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