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482-246B-4483-BA3E-F6A88E70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EB9-49E8-4B6A-8E24-E13D848B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A52-1910-476D-A6E1-36DC7EC9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CBE-08E8-48C0-BA77-660088D7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BD8-27A9-435C-94E2-397FA85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038-9F16-46B4-9CCB-E6F8B1D7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6FE-B225-4118-9B0C-2B5A9A5C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0BE-7DBF-4E01-BCAB-A2105A5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CE8-516A-403B-A080-CC1CB851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620-80C7-46C9-8F13-CBFEC1B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97D-31BA-4994-BC63-18477EE0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E5C-772D-4135-8C7F-B10F1BD9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7D6E-A4D7-4C59-AB16-68F92876BD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蛇年PPT"/>
          <p:cNvPicPr/>
          <p:nvPr/>
        </p:nvPicPr>
        <p:blipFill>
          <a:blip r:embed="rId2"/>
          <a:stretch/>
        </p:blipFill>
        <p:spPr>
          <a:xfrm>
            <a:off x="4292640" y="636480"/>
            <a:ext cx="409104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02T"/>
          <p:cNvPicPr/>
          <p:nvPr/>
        </p:nvPicPr>
        <p:blipFill>
          <a:blip r:embed="rId3"/>
          <a:stretch/>
        </p:blipFill>
        <p:spPr>
          <a:xfrm>
            <a:off x="3398760" y="4030560"/>
            <a:ext cx="5421240" cy="177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600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309680" y="835200"/>
            <a:ext cx="24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新年动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蛇年PPT 1"/>
          <p:cNvPicPr/>
          <p:nvPr/>
        </p:nvPicPr>
        <p:blipFill>
          <a:blip r:embed="rId1"/>
          <a:stretch/>
        </p:blipFill>
        <p:spPr>
          <a:xfrm>
            <a:off x="14400" y="784080"/>
            <a:ext cx="12196800" cy="8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蛇年PPT"/>
          <p:cNvPicPr/>
          <p:nvPr/>
        </p:nvPicPr>
        <p:blipFill>
          <a:blip r:embed="rId2"/>
          <a:stretch/>
        </p:blipFill>
        <p:spPr>
          <a:xfrm>
            <a:off x="41400" y="311040"/>
            <a:ext cx="1841400" cy="16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蛇年PPT 1"/>
          <p:cNvPicPr/>
          <p:nvPr/>
        </p:nvPicPr>
        <p:blipFill>
          <a:blip r:embed="rId3"/>
          <a:stretch/>
        </p:blipFill>
        <p:spPr>
          <a:xfrm>
            <a:off x="10158480" y="865080"/>
            <a:ext cx="1334880" cy="611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784520" y="3368520"/>
            <a:ext cx="203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目录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430440" y="2803680"/>
            <a:ext cx="730260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108080" y="200988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20800" y="2776680"/>
            <a:ext cx="62294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蛇年PPT 2 副本"/>
          <p:cNvPicPr/>
          <p:nvPr/>
        </p:nvPicPr>
        <p:blipFill>
          <a:blip r:embed="rId1"/>
          <a:stretch/>
        </p:blipFill>
        <p:spPr>
          <a:xfrm>
            <a:off x="4680" y="1459080"/>
            <a:ext cx="912960" cy="379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蛇年PPT"/>
          <p:cNvPicPr/>
          <p:nvPr/>
        </p:nvPicPr>
        <p:blipFill>
          <a:blip r:embed="rId2"/>
          <a:stretch/>
        </p:blipFill>
        <p:spPr>
          <a:xfrm>
            <a:off x="8975880" y="1998720"/>
            <a:ext cx="27478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C55-C2A6-4F82-88D5-DF1F46D4BA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蛇年PPT 2"/>
          <p:cNvPicPr/>
          <p:nvPr/>
        </p:nvPicPr>
        <p:blipFill>
          <a:blip r:embed="rId1"/>
          <a:stretch/>
        </p:blipFill>
        <p:spPr>
          <a:xfrm>
            <a:off x="1268280" y="4680"/>
            <a:ext cx="804960" cy="6873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319040" y="739800"/>
            <a:ext cx="80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黑简体"/>
                <a:ea typeface="方正正大黑简体"/>
              </a:rPr>
              <a:t>文字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蛇年PPT"/>
          <p:cNvPicPr/>
          <p:nvPr/>
        </p:nvPicPr>
        <p:blipFill>
          <a:blip r:embed="rId2"/>
          <a:stretch/>
        </p:blipFill>
        <p:spPr>
          <a:xfrm>
            <a:off x="512640" y="3552840"/>
            <a:ext cx="236088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340080" y="863640"/>
            <a:ext cx="781380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大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955960" y="83664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959200" y="287352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62440" y="489420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6237360" y="31734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蛇年PPT"/>
          <p:cNvPicPr/>
          <p:nvPr/>
        </p:nvPicPr>
        <p:blipFill>
          <a:blip r:embed="rId17"/>
          <a:stretch/>
        </p:blipFill>
        <p:spPr>
          <a:xfrm>
            <a:off x="4292640" y="636480"/>
            <a:ext cx="4091040" cy="361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02T"/>
          <p:cNvPicPr/>
          <p:nvPr/>
        </p:nvPicPr>
        <p:blipFill>
          <a:blip r:embed="rId18"/>
          <a:stretch/>
        </p:blipFill>
        <p:spPr>
          <a:xfrm>
            <a:off x="3414600" y="4030560"/>
            <a:ext cx="5419800" cy="177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蛇年PPT 副本"/>
          <p:cNvPicPr/>
          <p:nvPr/>
        </p:nvPicPr>
        <p:blipFill>
          <a:blip r:embed="rId19"/>
          <a:stretch/>
        </p:blipFill>
        <p:spPr>
          <a:xfrm>
            <a:off x="3137040" y="2922480"/>
            <a:ext cx="62020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5:13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