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F6B-6934-4E0F-9082-D7A93680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2EC-238C-448E-B03B-4C061BC4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C37-950A-4F0B-AD32-76BF144E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401-CB18-44FF-9B3E-E67DA6EC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65B2-1092-4C3C-BB51-C7BFE96B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72F-CC09-489B-8969-266FEEE7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C20-A0D1-4EA1-88B9-DC9E2A39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3FF6-3BB0-43E7-8EFF-161D23B2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450A-699F-47E2-8565-7E62432B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E95-94EB-4CEE-8E0E-C2FABF25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057-BBB3-4E71-BA12-D73517FE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B2EA-7480-407B-85C7-33F284A5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8377-7C81-4DFE-B4C8-D5FA0544F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hyperlink" Target="&#26143;&#26143;&#21464;&#22863;&#26354;&#35838;&#25991;&#26391;&#35835;&#8212;&#20030;&#26479;&#36992;&#26126;&#26376;.mpga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5004720" y="307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江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6786720" y="55166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江  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47680" y="1197000"/>
            <a:ext cx="309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《星星变奏曲》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396360" cy="8153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324000" y="457200"/>
            <a:ext cx="820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谁愿意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，看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夜晚冻僵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僵硬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得像一片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土地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　　风吹落一颗又一颗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瘦小的星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谁不喜欢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飘动的旗子，喜欢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　　涌出金黄的星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　　在天上的星星疲倦了的时候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升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　　去照亮太阳照不到的地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187280" y="2209680"/>
            <a:ext cx="72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第二次反问，写出现实世界的寒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187280" y="5805360"/>
            <a:ext cx="6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395280" y="5105520"/>
            <a:ext cx="92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第三次反问，表现诗人为追求光明而献身的决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3536640" y="5630760"/>
            <a:ext cx="194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、诗人对黑暗冰冷的严酷现实的否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达为追求光明而 献身的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未命名"/>
          <p:cNvPicPr/>
          <p:nvPr/>
        </p:nvPicPr>
        <p:blipFill>
          <a:blip r:embed="rId1"/>
          <a:stretch/>
        </p:blipFill>
        <p:spPr>
          <a:xfrm>
            <a:off x="0" y="-458640"/>
            <a:ext cx="10117080" cy="9001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611280" y="824040"/>
            <a:ext cx="89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问题研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这首诗为什么题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星星变奏曲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95280" y="227664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这是借用音乐术语来说的，它提示这首诗是围绕一个主题与主要意象变换情境，委婉抒情。诗的上下两节结构相称，基本手法和用语相同或相近，有同样的韵律。但上下两节的情境，意味发生了变化，如用“谁不愿意”和“谁愿意”就不同了。（句式、词语）这种情形如同音乐，两段录音曲在保持基本轮廓的基础上出现一点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Sts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2340000" y="6350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、两小节诗在结构上及语言上有什么异同点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050920" y="227664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都用“如果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----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谁还需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还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--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头；从第五行看，有变化，用“谁不愿意”和“谁愿意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2268360" y="450864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、根据上面句式特点写几句诗</a:t>
            </a:r>
            <a:r>
              <a:rPr b="0" lang="zh-CN" sz="36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未命名5"/>
          <p:cNvPicPr/>
          <p:nvPr/>
        </p:nvPicPr>
        <p:blipFill>
          <a:blip r:embed="rId1"/>
          <a:stretch/>
        </p:blipFill>
        <p:spPr>
          <a:xfrm>
            <a:off x="0" y="-1371600"/>
            <a:ext cx="9144000" cy="9577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1"/>
          <p:cNvSpPr/>
          <p:nvPr/>
        </p:nvSpPr>
        <p:spPr>
          <a:xfrm>
            <a:off x="609480" y="-458640"/>
            <a:ext cx="815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、诗中的星星象征什么？诗人反复咏叹星星表达了怎样的渴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09480" y="162864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象征着光明，象征着美好的事物，表达了他对光明的渴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457200" y="39337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全诗表达了诗人对黑暗冰冷的现实的否定，抒发了自己对理想的向往和追求，以及虽然迷茫失落而又不失坚定的情怀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822240" y="3213000"/>
            <a:ext cx="390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诗歌的主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6440" y="1471320"/>
            <a:ext cx="7777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江河，原名于友泽，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49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生，北京人，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6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高中毕业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8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他在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上海文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发表处女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星星变奏曲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著有诗集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从这里开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太阳和他的反光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等。是新时期朦胧诗的代表诗人之一。他的诗作中灌注了厚重的历史感，以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纪念碑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等政治抒情诗和古代神话组诗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太阳和他的反光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赢得了社会的瞩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未命名7"/>
          <p:cNvPicPr/>
          <p:nvPr/>
        </p:nvPicPr>
        <p:blipFill>
          <a:blip r:embed="rId16"/>
          <a:stretch/>
        </p:blipFill>
        <p:spPr>
          <a:xfrm>
            <a:off x="0" y="-674640"/>
            <a:ext cx="9144000" cy="8136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395280" y="692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朦胧诗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又称新诗潮诗歌，是新诗潮诗歌运动的产物，因其在艺术形式上多用总体象征的手法，具有不透明性和多义性，所以被称作“朦胧诗”。 是新时期的一个非常重要的文学流派，是文革后期一群自我意识开始觉醒青年，利用诗歌的形式对现实进行反思和追求诗歌独立的审美价值的产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首诗体现了朦胧诗的一些典型特征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DCB-D818-4664-BAA4-F278147C44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20041101145097735"/>
          <p:cNvPicPr/>
          <p:nvPr/>
        </p:nvPicPr>
        <p:blipFill>
          <a:blip r:embed="rId1"/>
          <a:stretch/>
        </p:blipFill>
        <p:spPr>
          <a:xfrm>
            <a:off x="4067280" y="3429000"/>
            <a:ext cx="507672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20041101145097735"/>
          <p:cNvPicPr/>
          <p:nvPr/>
        </p:nvPicPr>
        <p:blipFill>
          <a:blip r:embed="rId2"/>
          <a:stretch/>
        </p:blipFill>
        <p:spPr>
          <a:xfrm>
            <a:off x="0" y="3500280"/>
            <a:ext cx="4211640" cy="335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20041101145097735"/>
          <p:cNvPicPr/>
          <p:nvPr/>
        </p:nvPicPr>
        <p:blipFill>
          <a:blip r:embed="rId3"/>
          <a:stretch/>
        </p:blipFill>
        <p:spPr>
          <a:xfrm>
            <a:off x="0" y="0"/>
            <a:ext cx="4356000" cy="350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20041101145097735"/>
          <p:cNvPicPr/>
          <p:nvPr/>
        </p:nvPicPr>
        <p:blipFill>
          <a:blip r:embed="rId4"/>
          <a:stretch/>
        </p:blipFill>
        <p:spPr>
          <a:xfrm>
            <a:off x="4284720" y="0"/>
            <a:ext cx="4859280" cy="3425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写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915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本诗写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98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，也是诗人首次发表的诗作。诗人经历了恶梦一样的“文革”十年，目睹了专职的残酷和人情亲情的被毁灭，因此对“文革”时代的黑暗进行揭露和反抗。回想暗夜如磐的年代，诗人倾诉着自己质朴的愿望，因此写下了此诗，寄托了诗人美好的梦，也表达了诗人的苦闷与迷惘，这是诗人思考历史、人和现实的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Stsky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未命名4"/>
          <p:cNvPicPr/>
          <p:nvPr/>
        </p:nvPicPr>
        <p:blipFill>
          <a:blip r:embed="rId2"/>
          <a:stretch/>
        </p:blipFill>
        <p:spPr>
          <a:xfrm>
            <a:off x="0" y="-892080"/>
            <a:ext cx="9144000" cy="11379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未命名3"/>
          <p:cNvPicPr/>
          <p:nvPr/>
        </p:nvPicPr>
        <p:blipFill>
          <a:blip r:embed="rId3"/>
          <a:stretch/>
        </p:blipFill>
        <p:spPr>
          <a:xfrm>
            <a:off x="0" y="-747720"/>
            <a:ext cx="9144000" cy="974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未命名"/>
          <p:cNvPicPr/>
          <p:nvPr/>
        </p:nvPicPr>
        <p:blipFill>
          <a:blip r:embed="rId4"/>
          <a:stretch/>
        </p:blipFill>
        <p:spPr>
          <a:xfrm>
            <a:off x="0" y="1125360"/>
            <a:ext cx="10117080" cy="11665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图片xingxing"/>
          <p:cNvPicPr/>
          <p:nvPr/>
        </p:nvPicPr>
        <p:blipFill>
          <a:blip r:embed="rId5"/>
          <a:stretch/>
        </p:blipFill>
        <p:spPr>
          <a:xfrm>
            <a:off x="0" y="-458640"/>
            <a:ext cx="10148760" cy="803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4"/>
          <p:cNvSpPr/>
          <p:nvPr/>
        </p:nvSpPr>
        <p:spPr>
          <a:xfrm>
            <a:off x="-108000" y="0"/>
            <a:ext cx="74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ff33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如果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大地的每个角落都充满了光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谁还需要星星，谁还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在夜里凝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寻找遥远的安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谁不愿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每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都是一首</a:t>
            </a:r>
            <a:r>
              <a:rPr b="1" lang="zh-CN" sz="2400" spc="-1" strike="noStrike" u="sng">
                <a:solidFill>
                  <a:srgbClr val="00ff00"/>
                </a:solidFill>
                <a:uFillTx/>
                <a:latin typeface="Arial"/>
                <a:ea typeface="黑体"/>
              </a:rPr>
              <a:t>诗</a:t>
            </a:r>
            <a:r>
              <a:rPr b="1" lang="zh-CN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每一个字都是一颗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像</a:t>
            </a:r>
            <a:r>
              <a:rPr b="1" lang="zh-CN" sz="2400" spc="-1" strike="noStrike" u="sng">
                <a:solidFill>
                  <a:srgbClr val="00ff00"/>
                </a:solidFill>
                <a:uFillTx/>
                <a:latin typeface="Arial"/>
              </a:rPr>
              <a:t>蜜蜂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在心头颤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0" y="3284640"/>
            <a:ext cx="70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谁不愿意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，有一个柔软的晚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柔软得像一片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湖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萤火虫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星星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睡莲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丛中游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谁不喜欢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春天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鸟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落满枝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像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星星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落满天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闪闪烁烁的声音从远方飘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一团团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白丁香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朦朦胧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4656240" y="-27000"/>
            <a:ext cx="776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如果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大地的每个角落都充满了光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谁还需要星星，谁还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在寒冷中寂寞地燃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寻求星星点点的希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谁愿意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一年又一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总写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苦难的诗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每一首都是一群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颤抖的星星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像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冰雪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覆盖在心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3995640" y="321300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谁愿意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，看着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夜晚冻僵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僵硬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得像一片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土地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　　风吹落一颗又一颗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瘦小的星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谁不喜欢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飘动的旗子，喜欢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　　涌出金黄的星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　　在天上的星星疲倦了的时候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升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　　去照亮太阳照不到的地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027320" y="27082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星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652464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9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未命名3"/>
          <p:cNvPicPr/>
          <p:nvPr/>
        </p:nvPicPr>
        <p:blipFill>
          <a:blip r:embed="rId1"/>
          <a:stretch/>
        </p:blipFill>
        <p:spPr>
          <a:xfrm>
            <a:off x="0" y="-963720"/>
            <a:ext cx="9144000" cy="82821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0" y="549360"/>
            <a:ext cx="7451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ff33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大地的每个角落都充满了光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谁还需要星星，谁还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在夜里凝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寻找遥远的安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谁不愿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每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都是一首</a:t>
            </a:r>
            <a:r>
              <a:rPr b="1" lang="zh-CN" sz="3600" spc="-1" strike="noStrike" u="sng">
                <a:solidFill>
                  <a:srgbClr val="00ff00"/>
                </a:solidFill>
                <a:uFillTx/>
                <a:latin typeface="Arial"/>
                <a:ea typeface="黑体"/>
              </a:rPr>
              <a:t>诗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每一个字都是一颗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像</a:t>
            </a:r>
            <a:r>
              <a:rPr b="1" lang="zh-CN" sz="3600" spc="-1" strike="noStrike" u="sng">
                <a:solidFill>
                  <a:srgbClr val="00ff00"/>
                </a:solidFill>
                <a:uFillTx/>
                <a:latin typeface="Arial"/>
              </a:rPr>
              <a:t>蜜蜂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在心头颤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932360" y="1341360"/>
            <a:ext cx="42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宋体"/>
              </a:rPr>
              <a:t>、由“如果”引领这一假设句，构成对黑暗现实强有力的否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5219640" y="3933720"/>
            <a:ext cx="39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由“谁不愿意”开头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一次反问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诗人借助“诗”和“蜜蜂”这两种象征光明的美好意向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构成一个富有诗意的理想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eea2"/>
          <p:cNvPicPr/>
          <p:nvPr/>
        </p:nvPicPr>
        <p:blipFill>
          <a:blip r:embed="rId1"/>
          <a:stretch/>
        </p:blipFill>
        <p:spPr>
          <a:xfrm>
            <a:off x="755640" y="549360"/>
            <a:ext cx="430200" cy="430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eeea2"/>
          <p:cNvPicPr/>
          <p:nvPr/>
        </p:nvPicPr>
        <p:blipFill>
          <a:blip r:embed="rId2"/>
          <a:stretch/>
        </p:blipFill>
        <p:spPr>
          <a:xfrm>
            <a:off x="7020000" y="371628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eeea2"/>
          <p:cNvPicPr/>
          <p:nvPr/>
        </p:nvPicPr>
        <p:blipFill>
          <a:blip r:embed="rId3"/>
          <a:stretch/>
        </p:blipFill>
        <p:spPr>
          <a:xfrm>
            <a:off x="611280" y="5589720"/>
            <a:ext cx="649080" cy="64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eeea2"/>
          <p:cNvPicPr/>
          <p:nvPr/>
        </p:nvPicPr>
        <p:blipFill>
          <a:blip r:embed="rId4"/>
          <a:stretch/>
        </p:blipFill>
        <p:spPr>
          <a:xfrm>
            <a:off x="6516720" y="5734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eeea2"/>
          <p:cNvPicPr/>
          <p:nvPr/>
        </p:nvPicPr>
        <p:blipFill>
          <a:blip r:embed="rId5"/>
          <a:stretch/>
        </p:blipFill>
        <p:spPr>
          <a:xfrm>
            <a:off x="3276720" y="328608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eeea2"/>
          <p:cNvPicPr/>
          <p:nvPr/>
        </p:nvPicPr>
        <p:blipFill>
          <a:blip r:embed="rId6"/>
          <a:stretch/>
        </p:blipFill>
        <p:spPr>
          <a:xfrm>
            <a:off x="4500720" y="476280"/>
            <a:ext cx="433080" cy="433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eeea2"/>
          <p:cNvPicPr/>
          <p:nvPr/>
        </p:nvPicPr>
        <p:blipFill>
          <a:blip r:embed="rId7"/>
          <a:stretch/>
        </p:blipFill>
        <p:spPr>
          <a:xfrm>
            <a:off x="356400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eeea2"/>
          <p:cNvPicPr/>
          <p:nvPr/>
        </p:nvPicPr>
        <p:blipFill>
          <a:blip r:embed="rId8"/>
          <a:stretch/>
        </p:blipFill>
        <p:spPr>
          <a:xfrm>
            <a:off x="774072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eeea2"/>
          <p:cNvPicPr/>
          <p:nvPr/>
        </p:nvPicPr>
        <p:blipFill>
          <a:blip r:embed="rId9"/>
          <a:stretch/>
        </p:blipFill>
        <p:spPr>
          <a:xfrm>
            <a:off x="5076720" y="1989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eeea2"/>
          <p:cNvPicPr/>
          <p:nvPr/>
        </p:nvPicPr>
        <p:blipFill>
          <a:blip r:embed="rId10"/>
          <a:stretch/>
        </p:blipFill>
        <p:spPr>
          <a:xfrm>
            <a:off x="3708360" y="1773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" descr="eeea2"/>
          <p:cNvPicPr/>
          <p:nvPr/>
        </p:nvPicPr>
        <p:blipFill>
          <a:blip r:embed="rId11"/>
          <a:stretch/>
        </p:blipFill>
        <p:spPr>
          <a:xfrm>
            <a:off x="7885080" y="227664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3" descr="eeea2"/>
          <p:cNvPicPr/>
          <p:nvPr/>
        </p:nvPicPr>
        <p:blipFill>
          <a:blip r:embed="rId12"/>
          <a:stretch/>
        </p:blipFill>
        <p:spPr>
          <a:xfrm>
            <a:off x="5508720" y="342900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4" descr="eeea2"/>
          <p:cNvPicPr/>
          <p:nvPr/>
        </p:nvPicPr>
        <p:blipFill>
          <a:blip r:embed="rId13"/>
          <a:stretch/>
        </p:blipFill>
        <p:spPr>
          <a:xfrm>
            <a:off x="7596360" y="493884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5" descr="eeea2"/>
          <p:cNvPicPr/>
          <p:nvPr/>
        </p:nvPicPr>
        <p:blipFill>
          <a:blip r:embed="rId14"/>
          <a:stretch/>
        </p:blipFill>
        <p:spPr>
          <a:xfrm>
            <a:off x="5003640" y="522936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6" descr="eeea2"/>
          <p:cNvPicPr/>
          <p:nvPr/>
        </p:nvPicPr>
        <p:blipFill>
          <a:blip r:embed="rId15"/>
          <a:stretch/>
        </p:blipFill>
        <p:spPr>
          <a:xfrm>
            <a:off x="2124000" y="436572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7" descr="eeea2"/>
          <p:cNvPicPr/>
          <p:nvPr/>
        </p:nvPicPr>
        <p:blipFill>
          <a:blip r:embed="rId16"/>
          <a:stretch/>
        </p:blipFill>
        <p:spPr>
          <a:xfrm>
            <a:off x="1403280" y="2276640"/>
            <a:ext cx="432000" cy="43164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2916360" y="765000"/>
            <a:ext cx="142920" cy="142920"/>
            <a:chOff x="2916360" y="765000"/>
            <a:chExt cx="142920" cy="142920"/>
          </a:xfrm>
        </p:grpSpPr>
        <p:pic>
          <p:nvPicPr>
            <p:cNvPr id="100" name="Picture 28" descr=""/>
            <p:cNvPicPr/>
            <p:nvPr/>
          </p:nvPicPr>
          <p:blipFill>
            <a:blip r:embed="rId17"/>
            <a:stretch/>
          </p:blipFill>
          <p:spPr>
            <a:xfrm>
              <a:off x="2916360" y="76500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 txBox="1"/>
            <p:nvPr/>
          </p:nvSpPr>
          <p:spPr>
            <a:xfrm>
              <a:off x="2916360" y="765000"/>
              <a:ext cx="14292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29"/>
          <p:cNvSpPr/>
          <p:nvPr/>
        </p:nvSpPr>
        <p:spPr>
          <a:xfrm>
            <a:off x="1116000" y="404640"/>
            <a:ext cx="70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谁不愿意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，有一个柔软的晚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柔软得像一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湖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萤火虫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星星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睡莲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丛中游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谁不喜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春天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鸟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落满枝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星星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落满天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闪闪烁烁的声音从远方飘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一团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丁香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朦朦胧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0"/>
          <p:cNvSpPr/>
          <p:nvPr/>
        </p:nvSpPr>
        <p:spPr>
          <a:xfrm>
            <a:off x="684360" y="2133720"/>
            <a:ext cx="78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二次反问，构成一个夏夜般柔美的理想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468360" y="508464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三次反问，构成一个春天般温馨迷人的理想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3"/>
          <p:cNvSpPr/>
          <p:nvPr/>
        </p:nvSpPr>
        <p:spPr>
          <a:xfrm>
            <a:off x="539640" y="564840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诗人对光明的理想世界的向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eeea2"/>
          <p:cNvPicPr/>
          <p:nvPr/>
        </p:nvPicPr>
        <p:blipFill>
          <a:blip r:embed="rId1"/>
          <a:stretch/>
        </p:blipFill>
        <p:spPr>
          <a:xfrm>
            <a:off x="755640" y="549360"/>
            <a:ext cx="430200" cy="43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eeea2"/>
          <p:cNvPicPr/>
          <p:nvPr/>
        </p:nvPicPr>
        <p:blipFill>
          <a:blip r:embed="rId2"/>
          <a:stretch/>
        </p:blipFill>
        <p:spPr>
          <a:xfrm>
            <a:off x="7020000" y="371628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eeea2"/>
          <p:cNvPicPr/>
          <p:nvPr/>
        </p:nvPicPr>
        <p:blipFill>
          <a:blip r:embed="rId3"/>
          <a:stretch/>
        </p:blipFill>
        <p:spPr>
          <a:xfrm>
            <a:off x="611280" y="5589720"/>
            <a:ext cx="649080" cy="649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eeea2"/>
          <p:cNvPicPr/>
          <p:nvPr/>
        </p:nvPicPr>
        <p:blipFill>
          <a:blip r:embed="rId4"/>
          <a:stretch/>
        </p:blipFill>
        <p:spPr>
          <a:xfrm>
            <a:off x="6516720" y="5734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eeea2"/>
          <p:cNvPicPr/>
          <p:nvPr/>
        </p:nvPicPr>
        <p:blipFill>
          <a:blip r:embed="rId5"/>
          <a:stretch/>
        </p:blipFill>
        <p:spPr>
          <a:xfrm>
            <a:off x="3276720" y="328608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eeea2"/>
          <p:cNvPicPr/>
          <p:nvPr/>
        </p:nvPicPr>
        <p:blipFill>
          <a:blip r:embed="rId6"/>
          <a:stretch/>
        </p:blipFill>
        <p:spPr>
          <a:xfrm>
            <a:off x="4500720" y="476280"/>
            <a:ext cx="433080" cy="433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eeea2"/>
          <p:cNvPicPr/>
          <p:nvPr/>
        </p:nvPicPr>
        <p:blipFill>
          <a:blip r:embed="rId7"/>
          <a:stretch/>
        </p:blipFill>
        <p:spPr>
          <a:xfrm>
            <a:off x="356400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eeea2"/>
          <p:cNvPicPr/>
          <p:nvPr/>
        </p:nvPicPr>
        <p:blipFill>
          <a:blip r:embed="rId8"/>
          <a:stretch/>
        </p:blipFill>
        <p:spPr>
          <a:xfrm>
            <a:off x="774072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eeea2"/>
          <p:cNvPicPr/>
          <p:nvPr/>
        </p:nvPicPr>
        <p:blipFill>
          <a:blip r:embed="rId9"/>
          <a:stretch/>
        </p:blipFill>
        <p:spPr>
          <a:xfrm>
            <a:off x="5076720" y="1989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eeea2"/>
          <p:cNvPicPr/>
          <p:nvPr/>
        </p:nvPicPr>
        <p:blipFill>
          <a:blip r:embed="rId10"/>
          <a:stretch/>
        </p:blipFill>
        <p:spPr>
          <a:xfrm>
            <a:off x="3708360" y="1773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eeea2"/>
          <p:cNvPicPr/>
          <p:nvPr/>
        </p:nvPicPr>
        <p:blipFill>
          <a:blip r:embed="rId11"/>
          <a:stretch/>
        </p:blipFill>
        <p:spPr>
          <a:xfrm>
            <a:off x="7885080" y="227664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eeea2"/>
          <p:cNvPicPr/>
          <p:nvPr/>
        </p:nvPicPr>
        <p:blipFill>
          <a:blip r:embed="rId12"/>
          <a:stretch/>
        </p:blipFill>
        <p:spPr>
          <a:xfrm>
            <a:off x="5508720" y="342900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eeea2"/>
          <p:cNvPicPr/>
          <p:nvPr/>
        </p:nvPicPr>
        <p:blipFill>
          <a:blip r:embed="rId13"/>
          <a:stretch/>
        </p:blipFill>
        <p:spPr>
          <a:xfrm>
            <a:off x="7596360" y="493884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eeea2"/>
          <p:cNvPicPr/>
          <p:nvPr/>
        </p:nvPicPr>
        <p:blipFill>
          <a:blip r:embed="rId14"/>
          <a:stretch/>
        </p:blipFill>
        <p:spPr>
          <a:xfrm>
            <a:off x="5003640" y="522936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eeea2"/>
          <p:cNvPicPr/>
          <p:nvPr/>
        </p:nvPicPr>
        <p:blipFill>
          <a:blip r:embed="rId15"/>
          <a:stretch/>
        </p:blipFill>
        <p:spPr>
          <a:xfrm>
            <a:off x="2124000" y="436572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eeea2"/>
          <p:cNvPicPr/>
          <p:nvPr/>
        </p:nvPicPr>
        <p:blipFill>
          <a:blip r:embed="rId16"/>
          <a:stretch/>
        </p:blipFill>
        <p:spPr>
          <a:xfrm>
            <a:off x="1403280" y="2276640"/>
            <a:ext cx="432000" cy="43164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2916360" y="765000"/>
            <a:ext cx="142920" cy="142920"/>
            <a:chOff x="2916360" y="765000"/>
            <a:chExt cx="142920" cy="142920"/>
          </a:xfrm>
        </p:grpSpPr>
        <p:pic>
          <p:nvPicPr>
            <p:cNvPr id="124" name="Picture 18" descr=""/>
            <p:cNvPicPr/>
            <p:nvPr/>
          </p:nvPicPr>
          <p:blipFill>
            <a:blip r:embed="rId17"/>
            <a:stretch/>
          </p:blipFill>
          <p:spPr>
            <a:xfrm>
              <a:off x="2916360" y="765000"/>
              <a:ext cx="142920" cy="1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 txBox="1"/>
            <p:nvPr/>
          </p:nvSpPr>
          <p:spPr>
            <a:xfrm>
              <a:off x="2916360" y="765000"/>
              <a:ext cx="14292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19"/>
          <p:cNvSpPr/>
          <p:nvPr/>
        </p:nvSpPr>
        <p:spPr>
          <a:xfrm>
            <a:off x="468360" y="404640"/>
            <a:ext cx="7764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如果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大地的每个角落都充满了光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谁还需要星星，谁还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在寒冷中寂寞地燃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寻求星星点点的希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谁愿意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一年又一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总写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苦难的诗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每一首都是一群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颤抖的星星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像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冰雪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覆盖在心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808200" y="2590920"/>
            <a:ext cx="61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反面表达，构成对现实的否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808200" y="6095880"/>
            <a:ext cx="70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第一次反问，写出现实世界的苦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01:51:3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00:18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