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FF3-966E-4820-923D-78B5EE44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917-9544-4AC4-AA2F-EA456088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484-6A0C-46C9-8E40-FDF1FC3E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77C-D536-44E1-8ED4-5C9466FA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F6E-A9FF-4BE5-A3ED-B98EACE2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C3B-C3D4-4884-8699-6A9D153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F07-36FA-4E6A-93D2-E0CEBB3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DB-ED4D-4A8F-9FAC-B48548FF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4AB-E4B8-4417-8961-1CE96E3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10D-CE37-4049-B8F2-6D15837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31A-CACC-40C4-9922-7BCB3B2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422-FE66-419E-9676-89039E2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282-8DB8-48C0-93D2-FEB665C9C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84560" y="981000"/>
            <a:ext cx="31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个小村庄的故事课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小兴安岭图片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0456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12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012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933-5D04-4FC6-AC64-BDD957BDF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《一个小村庄的故事》课文插图一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《一个小村庄的故事》课文插图二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绿色家园三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自然环境的破坏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utton106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7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小村庄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52280" y="3092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树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3124080" y="1523880"/>
            <a:ext cx="152640" cy="381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32004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房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3352680" y="2558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352680" y="3701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352680" y="476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7620120" y="2847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都没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121932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1447920" y="2863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419720" y="3429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181480" y="2863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4038480" y="33973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一年年、一代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76720" y="11430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914400" y="28195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5638680" y="28195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91440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图片资料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556272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板书设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9" name="Picture 12" descr="button106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0" name="一个小村庄的故事.wav" descr=""/>
          <p:cNvPicPr/>
          <p:nvPr/>
        </p:nvPicPr>
        <p:blipFill>
          <a:blip r:embed="rId3"/>
          <a:stretch/>
        </p:blipFill>
        <p:spPr>
          <a:xfrm>
            <a:off x="4152960" y="2057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4920" y="762120"/>
            <a:ext cx="8534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斧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盖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房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造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断   减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914400"/>
            <a:ext cx="853416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栋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具    冒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柴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烟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黎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明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洪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何  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533520" y="835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随着屋顶冒出的柴烟消失在天空中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3473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被当作柴草烧掉了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685800" y="133992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雨没喘气儿。</a:t>
            </a:r>
            <a:r>
              <a:rPr b="1" lang="zh-CN" sz="6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9480" y="33210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雨一直下个不停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835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7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33520" y="3429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用斧头砍的树盖的房子、做成的各式各样的工具，应有尽有的家具，还有那些锋利的斧头，全都没有了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5800" y="835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白桦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林海——白桦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林海——丛林"/>
          <p:cNvPicPr/>
          <p:nvPr/>
        </p:nvPicPr>
        <p:blipFill>
          <a:blip r:embed="rId3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林海——红松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6:4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