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23635-E65F-41ED-B07D-D1A92E60E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BEE5-46AA-48DA-A312-D78C4753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BB030-D05E-4941-9081-95C8808C5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F4ED4-F01F-4258-B995-751950DE6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3B7BD-2C84-4991-96EF-04627E845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7055-9CDD-401C-83F4-1E0A80DC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6C91C-B31C-4A54-8E91-908C69CC3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2BE2-3D77-4DD6-B751-BC128ECD9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EF8FE-3D13-49FD-A8F9-8627CF6CE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A5602-8541-46C6-9676-837332209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3DC7-B281-40CF-9726-703427EE6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B557C-3C8A-4C52-8A7E-502B52E5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3C455-DF0C-484C-9981-7E478C554E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7.png"/><Relationship Id="rId15" Type="http://schemas.openxmlformats.org/officeDocument/2006/relationships/image" Target="../media/image8.png"/><Relationship Id="rId16" Type="http://schemas.openxmlformats.org/officeDocument/2006/relationships/image" Target="../media/image9.png"/><Relationship Id="rId17" Type="http://schemas.openxmlformats.org/officeDocument/2006/relationships/image" Target="../media/image10.png"/><Relationship Id="rId18" Type="http://schemas.openxmlformats.org/officeDocument/2006/relationships/audio" Target="file:///tmp/home/.config/libreoffice/4/user/gallery/explode.wav" TargetMode="External"/><Relationship Id="rId19" Type="http://schemas.microsoft.com/office/2007/relationships/media" Target="file:///tmp/home/.config/libreoffice/4/user/gallery/explode.wav" TargetMode="External"/><Relationship Id="rId20" Type="http://schemas.openxmlformats.org/officeDocument/2006/relationships/image" Target="../media/image11.png"/><Relationship Id="rId21" Type="http://schemas.openxmlformats.org/officeDocument/2006/relationships/image" Target="../media/image12.png"/><Relationship Id="rId22" Type="http://schemas.openxmlformats.org/officeDocument/2006/relationships/image" Target="../media/image12.png"/><Relationship Id="rId23" Type="http://schemas.openxmlformats.org/officeDocument/2006/relationships/image" Target="../media/image12.png"/><Relationship Id="rId24" Type="http://schemas.openxmlformats.org/officeDocument/2006/relationships/image" Target="../media/image12.png"/><Relationship Id="rId25" Type="http://schemas.openxmlformats.org/officeDocument/2006/relationships/image" Target="../media/image12.png"/><Relationship Id="rId26" Type="http://schemas.openxmlformats.org/officeDocument/2006/relationships/image" Target="../media/image12.png"/><Relationship Id="rId27" Type="http://schemas.openxmlformats.org/officeDocument/2006/relationships/image" Target="../media/image12.png"/><Relationship Id="rId2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-376200"/>
            <a:ext cx="9296280" cy="731052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3733920" y="703584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5334120" y="708660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4"/>
          <a:stretch/>
        </p:blipFill>
        <p:spPr>
          <a:xfrm>
            <a:off x="1676520" y="6959520"/>
            <a:ext cx="226800" cy="172728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5"/>
          <a:stretch/>
        </p:blipFill>
        <p:spPr>
          <a:xfrm>
            <a:off x="7467480" y="7086600"/>
            <a:ext cx="196920" cy="149868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6"/>
          <a:stretch/>
        </p:blipFill>
        <p:spPr>
          <a:xfrm>
            <a:off x="-731880" y="-757080"/>
            <a:ext cx="5075280" cy="50749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7"/>
          <a:stretch/>
        </p:blipFill>
        <p:spPr>
          <a:xfrm>
            <a:off x="1778040" y="-83340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8"/>
          <a:stretch/>
        </p:blipFill>
        <p:spPr>
          <a:xfrm>
            <a:off x="3581280" y="-96048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9"/>
          <a:stretch/>
        </p:blipFill>
        <p:spPr>
          <a:xfrm>
            <a:off x="5664240" y="-96048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10"/>
          <a:stretch/>
        </p:blipFill>
        <p:spPr>
          <a:xfrm>
            <a:off x="1752480" y="7112160"/>
            <a:ext cx="227160" cy="17269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11"/>
          <a:stretch/>
        </p:blipFill>
        <p:spPr>
          <a:xfrm>
            <a:off x="3886200" y="718812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12"/>
          <a:stretch/>
        </p:blipFill>
        <p:spPr>
          <a:xfrm>
            <a:off x="5486400" y="7238880"/>
            <a:ext cx="217440" cy="16509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3"/>
          <a:stretch/>
        </p:blipFill>
        <p:spPr>
          <a:xfrm>
            <a:off x="7620120" y="7238880"/>
            <a:ext cx="196560" cy="14986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4"/>
          <a:stretch/>
        </p:blipFill>
        <p:spPr>
          <a:xfrm>
            <a:off x="-833400" y="-909720"/>
            <a:ext cx="5075280" cy="50752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15"/>
          <a:stretch/>
        </p:blipFill>
        <p:spPr>
          <a:xfrm>
            <a:off x="1752480" y="-1066680"/>
            <a:ext cx="5079960" cy="50767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6"/>
          <a:stretch/>
        </p:blipFill>
        <p:spPr>
          <a:xfrm>
            <a:off x="3530520" y="-985680"/>
            <a:ext cx="5079960" cy="50749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7"/>
          <a:stretch/>
        </p:blipFill>
        <p:spPr>
          <a:xfrm>
            <a:off x="5867280" y="-1138320"/>
            <a:ext cx="5079960" cy="50752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>
            <a:hlinkClick r:id="" action="ppaction://media"/>
          </p:cNvPr>
          <p:cNvPicPr/>
          <p:nvPr>
            <a:audioFile r:link="rId18"/>
            <p:extLst>
              <p:ext uri="{DAA4B4D4-6D71-4841-9C94-3DE7FCFB9230}">
                <p14:media r:link="rId19"/>
              </p:ext>
            </p:extLst>
          </p:nvPr>
        </p:nvPicPr>
        <p:blipFill>
          <a:blip r:embed="rId20"/>
          <a:stretch>
            <a:fillRect/>
          </a:stretch>
        </p:blipFill>
        <p:spPr>
          <a:xfrm>
            <a:off x="10210680" y="22096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1"/>
          <a:stretch/>
        </p:blipFill>
        <p:spPr>
          <a:xfrm>
            <a:off x="10363320" y="23623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2"/>
          <a:stretch/>
        </p:blipFill>
        <p:spPr>
          <a:xfrm>
            <a:off x="10515600" y="25146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3"/>
          <a:stretch/>
        </p:blipFill>
        <p:spPr>
          <a:xfrm>
            <a:off x="10667880" y="26668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4"/>
          <a:stretch/>
        </p:blipFill>
        <p:spPr>
          <a:xfrm>
            <a:off x="10820520" y="28195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5"/>
          <a:stretch/>
        </p:blipFill>
        <p:spPr>
          <a:xfrm>
            <a:off x="10972800" y="29718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6"/>
          <a:stretch/>
        </p:blipFill>
        <p:spPr>
          <a:xfrm>
            <a:off x="11125080" y="312408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7"/>
          <a:stretch/>
        </p:blipFill>
        <p:spPr>
          <a:xfrm>
            <a:off x="11277720" y="327672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1371600" y="525780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040840" y="4267080"/>
            <a:ext cx="268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烟花动态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模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0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286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8" dur="2000" fill="hold"/>
                                        <p:tgtEl>
                                          <p:spTgt spid="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9" nodeType="with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" dur="1286" fill="hold"/>
                                        <p:tgtEl>
                                          <p:spTgt spid="5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1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12" dur="2000" fill="hold"/>
                                        <p:tgtEl>
                                          <p:spTgt spid="4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3" nodeType="with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286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16" dur="2000" fill="hold"/>
                                        <p:tgtEl>
                                          <p:spTgt spid="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" nodeType="withEffect" fill="hold" presetClass="mediacall" presetID="1">
                                  <p:stCondLst>
                                    <p:cond delay="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286" fill="hold"/>
                                        <p:tgtEl>
                                          <p:spTgt spid="6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20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9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1286" fill="hold"/>
                                        <p:tgtEl>
                                          <p:spTgt spid="6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1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42" dur="2000" fill="hold"/>
                                        <p:tgtEl>
                                          <p:spTgt spid="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" nodeType="withEffect" fill="hold" presetClass="mediacall" presetID="1">
                                  <p:stCondLst>
                                    <p:cond delay="2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" dur="1286" fill="hold"/>
                                        <p:tgtEl>
                                          <p:spTgt spid="6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5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46" dur="2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" nodeType="withEffect" fill="hold" presetClass="mediacall" presetID="1">
                                  <p:stCondLst>
                                    <p:cond delay="40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1286" fill="hold"/>
                                        <p:tgtEl>
                                          <p:spTgt spid="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49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50" dur="2000" fill="hold"/>
                                        <p:tgtEl>
                                          <p:spTgt spid="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51" nodeType="withEffect" fill="hold" presetClass="mediacall" presetID="1">
                                  <p:stCondLst>
                                    <p:cond delay="60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1286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3" nodeType="withEffect" fill="hold" presetClass="path" presetID="64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0 4.38483E-006 L 0.00313 -0.86402 E">
                                      <p:cBhvr>
                                        <p:cTn id="54" dur="2000" fill="hold"/>
                                        <p:tgtEl>
                                          <p:spTgt spid="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7900"/>
                            </p:stCondLst>
                            <p:childTnLst>
                              <p:par>
                                <p:cTn id="5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2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3" presetSubtype="16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CE58-5794-4867-BA42-46DB8A5173B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03T07:53:44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9T01:25:41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  <property fmtid="{D5CDD505-2E9C-101B-9397-08002B2CF9AE}" pid="3" name="Version">
    <vt:r8>1</vt:r8>
  </property>
</Properties>
</file>