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1B4-4284-4A2A-9528-9CF4874E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041-9447-46F8-B7AF-C8676B38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27F-6476-4288-9427-B7C4D1EE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407-0CC9-4F67-B8CA-F71E1B35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299-C546-4C1D-955B-C3A96119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B84-F03B-4825-9F93-9CD20A43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694-E548-4777-B07E-55651B3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3A8-16E0-4650-9410-EC6D5EF0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6DF-944C-4F55-8016-B38F72E2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876-3DC6-4A23-9BD0-317D26B7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D91-B405-4D9C-BA1C-C4A48180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FEF-C58A-4586-B788-54A0DEED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3003-D199-4479-B0EA-A4F2C131A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3,2,&#24187;&#28783;&#29255; 2" TargetMode="External"/><Relationship Id="rId3" Type="http://schemas.openxmlformats.org/officeDocument/2006/relationships/hyperlink" Target="274,3,&#24187;&#28783;&#29255; 3" TargetMode="External"/><Relationship Id="rId4" Type="http://schemas.openxmlformats.org/officeDocument/2006/relationships/hyperlink" Target="275,4,&#24187;&#28783;&#29255; 4" TargetMode="External"/><Relationship Id="rId5" Type="http://schemas.openxmlformats.org/officeDocument/2006/relationships/hyperlink" Target="277,6,&#24187;&#28783;&#29255; 6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2,1,&#24187;&#28783;&#29255; 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76,5,&#24187;&#28783;&#29255; 5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72,1,&#24187;&#28783;&#29255; 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72,1,&#24187;&#28783;&#29255; 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826920" y="692280"/>
            <a:ext cx="6783480" cy="5012640"/>
            <a:chOff x="826920" y="692280"/>
            <a:chExt cx="6783480" cy="5012640"/>
          </a:xfrm>
        </p:grpSpPr>
        <p:sp>
          <p:nvSpPr>
            <p:cNvPr id="42" name="Text Box 3"/>
            <p:cNvSpPr/>
            <p:nvPr/>
          </p:nvSpPr>
          <p:spPr>
            <a:xfrm>
              <a:off x="1590480" y="692280"/>
              <a:ext cx="60199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ccff"/>
                  </a:solidFill>
                  <a:latin typeface="Times New Roman"/>
                </a:rPr>
                <a:t>                          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ccff"/>
                  </a:solidFill>
                  <a:latin typeface="Times New Roman"/>
                </a:rPr>
                <a:t>                                  </a:t>
              </a:r>
              <a:r>
                <a:rPr b="1" lang="zh-CN" sz="3200" spc="-1" strike="noStrike">
                  <a:solidFill>
                    <a:srgbClr val="00ccff"/>
                  </a:solidFill>
                  <a:latin typeface="Times New Roman"/>
                </a:rPr>
                <a:t>陶渊明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Text Box 8"/>
            <p:cNvSpPr/>
            <p:nvPr/>
          </p:nvSpPr>
          <p:spPr>
            <a:xfrm>
              <a:off x="826920" y="2635200"/>
              <a:ext cx="3352680" cy="30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cc99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ff"/>
                  </a:solidFill>
                  <a:uFillTx/>
                  <a:latin typeface="Times New Roman"/>
                  <a:hlinkClick r:id="rId2"/>
                </a:rPr>
                <a:t>课文朗读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cc99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ff"/>
                  </a:solidFill>
                  <a:uFillTx/>
                  <a:latin typeface="Times New Roman"/>
                  <a:hlinkClick r:id="rId3"/>
                </a:rPr>
                <a:t>作者介绍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cc99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ff"/>
                  </a:solidFill>
                  <a:uFillTx/>
                  <a:latin typeface="Times New Roman"/>
                  <a:hlinkClick r:id="rId4"/>
                </a:rPr>
                <a:t>全文解释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cc99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ff"/>
                  </a:solidFill>
                  <a:uFillTx/>
                  <a:latin typeface="Times New Roman"/>
                  <a:hlinkClick r:id="rId5"/>
                </a:rPr>
                <a:t>课堂作业</a:t>
              </a:r>
              <a:endParaRPr b="1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55520" y="909720"/>
            <a:ext cx="34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饮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件模板下载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1979640" y="736560"/>
            <a:ext cx="495288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ffd1"/>
                </a:solidFill>
                <a:latin typeface="Times New Roman"/>
              </a:rPr>
              <a:t>饮      酒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ffd1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47ffd1"/>
                </a:solidFill>
                <a:latin typeface="Times New Roman"/>
              </a:rPr>
              <a:t>陶渊明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ffd1"/>
                </a:solidFill>
                <a:latin typeface="Times New Roman"/>
              </a:rPr>
              <a:t>结庐在人境，而无车马喧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ffd1"/>
                </a:solidFill>
                <a:latin typeface="Times New Roman"/>
              </a:rPr>
              <a:t>问君何能尔，心远地自偏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ffd1"/>
                </a:solidFill>
                <a:latin typeface="Times New Roman"/>
              </a:rPr>
              <a:t>采菊东篱下，悠然见南山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ffd1"/>
                </a:solidFill>
                <a:latin typeface="Times New Roman"/>
              </a:rPr>
              <a:t>山气日夕佳，飞鸟相与还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ffd1"/>
                </a:solidFill>
                <a:latin typeface="Times New Roman"/>
              </a:rPr>
              <a:t>此中有真意，欲辨已忘言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6453360"/>
            <a:ext cx="61120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1500" spc="-1" strike="noStrike">
                <a:solidFill>
                  <a:srgbClr val="660066"/>
                </a:solidFill>
                <a:latin typeface="Times New Roman"/>
              </a:rPr>
              <a:t>http://www.eeppt.com/moban/kejian/</a:t>
            </a:r>
            <a:endParaRPr b="1" lang="en-US" sz="15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5AF-4528-4AC4-8A70-3503F8CB7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"/>
          <p:cNvSpPr/>
          <p:nvPr/>
        </p:nvSpPr>
        <p:spPr>
          <a:xfrm>
            <a:off x="3708360" y="335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112536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陶渊明（</a:t>
            </a:r>
            <a:r>
              <a:rPr b="1" lang="en-US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365---427</a:t>
            </a:r>
            <a:r>
              <a:rPr b="1" lang="zh-CN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），一名潜，资元亮，东晋浔阳柴桑（现江西九江）人，诗人。</a:t>
            </a:r>
            <a:r>
              <a:rPr b="1" lang="en-US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《</a:t>
            </a:r>
            <a:r>
              <a:rPr b="1" lang="zh-CN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饮酒</a:t>
            </a:r>
            <a:r>
              <a:rPr b="1" lang="en-US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》</a:t>
            </a:r>
            <a:r>
              <a:rPr b="1" lang="zh-CN" sz="4400" spc="-1" strike="noStrike">
                <a:solidFill>
                  <a:srgbClr val="47ffd1"/>
                </a:solidFill>
                <a:latin typeface="华文楷体"/>
                <a:ea typeface="华文楷体"/>
              </a:rPr>
              <a:t>共二十首，这里选的是第五首。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5791320"/>
            <a:ext cx="685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返回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62120" y="99072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结庐在人境，而无车马喧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问君何能尔，心远地自偏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600200" y="28954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居住在喧嚣的尘世，为什么生活是如此的平静、心灵是如此的安宁呢？原来是自己保留着一颗远离俗世的心。这几句语言朴实，却道出了他自己的心境和生活的真谛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Times New Roman"/>
              </a:rPr>
              <a:t>解释：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534520" y="5791320"/>
            <a:ext cx="609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继续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209680" y="30492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采菊东篱下，悠然见南山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山气日夕佳，飞鸟相与还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此中有真意，欲辨已忘言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2819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Times New Roman"/>
              </a:rPr>
              <a:t>解释：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828800" y="2819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自己在东篱下采菊，不经意间看见了南山。山中的落日，回巢的飞鸟，都显得那样美妙，那么富有人情，都能让人忘记周围的一切，让人体会到生活的真谛。但世界上最美好的东西往往是无法用语言表达的，只能用心灵去感受它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8077320" y="62784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返回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22860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作业：联系全诗，回答问题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、解释下列诗句，说说你的理解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此中有真意，欲辨已忘言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205740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此情此境中的田园生活含有人生的真正意义，想辨别出来，却忘了该用怎样的语言来表达了。实际上，作者的真正意思是：这其中含有的生活的真意，又何必去辨别、去用语言表达呢？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69800" y="38862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ccff"/>
                </a:solidFill>
                <a:latin typeface="Times New Roman"/>
              </a:rPr>
              <a:t>、“采菊东篱下，悠然见南山。”“悠然”写出了作者怎样的心情？如果把“见”改成“望”好不好？为什么？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480" y="5181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悠然”写出了作者那种恬淡、闲适、对生活无所求的心情。改成“望”不好，“见”表现出诗人看到山不是有意为之，而是在采菊之间无意中山的形象映入眼帘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001000" y="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返回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14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22:35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