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A46-8EE6-4682-ABED-5BBACF97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A0A-0D03-4FD6-B66C-A9866D6A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999-3AC4-4EF5-BCA1-19091F65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D87-F6C8-49C8-B7D9-4EE6E17C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F01-C3FD-42B8-8115-2F2890A5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EEA-96CB-40A8-A58A-0E7A3C10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337-4979-4E64-AA24-E301720A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FB7-EAD7-4236-A8ED-65F37AF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1E3D-2D11-42DB-966D-6618F03F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592-49FA-4ACB-9E90-95A7C67C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3E8-0089-45B8-918A-DC6B697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5AD-5C7B-41C0-AE4A-EAB2A1F1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597-8010-4D4F-87EF-C8A5FA964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7.png"/><Relationship Id="rId4" Type="http://schemas.openxmlformats.org/officeDocument/2006/relationships/audio" Target="file:///usr/lib/libreoffice/share/gallery/sounds/laser.wav" TargetMode="External"/><Relationship Id="rId5" Type="http://schemas.microsoft.com/office/2007/relationships/media" Target="file:///usr/lib/libreoffice/share/gallery/sounds/laser.wav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26"/>
          <p:cNvSpPr/>
          <p:nvPr/>
        </p:nvSpPr>
        <p:spPr>
          <a:xfrm>
            <a:off x="324000" y="1773360"/>
            <a:ext cx="8458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71960" y="1125360"/>
            <a:ext cx="31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一夜的工作》优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演示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03280" y="1700280"/>
            <a:ext cx="2987640" cy="22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148360" y="1557360"/>
            <a:ext cx="3203640" cy="2403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87000" y="4869000"/>
            <a:ext cx="36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周总理到河北邢台地震灾区慰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一夜的工作7.MPG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994200" cy="2995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492360" y="508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带病坚持工作的总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一夜的工作8.MPG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068720" cy="3051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708360" y="5229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命垂危的总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2992226"/>
          <p:cNvPicPr/>
          <p:nvPr/>
        </p:nvPicPr>
        <p:blipFill>
          <a:blip r:embed="rId1"/>
          <a:stretch/>
        </p:blipFill>
        <p:spPr>
          <a:xfrm>
            <a:off x="3059280" y="476280"/>
            <a:ext cx="2736720" cy="205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992217"/>
          <p:cNvPicPr/>
          <p:nvPr/>
        </p:nvPicPr>
        <p:blipFill>
          <a:blip r:embed="rId2"/>
          <a:stretch/>
        </p:blipFill>
        <p:spPr>
          <a:xfrm>
            <a:off x="5580000" y="2924280"/>
            <a:ext cx="3097440" cy="2043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349236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人震撼的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1" descr="080307215775495"/>
          <p:cNvPicPr/>
          <p:nvPr/>
        </p:nvPicPr>
        <p:blipFill>
          <a:blip r:embed="rId3"/>
          <a:srcRect l="0" t="0" r="803" b="10491"/>
          <a:stretch/>
        </p:blipFill>
        <p:spPr>
          <a:xfrm>
            <a:off x="826920" y="2924280"/>
            <a:ext cx="31672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200705121045473186267"/>
          <p:cNvPicPr/>
          <p:nvPr/>
        </p:nvPicPr>
        <p:blipFill>
          <a:blip r:embed="rId1"/>
          <a:stretch/>
        </p:blipFill>
        <p:spPr>
          <a:xfrm>
            <a:off x="611280" y="1987560"/>
            <a:ext cx="2333520" cy="1681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2006636628317"/>
          <p:cNvPicPr/>
          <p:nvPr/>
        </p:nvPicPr>
        <p:blipFill>
          <a:blip r:embed="rId2"/>
          <a:stretch/>
        </p:blipFill>
        <p:spPr>
          <a:xfrm>
            <a:off x="6227640" y="1916280"/>
            <a:ext cx="2303640" cy="1760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90920" y="1987560"/>
            <a:ext cx="2239920" cy="1681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2987640" y="472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令人震撼的送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533520" y="10666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回来的路上，我不断地想，不断地对自己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就是我们新中国的总理。我看见了他一夜的工作。他是多么劳苦，多么简朴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想高声对全世界说，好像全世界都能听见我的声音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看啊，这就是我们中华人民共和国的总理。我看见他一夜的工作。他每个夜晚都是这 样工作的。你们看见过这样的总理吗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"/>
          <p:cNvSpPr/>
          <p:nvPr/>
        </p:nvSpPr>
        <p:spPr>
          <a:xfrm>
            <a:off x="2556000" y="2060640"/>
            <a:ext cx="59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5003640" y="4005360"/>
            <a:ext cx="324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684360" y="4581360"/>
            <a:ext cx="28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987640" y="2276640"/>
            <a:ext cx="7176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完了这篇文章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有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话要对总理说请写在插图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8720" y="4581360"/>
            <a:ext cx="82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871-EC21-4109-87A4-3FB82F07EC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76720" y="2781360"/>
            <a:ext cx="350820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华文新魏"/>
              </a:rPr>
              <a:t>再见！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10429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935520" y="351000"/>
            <a:ext cx="48225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 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周恩来 （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4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～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76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马 克 思 主 义 者， 无 产 阶 级 革 命 家、 政 治 家、 军 事 家 和 外 交 家， 中 国 共 产 党、中 华 人 民 共 和 国 主 要 领 导 人 之 一， 中 国 人 民 解 放 军 创 建 人 之 一， 中 华 人 民 共 和 国 总理 。 原 籍 浙 江 绍 兴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17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在 天 津 南 开 学 校 毕 业后 赴 日 本 求 学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1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回 国，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9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月 入 南 开 大 学， 在 五 四 运 动 中 成 为 天 津 学 生 界 的 领导 人， 并 与 运 动 中 的 其 他 活 动 分 子 共 同 组 织 进 步 团 体 觉 悟 社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20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去 法 国 勤 工 俭学。 </a:t>
            </a:r>
            <a:r>
              <a:rPr b="1" lang="en-US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1921 </a:t>
            </a:r>
            <a:r>
              <a:rPr b="1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年 参 加 中 国 共 产 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zhou en lai"/>
          <p:cNvPicPr/>
          <p:nvPr/>
        </p:nvPicPr>
        <p:blipFill>
          <a:blip r:embed="rId1"/>
          <a:stretch/>
        </p:blipFill>
        <p:spPr>
          <a:xfrm>
            <a:off x="324000" y="1052640"/>
            <a:ext cx="3313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8520" y="1844640"/>
            <a:ext cx="413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劳苦”，请用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并在感受最深的句子旁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0948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他一句一句地审阅，看完一句就用笔在那一句后面画一个小圆圈。他不是浏览一遍就算了，而是一边看一边思索，有时停笔想一想，有时问我一两句。夜很静，经过相当长的时间总理才审阅完，把稿子交给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3780000" y="2205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哪些句子写出总理工作的“简朴”，请用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~~~~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画出，并在感受最深的句子旁边写上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3"/>
          <p:cNvSpPr txBox="1"/>
          <p:nvPr/>
        </p:nvSpPr>
        <p:spPr>
          <a:xfrm rot="21345600">
            <a:off x="4876920" y="1371240"/>
            <a:ext cx="251604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00ccff">
                    <a:alpha val="50000"/>
                  </a:srgbClr>
                </a:solidFill>
                <a:latin typeface="宋体"/>
              </a:rPr>
              <a:t>辩一辩</a:t>
            </a:r>
            <a:endParaRPr b="0" lang="en-US" sz="2400" spc="1" strike="noStrike">
              <a:ln w="38160">
                <a:solidFill>
                  <a:srgbClr val="0000ff"/>
                </a:solidFill>
                <a:miter/>
              </a:ln>
              <a:solidFill>
                <a:srgbClr val="00ccff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187280" y="278136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生米并不多，可以数得清颗数，好像并没有因为多了一个人而增加了分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43000" y="4448160"/>
            <a:ext cx="54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请辩一辩：花生米有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有增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63680" y="1371600"/>
            <a:ext cx="868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比较下面两个句子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生米并不多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可以数得清颗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隶书"/>
                <a:ea typeface="隶书"/>
              </a:rPr>
              <a:t>好像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没有因为多了一个人而增加了分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花生米并不多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可以数得清颗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并没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因为多了一个人而增加了分量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098960" y="428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496600" y="1484280"/>
            <a:ext cx="5471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间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97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至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起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与尼雷尔会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 陪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政治局会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半      约民航局同志开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  办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去东郊迎接西哈努克亲王和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下午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时      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700360" y="333360"/>
            <a:ext cx="496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周总理的一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87000" y="4869000"/>
            <a:ext cx="36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周总理到河北邢台地震灾区慰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1966年周总理到河北邢台地震灾区慰问"/>
          <p:cNvPicPr/>
          <p:nvPr/>
        </p:nvPicPr>
        <p:blipFill>
          <a:blip r:embed="rId1"/>
          <a:stretch/>
        </p:blipFill>
        <p:spPr>
          <a:xfrm>
            <a:off x="5076720" y="1628640"/>
            <a:ext cx="3780000" cy="260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042920" y="1628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0:16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9:17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