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FC9-210E-4389-B352-DC5339E1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716-8623-4B8C-B256-05C74AEA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39A-D49C-42EC-AC1D-DCFCA1F9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3D4-6DA2-40AC-BADB-AF8BF0B3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D54-9D86-437E-83FE-DCC2EA5D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791-BD24-4DAC-9510-68FFB099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2BD-6788-42E8-A597-A328E523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C93-04DF-4F7B-A98A-DED72C2A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F94-04BF-43D3-B81C-B01A2E07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C6E-8A2D-479F-985F-D3B3330A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416-BD9D-434A-AE1C-9C8D992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F3A-BDF3-4481-A27B-84EA0997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66F6-D174-4D13-B0F8-A2F86D2448E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132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Comic Sans MS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字方塊 4"/>
          <p:cNvSpPr/>
          <p:nvPr/>
        </p:nvSpPr>
        <p:spPr>
          <a:xfrm>
            <a:off x="428760" y="2357280"/>
            <a:ext cx="72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Happy Teacher’s 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字方塊 6"/>
          <p:cNvSpPr/>
          <p:nvPr/>
        </p:nvSpPr>
        <p:spPr>
          <a:xfrm>
            <a:off x="428760" y="357192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Thank you 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字方塊 7"/>
          <p:cNvSpPr/>
          <p:nvPr/>
        </p:nvSpPr>
        <p:spPr>
          <a:xfrm>
            <a:off x="500040" y="47149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I love you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圖片 8" descr="j0446310.wmf"/>
          <p:cNvPicPr/>
          <p:nvPr/>
        </p:nvPicPr>
        <p:blipFill>
          <a:blip r:embed="rId1"/>
          <a:stretch/>
        </p:blipFill>
        <p:spPr>
          <a:xfrm>
            <a:off x="5784840" y="3645000"/>
            <a:ext cx="2352600" cy="2307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3040" y="98100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Teacher’s Day </a:t>
            </a:r>
            <a:r>
              <a:rPr b="1" lang="zh-TW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教師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字方塊 4"/>
          <p:cNvSpPr/>
          <p:nvPr/>
        </p:nvSpPr>
        <p:spPr>
          <a:xfrm>
            <a:off x="826920" y="206064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September 2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字方塊 5"/>
          <p:cNvSpPr/>
          <p:nvPr/>
        </p:nvSpPr>
        <p:spPr>
          <a:xfrm>
            <a:off x="1285920" y="32860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Comic Sans MS"/>
                <a:ea typeface="文鼎中楷"/>
              </a:rPr>
              <a:t>九月二十八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字方塊 6"/>
          <p:cNvSpPr/>
          <p:nvPr/>
        </p:nvSpPr>
        <p:spPr>
          <a:xfrm>
            <a:off x="755640" y="4724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Comic Sans MS"/>
                <a:ea typeface="文鼎中楷"/>
              </a:rPr>
              <a:t>Happy  Teac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圖片 7" descr="AG00399_.gif"/>
          <p:cNvPicPr/>
          <p:nvPr/>
        </p:nvPicPr>
        <p:blipFill>
          <a:blip r:embed="rId1"/>
          <a:stretch/>
        </p:blipFill>
        <p:spPr>
          <a:xfrm>
            <a:off x="7667640" y="5732640"/>
            <a:ext cx="1114560" cy="8762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8" descr="j0446314.wmf"/>
          <p:cNvPicPr/>
          <p:nvPr/>
        </p:nvPicPr>
        <p:blipFill>
          <a:blip r:embed="rId2"/>
          <a:stretch/>
        </p:blipFill>
        <p:spPr>
          <a:xfrm>
            <a:off x="6804000" y="1341360"/>
            <a:ext cx="1800360" cy="1811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377-D2D4-4F84-8135-EA4902FCD0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0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54:1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