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27D-DE51-448A-AF66-0B374BC7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F69-EA3F-4FA6-A79F-89FD38ED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7FE-D882-4C26-A251-E7110ACB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48D-0129-4132-9CC6-2E9F1734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CDF-B5F9-449A-8A79-D3101FA1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BDC-B1D1-4BAF-A22C-B6EAA59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6F1-F63C-47AF-B85F-86789EC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89F-DCD8-456F-B1FE-D16031A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6B1-F9CD-49C8-BAF8-BA65E77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9C5-C6D1-4935-B09A-FE33FE9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E2A-C3CB-4A18-8BB1-B7D52D5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8D2-A693-490C-9F14-DF56D1E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ED9F-900F-4BD7-97E0-0B953508A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1341360"/>
            <a:ext cx="59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14600" y="3657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7"/>
          <p:cNvSpPr/>
          <p:nvPr/>
        </p:nvSpPr>
        <p:spPr>
          <a:xfrm>
            <a:off x="5867280" y="5257800"/>
            <a:ext cx="19814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上  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440" y="1628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有余数的除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354480" y="13716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谢谢指导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2514600" y="2743200"/>
            <a:ext cx="4495680" cy="19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6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再见！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复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开火车背诵表内乘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21600" y="1752480"/>
            <a:ext cx="548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算一算：（用竖式计算）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48÷6=        25÷5=       8÷2=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4÷3=        49÷7=       12÷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49320" y="3657600"/>
            <a:ext cx="592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、说一说（  ）里最大能填几？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5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28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50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7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45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4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31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8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18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（  ）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×9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58E-D427-4C1F-9B4D-323260576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228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新知识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318040" y="1981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分组讨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5"/>
          <p:cNvSpPr/>
          <p:nvPr/>
        </p:nvSpPr>
        <p:spPr>
          <a:xfrm>
            <a:off x="662940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提 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"/>
          <p:cNvSpPr/>
          <p:nvPr/>
        </p:nvSpPr>
        <p:spPr>
          <a:xfrm>
            <a:off x="449568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练  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28600" y="4952880"/>
            <a:ext cx="2133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  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362320" y="4952880"/>
            <a:ext cx="213336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比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52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分组汇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39480" y="83808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209920" y="83808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39480" y="373392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209920" y="3657600"/>
            <a:ext cx="35946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摆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：每组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组，剩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 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29280" y="182880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3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533520" y="2209680"/>
            <a:ext cx="1371600" cy="1450440"/>
            <a:chOff x="533520" y="2209680"/>
            <a:chExt cx="1371600" cy="1450440"/>
          </a:xfrm>
        </p:grpSpPr>
        <p:sp>
          <p:nvSpPr>
            <p:cNvPr id="70" name="Line 9"/>
            <p:cNvSpPr/>
            <p:nvPr/>
          </p:nvSpPr>
          <p:spPr>
            <a:xfrm>
              <a:off x="990720" y="259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901080" y="2514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1144800" y="25146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533520" y="25146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371600" y="2209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1144800" y="2819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91440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6"/>
            <p:cNvSpPr/>
            <p:nvPr/>
          </p:nvSpPr>
          <p:spPr>
            <a:xfrm>
              <a:off x="1371600" y="32004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8"/>
          <p:cNvSpPr/>
          <p:nvPr/>
        </p:nvSpPr>
        <p:spPr>
          <a:xfrm>
            <a:off x="260784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余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1828800" y="2209680"/>
            <a:ext cx="1691280" cy="1148040"/>
            <a:chOff x="1828800" y="2209680"/>
            <a:chExt cx="1691280" cy="1148040"/>
          </a:xfrm>
        </p:grpSpPr>
        <p:sp>
          <p:nvSpPr>
            <p:cNvPr id="80" name="Line 19"/>
            <p:cNvSpPr/>
            <p:nvPr/>
          </p:nvSpPr>
          <p:spPr>
            <a:xfrm>
              <a:off x="1828800" y="3352680"/>
              <a:ext cx="762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H="1">
              <a:off x="2964960" y="2209680"/>
              <a:ext cx="1800" cy="75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2607840" y="2898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没有分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23"/>
          <p:cNvSpPr/>
          <p:nvPr/>
        </p:nvSpPr>
        <p:spPr>
          <a:xfrm>
            <a:off x="5429880" y="19051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4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5334120" y="2209680"/>
            <a:ext cx="1371600" cy="1450440"/>
            <a:chOff x="5334120" y="2209680"/>
            <a:chExt cx="1371600" cy="1450440"/>
          </a:xfrm>
        </p:grpSpPr>
        <p:sp>
          <p:nvSpPr>
            <p:cNvPr id="85" name="Line 25"/>
            <p:cNvSpPr/>
            <p:nvPr/>
          </p:nvSpPr>
          <p:spPr>
            <a:xfrm>
              <a:off x="5791320" y="259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5701680" y="2514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5945400" y="25146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5334120" y="25146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172200" y="2209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5945400" y="2819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571500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32"/>
            <p:cNvSpPr/>
            <p:nvPr/>
          </p:nvSpPr>
          <p:spPr>
            <a:xfrm>
              <a:off x="6172200" y="32004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33"/>
          <p:cNvGrpSpPr/>
          <p:nvPr/>
        </p:nvGrpSpPr>
        <p:grpSpPr>
          <a:xfrm>
            <a:off x="380880" y="5181480"/>
            <a:ext cx="1371600" cy="1450440"/>
            <a:chOff x="380880" y="5181480"/>
            <a:chExt cx="1371600" cy="1450440"/>
          </a:xfrm>
        </p:grpSpPr>
        <p:sp>
          <p:nvSpPr>
            <p:cNvPr id="94" name="Line 34"/>
            <p:cNvSpPr/>
            <p:nvPr/>
          </p:nvSpPr>
          <p:spPr>
            <a:xfrm>
              <a:off x="838080" y="55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35"/>
            <p:cNvSpPr/>
            <p:nvPr/>
          </p:nvSpPr>
          <p:spPr>
            <a:xfrm>
              <a:off x="74844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6"/>
            <p:cNvSpPr/>
            <p:nvPr/>
          </p:nvSpPr>
          <p:spPr>
            <a:xfrm>
              <a:off x="992160" y="5486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7"/>
            <p:cNvSpPr/>
            <p:nvPr/>
          </p:nvSpPr>
          <p:spPr>
            <a:xfrm>
              <a:off x="380880" y="54864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1218960" y="51814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39"/>
            <p:cNvSpPr/>
            <p:nvPr/>
          </p:nvSpPr>
          <p:spPr>
            <a:xfrm>
              <a:off x="992160" y="5790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0"/>
            <p:cNvSpPr/>
            <p:nvPr/>
          </p:nvSpPr>
          <p:spPr>
            <a:xfrm>
              <a:off x="76176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1"/>
            <p:cNvSpPr/>
            <p:nvPr/>
          </p:nvSpPr>
          <p:spPr>
            <a:xfrm>
              <a:off x="1218960" y="61722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2"/>
          <p:cNvGrpSpPr/>
          <p:nvPr/>
        </p:nvGrpSpPr>
        <p:grpSpPr>
          <a:xfrm>
            <a:off x="5334120" y="5181480"/>
            <a:ext cx="1371600" cy="1450440"/>
            <a:chOff x="5334120" y="5181480"/>
            <a:chExt cx="1371600" cy="1450440"/>
          </a:xfrm>
        </p:grpSpPr>
        <p:sp>
          <p:nvSpPr>
            <p:cNvPr id="103" name="Line 43"/>
            <p:cNvSpPr/>
            <p:nvPr/>
          </p:nvSpPr>
          <p:spPr>
            <a:xfrm>
              <a:off x="5791320" y="55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4"/>
            <p:cNvSpPr/>
            <p:nvPr/>
          </p:nvSpPr>
          <p:spPr>
            <a:xfrm>
              <a:off x="570168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5"/>
            <p:cNvSpPr/>
            <p:nvPr/>
          </p:nvSpPr>
          <p:spPr>
            <a:xfrm>
              <a:off x="5945400" y="5486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5334120" y="548640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7"/>
            <p:cNvSpPr/>
            <p:nvPr/>
          </p:nvSpPr>
          <p:spPr>
            <a:xfrm>
              <a:off x="6172200" y="51814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8"/>
            <p:cNvSpPr/>
            <p:nvPr/>
          </p:nvSpPr>
          <p:spPr>
            <a:xfrm>
              <a:off x="5945400" y="5790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9"/>
            <p:cNvSpPr/>
            <p:nvPr/>
          </p:nvSpPr>
          <p:spPr>
            <a:xfrm>
              <a:off x="571500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0"/>
            <p:cNvSpPr/>
            <p:nvPr/>
          </p:nvSpPr>
          <p:spPr>
            <a:xfrm>
              <a:off x="6172200" y="61722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51"/>
          <p:cNvSpPr/>
          <p:nvPr/>
        </p:nvSpPr>
        <p:spPr>
          <a:xfrm>
            <a:off x="553320" y="480060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5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2"/>
          <p:cNvSpPr/>
          <p:nvPr/>
        </p:nvSpPr>
        <p:spPr>
          <a:xfrm>
            <a:off x="5429880" y="472428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÷6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组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·····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7620120" y="6019920"/>
            <a:ext cx="12952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8"/>
          <p:cNvSpPr/>
          <p:nvPr/>
        </p:nvSpPr>
        <p:spPr>
          <a:xfrm>
            <a:off x="7267680" y="5978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对比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657080" y="1039680"/>
            <a:ext cx="564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请同学们仔细观察下面的两个算式，看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1371600" y="2286000"/>
            <a:ext cx="1371600" cy="1450440"/>
            <a:chOff x="1371600" y="2286000"/>
            <a:chExt cx="1371600" cy="1450440"/>
          </a:xfrm>
        </p:grpSpPr>
        <p:sp>
          <p:nvSpPr>
            <p:cNvPr id="120" name="Line 6"/>
            <p:cNvSpPr/>
            <p:nvPr/>
          </p:nvSpPr>
          <p:spPr>
            <a:xfrm>
              <a:off x="182880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173916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1982880" y="25909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1371600" y="259092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2209680" y="228600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1982880" y="2895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752480" y="3276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2209680" y="32767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400800" y="2362320"/>
            <a:ext cx="1371600" cy="1450080"/>
            <a:chOff x="6400800" y="2362320"/>
            <a:chExt cx="1371600" cy="1450080"/>
          </a:xfrm>
        </p:grpSpPr>
        <p:sp>
          <p:nvSpPr>
            <p:cNvPr id="129" name="Line 15"/>
            <p:cNvSpPr/>
            <p:nvPr/>
          </p:nvSpPr>
          <p:spPr>
            <a:xfrm>
              <a:off x="6858000" y="274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6768360" y="2666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7012080" y="26668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6400800" y="266688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9"/>
            <p:cNvSpPr/>
            <p:nvPr/>
          </p:nvSpPr>
          <p:spPr>
            <a:xfrm>
              <a:off x="7238880" y="23623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7012080" y="297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1"/>
            <p:cNvSpPr/>
            <p:nvPr/>
          </p:nvSpPr>
          <p:spPr>
            <a:xfrm>
              <a:off x="678168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2"/>
            <p:cNvSpPr/>
            <p:nvPr/>
          </p:nvSpPr>
          <p:spPr>
            <a:xfrm>
              <a:off x="7238880" y="33526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23"/>
          <p:cNvSpPr/>
          <p:nvPr/>
        </p:nvSpPr>
        <p:spPr>
          <a:xfrm>
            <a:off x="887760" y="444492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算式刚好整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余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5459760" y="4495680"/>
            <a:ext cx="29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这个算式没有整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有余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7"/>
          <p:cNvSpPr/>
          <p:nvPr/>
        </p:nvSpPr>
        <p:spPr>
          <a:xfrm>
            <a:off x="6705720" y="5867280"/>
            <a:ext cx="190476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62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教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51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做一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3520" y="19051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教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P53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页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09480" y="266688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算一算：把我们班的同学平均分成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个小组，每个小组多少人？还剩多少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6629400" y="57150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返  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648320" y="5715000"/>
            <a:ext cx="190476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提 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提高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小明带了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钱，到书店买了一本字典，用去了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，剩下的钱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元钱一本的故事书，最多可以买几本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90720" y="289548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还剩下多少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0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7 = 1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90720" y="38862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剩下的钱最多可以买几本故事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3 ÷ 3 = 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本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·····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2438280" y="4876920"/>
            <a:ext cx="1371600" cy="1450080"/>
            <a:chOff x="2438280" y="4876920"/>
            <a:chExt cx="1371600" cy="1450080"/>
          </a:xfrm>
        </p:grpSpPr>
        <p:sp>
          <p:nvSpPr>
            <p:cNvPr id="153" name="Line 8"/>
            <p:cNvSpPr/>
            <p:nvPr/>
          </p:nvSpPr>
          <p:spPr>
            <a:xfrm>
              <a:off x="2895480" y="52574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280584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049560" y="5181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438280" y="5181480"/>
              <a:ext cx="2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3276360" y="487692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049560" y="5486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2819160" y="586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276360" y="5867280"/>
              <a:ext cx="2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16"/>
          <p:cNvSpPr/>
          <p:nvPr/>
        </p:nvSpPr>
        <p:spPr>
          <a:xfrm>
            <a:off x="4114800" y="556272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答：最多可以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7010280" y="6095880"/>
            <a:ext cx="175284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5181480" y="6095880"/>
            <a:ext cx="175284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228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课外深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小明带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元钱，到书店买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本故事书，每本故事书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元，剩下的钱买了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本作业本，钱还有剩余，作业本多少钱一本？（提示：该题答案有多种，根据实际情况，只要有道理都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7162920" y="5867280"/>
            <a:ext cx="1752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56:13Z</dcterms:created>
  <dc:creator>An</dc:creator>
  <dc:description/>
  <dc:language>en-US</dc:language>
  <cp:lastModifiedBy/>
  <dcterms:modified xsi:type="dcterms:W3CDTF">2015-07-14T14:13:3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