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A8C-B662-4FF3-87AA-91215586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14E-A258-4ED2-8BF2-3307C1B0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21F-F616-4D24-9A99-DEDB51EE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927-4C7A-43FA-AA10-D0DB47F4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6C02-A6BA-4A8F-A9FC-C4DD4B8A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DE7F-573B-49F0-A293-CA75E5D6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26D2-00D0-415F-A539-A308971C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BFD4-1296-44A0-84C1-8F6BCA09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80EB-7900-4BD8-B7F4-2E5805FB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7FF1-8716-4999-930C-124E0B24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FD42-960D-4CF7-8315-7EE584CC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29C-A956-4FB8-A9F4-05C807F4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6E90-FECA-4542-B63D-3A3B27B0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E329-0AAD-48EC-8AE7-44331CF3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F796-9A5C-4AA6-A107-97C4970F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1C1F-AA93-4D0C-BF24-A1A6DF3E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4A13-159F-44D7-9559-2982C371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179-F700-4A52-9C9A-28188B63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221-6F3F-4FBA-B3DD-6E46F6D7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48F-C428-40CC-9FE1-8F7314A8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390-7F43-40F6-A525-9A49AE02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AAF-D709-4D11-A4C1-A7D873FF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68BF-BC37-4878-8BD2-E621AFB1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973-E4F9-4BCA-9E18-D048F77B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B3CF-168D-4E98-8CE4-3A8B605BD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FEA4-4879-4371-8334-098304AA2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D:\&#29579;&#25991;&#24179;\&#26032;&#24314;&#25991;&#20214;&#22841;\s9-21-kj.swf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4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rcRect l="49992" t="0" r="7076" b="5857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de3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98040" y="549360"/>
            <a:ext cx="2917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《郑成功》优质课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600200" y="914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台湾同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828800" y="2057400"/>
            <a:ext cx="6934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喜出望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慰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载歌载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欢庆胜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2803680" y="1143000"/>
            <a:ext cx="549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13800" y="1219320"/>
            <a:ext cx="1399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建设台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362320" y="13716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大力发展生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362320" y="3581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382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办起了学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6934320" y="5181480"/>
            <a:ext cx="609480" cy="609840"/>
          </a:xfrm>
          <a:custGeom>
            <a:avLst/>
            <a:gdLst>
              <a:gd name="textAreaLeft" fmla="*/ 37800 w 609480"/>
              <a:gd name="textAreaRight" fmla="*/ 571680 w 60948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50" y="20263"/>
                </a:lnTo>
                <a:lnTo>
                  <a:pt x="20250" y="135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350" y="20263"/>
                </a:lnTo>
                <a:lnTo>
                  <a:pt x="20250" y="2026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63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8305920" y="685800"/>
            <a:ext cx="549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157960" y="838080"/>
            <a:ext cx="729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相    关    介    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676520" y="1143000"/>
            <a:ext cx="41907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郑成功收复台湾示意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5940360" y="5373720"/>
            <a:ext cx="576360" cy="719280"/>
          </a:xfrm>
          <a:custGeom>
            <a:avLst/>
            <a:gdLst>
              <a:gd name="textAreaLeft" fmla="*/ 36000 w 576360"/>
              <a:gd name="textAreaRight" fmla="*/ 540360 w 576360"/>
              <a:gd name="textAreaTop" fmla="*/ 36000 h 719280"/>
              <a:gd name="textAreaBottom" fmla="*/ 68328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50" y="25603"/>
                </a:lnTo>
                <a:lnTo>
                  <a:pt x="20250" y="135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350" y="25603"/>
                </a:lnTo>
                <a:lnTo>
                  <a:pt x="20250" y="2560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03"/>
                </a:lnTo>
                <a:close/>
              </a:path>
            </a:pathLst>
          </a:cu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88080" y="642312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1981080" y="16765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们永远也不会忘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514600" y="396252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895480" y="320040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民族英雄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郑成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1828800" y="22096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说说这节课的收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BD06152_"/>
          <p:cNvPicPr/>
          <p:nvPr/>
        </p:nvPicPr>
        <p:blipFill>
          <a:blip r:embed="rId1"/>
          <a:stretch/>
        </p:blipFill>
        <p:spPr>
          <a:xfrm>
            <a:off x="4038480" y="3352680"/>
            <a:ext cx="2438640" cy="2895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28720" y="6310440"/>
            <a:ext cx="611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6"/>
          <p:cNvSpPr/>
          <p:nvPr/>
        </p:nvSpPr>
        <p:spPr>
          <a:xfrm>
            <a:off x="3203640" y="148428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1"/>
          <p:cNvPicPr/>
          <p:nvPr/>
        </p:nvPicPr>
        <p:blipFill>
          <a:blip r:embed="rId19"/>
          <a:stretch/>
        </p:blipFill>
        <p:spPr>
          <a:xfrm>
            <a:off x="1828800" y="609480"/>
            <a:ext cx="7086600" cy="59436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-148680" y="1219320"/>
            <a:ext cx="2009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Times New Roman"/>
                <a:ea typeface="黑体"/>
              </a:rPr>
              <a:t>民 族 英 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990720" y="4572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71600" y="53352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800080"/>
                </a:solidFill>
                <a:latin typeface="Times New Roman"/>
                <a:ea typeface="黑体"/>
              </a:rPr>
              <a:t>岳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岳飞4"/>
          <p:cNvPicPr/>
          <p:nvPr/>
        </p:nvPicPr>
        <p:blipFill>
          <a:blip r:embed="rId1"/>
          <a:stretch/>
        </p:blipFill>
        <p:spPr>
          <a:xfrm>
            <a:off x="838080" y="1447920"/>
            <a:ext cx="6096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DC6B-FB6F-4062-99BD-EA39C1CFE7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828800" y="2286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Times New Roman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  <a:ea typeface="黑体"/>
              </a:rPr>
              <a:t>文天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文天祥1"/>
          <p:cNvPicPr/>
          <p:nvPr/>
        </p:nvPicPr>
        <p:blipFill>
          <a:blip r:embed="rId1"/>
          <a:stretch/>
        </p:blipFill>
        <p:spPr>
          <a:xfrm>
            <a:off x="1066680" y="1066680"/>
            <a:ext cx="6934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郑成功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2438280" y="11430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收复台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438280" y="31240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建设台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36760" y="1295280"/>
            <a:ext cx="8506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郑  成   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990720" y="114300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朝末年，荷兰侵略者强占了我国的宝岛台湾。他们残酷地奴役台湾同胞，台湾人民恨透了这伙强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郑成功慷慨激昂的说：“台湾自古以来就是中国的领土，绝不允许侵略者横行霸道。我们一定要收复祖国的宝岛台湾！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41008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强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57600" y="1600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残酷地奴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09680" y="21337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恨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095880" y="2819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自古以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648320" y="3809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祖国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809880" y="51814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决心收复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7720" y="6423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914400" y="123840"/>
            <a:ext cx="7467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①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郑成功在厦门修造船只，聚集粮草，加紧操练海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支前进中庞大舰队，前后绵延十几里，风帆蔽空，战旗招展。郑成功看着自己亲手训练的海军纪律严明，军容整肃，充满了必胜的信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英勇的郑军官兵冒着敌人密集的炮火，驾着舰船向敌舰队冲去。他们团团围住敌舰，使敌人的大炮失去了威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④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郑军官兵乘势用钩子钩住敌舰，一个个跳了上去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066680" y="304920"/>
            <a:ext cx="7696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郑成功在厦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修造船只，聚集粮草，加紧操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支前进中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庞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舰队，前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绵延十几里，风帆蔽空，战旗招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郑成功看着自己亲手训练的海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纪律严明，军容整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充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了必胜的信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143000" y="2971800"/>
            <a:ext cx="777240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③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英勇的郑军官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冒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敌人密集的炮火，驾着舰船向敌舰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冲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他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团团围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敌舰，使敌人的大炮失去了威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④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郑军官兵乘势用钩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钩住敌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一个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了上去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495680" y="54100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胜利收复！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4952880" y="6095880"/>
            <a:ext cx="609840" cy="533520"/>
          </a:xfrm>
          <a:custGeom>
            <a:avLst/>
            <a:gdLst>
              <a:gd name="textAreaLeft" fmla="*/ 33120 w 609840"/>
              <a:gd name="textAreaRight" fmla="*/ 576720 w 60984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338" y="1350"/>
                </a:lnTo>
                <a:lnTo>
                  <a:pt x="1350" y="135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338" y="20250"/>
                </a:lnTo>
                <a:lnTo>
                  <a:pt x="23338" y="135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338" y="2025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3:37:5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44:19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