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6CB-9E82-4BF8-9CA2-9A620B3E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298-DC07-4C6F-8E13-D942A332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3E4-BA46-4C74-88AE-3F267B29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168-6213-4FAB-A7D4-902E3B21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512-311D-4061-A84D-2B10D650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2CE-BBFD-49DE-9E7E-E3E04AE0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46C-773F-4E52-AEDE-8B956C86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DD8-530B-4283-8C9F-E849A105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6F8-8516-4F03-A8A3-F3EE3491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BBD3-5594-4CCD-BE96-7DFF4AEF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0B3-37FA-470D-96B4-45AC3798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B2A-A37C-4A3C-9649-A3B8AC7C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B6CC-2FD1-4F01-A6CE-CDBCFCF1B9F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C4B7-72DA-4D96-8B37-3ECEBFC909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hyperlink" Target="http://www.eeppt.com/moban/zhongguofeng/" TargetMode="External"/><Relationship Id="rId1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458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914400" y="981000"/>
            <a:ext cx="939960" cy="129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2457360" y="0"/>
            <a:ext cx="800280" cy="403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 rot="2571000">
            <a:off x="499680" y="1990800"/>
            <a:ext cx="800280" cy="76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2343240" y="404640"/>
            <a:ext cx="549360" cy="2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5">
            <a:lum contrast="-70000"/>
          </a:blip>
          <a:stretch/>
        </p:blipFill>
        <p:spPr>
          <a:xfrm rot="20313000">
            <a:off x="514440" y="4940280"/>
            <a:ext cx="127152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6"/>
          <a:stretch/>
        </p:blipFill>
        <p:spPr>
          <a:xfrm rot="13459800">
            <a:off x="3796920" y="-152280"/>
            <a:ext cx="438120" cy="72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"/>
          <p:cNvPicPr/>
          <p:nvPr/>
        </p:nvPicPr>
        <p:blipFill>
          <a:blip r:embed="rId7"/>
          <a:stretch/>
        </p:blipFill>
        <p:spPr>
          <a:xfrm rot="14414400">
            <a:off x="1070640" y="1795680"/>
            <a:ext cx="973080" cy="33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8"/>
          <a:stretch/>
        </p:blipFill>
        <p:spPr>
          <a:xfrm rot="7332600">
            <a:off x="1373400" y="4191480"/>
            <a:ext cx="1030320" cy="2762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9"/>
          <a:stretch/>
        </p:blipFill>
        <p:spPr>
          <a:xfrm rot="20259600">
            <a:off x="-174240" y="3949200"/>
            <a:ext cx="984240" cy="63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10">
            <a:lum bright="20000"/>
          </a:blip>
          <a:stretch/>
        </p:blipFill>
        <p:spPr>
          <a:xfrm>
            <a:off x="3200400" y="333360"/>
            <a:ext cx="522360" cy="25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"/>
          <p:cNvPicPr/>
          <p:nvPr/>
        </p:nvPicPr>
        <p:blipFill>
          <a:blip r:embed="rId11"/>
          <a:stretch/>
        </p:blipFill>
        <p:spPr>
          <a:xfrm rot="1897200">
            <a:off x="39240" y="2822040"/>
            <a:ext cx="1366920" cy="676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12"/>
          <a:stretch/>
        </p:blipFill>
        <p:spPr>
          <a:xfrm rot="2619600">
            <a:off x="1029960" y="2990520"/>
            <a:ext cx="457200" cy="148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13">
            <a:lum bright="70000" contrast="-70000"/>
          </a:blip>
          <a:stretch/>
        </p:blipFill>
        <p:spPr>
          <a:xfrm rot="20313000">
            <a:off x="2633760" y="1933200"/>
            <a:ext cx="725400" cy="204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70000" y="1114560"/>
            <a:ext cx="35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国风淡雅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0" y="0"/>
            <a:ext cx="9144000" cy="458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914400" y="981000"/>
            <a:ext cx="93996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2457360" y="0"/>
            <a:ext cx="800280" cy="40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 rot="2571000">
            <a:off x="499680" y="1990800"/>
            <a:ext cx="800280" cy="76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2343240" y="404640"/>
            <a:ext cx="549360" cy="21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5">
            <a:lum contrast="-70000"/>
          </a:blip>
          <a:stretch/>
        </p:blipFill>
        <p:spPr>
          <a:xfrm rot="20313000">
            <a:off x="514440" y="4940280"/>
            <a:ext cx="1271520" cy="107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6"/>
          <a:stretch/>
        </p:blipFill>
        <p:spPr>
          <a:xfrm rot="13459800">
            <a:off x="3796920" y="-152280"/>
            <a:ext cx="438120" cy="726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7"/>
          <a:stretch/>
        </p:blipFill>
        <p:spPr>
          <a:xfrm rot="14414400">
            <a:off x="1070640" y="1795680"/>
            <a:ext cx="973080" cy="33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8"/>
          <a:stretch/>
        </p:blipFill>
        <p:spPr>
          <a:xfrm rot="7332600">
            <a:off x="1373400" y="4191480"/>
            <a:ext cx="1030320" cy="2762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9"/>
          <a:stretch/>
        </p:blipFill>
        <p:spPr>
          <a:xfrm rot="20259600">
            <a:off x="-174240" y="3949200"/>
            <a:ext cx="984240" cy="638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10">
            <a:lum bright="20000"/>
          </a:blip>
          <a:stretch/>
        </p:blipFill>
        <p:spPr>
          <a:xfrm>
            <a:off x="3200400" y="333360"/>
            <a:ext cx="522360" cy="257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"/>
          <p:cNvPicPr/>
          <p:nvPr/>
        </p:nvPicPr>
        <p:blipFill>
          <a:blip r:embed="rId11"/>
          <a:stretch/>
        </p:blipFill>
        <p:spPr>
          <a:xfrm rot="1897200">
            <a:off x="39240" y="2822040"/>
            <a:ext cx="136692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12"/>
          <a:stretch/>
        </p:blipFill>
        <p:spPr>
          <a:xfrm rot="2619600">
            <a:off x="1029960" y="2990520"/>
            <a:ext cx="457200" cy="1482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13">
            <a:lum bright="70000" contrast="-70000"/>
          </a:blip>
          <a:stretch/>
        </p:blipFill>
        <p:spPr>
          <a:xfrm rot="20313000">
            <a:off x="2633760" y="1933200"/>
            <a:ext cx="725400" cy="204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89C-B9CF-4E8E-B42B-C3FE9159B8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10:10:4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