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7BC-DC7F-41BE-81F7-0E065D76BA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EF9-DC18-4FBB-8030-6C03BDF8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B36-75F4-45CA-8FF4-9BA86215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137-FC84-4026-840F-0CC5DF16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2AC-6188-4F88-B6D6-79035A91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690-1F27-43AC-8152-AABE599E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92F-D8C7-4623-A86A-B5CF8603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DB0-68A1-4FE0-B3EA-31B97501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1E0-94F5-41D3-8679-533B0336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2F1-BB18-49E5-A6AA-E85902A9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95B-6F41-4D19-9635-61D6B74F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EE7-3C7D-4A07-BD79-BEC09164B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894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3779640" y="6347880"/>
            <a:ext cx="1834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8A5E-D4D0-41A6-A627-9A7334CB059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55640" y="2565360"/>
            <a:ext cx="6043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中国风新年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0" name="Picture 7" descr="未标题-1"/>
          <p:cNvPicPr/>
          <p:nvPr/>
        </p:nvPicPr>
        <p:blipFill>
          <a:blip r:embed="rId2"/>
          <a:stretch/>
        </p:blipFill>
        <p:spPr>
          <a:xfrm>
            <a:off x="6004080" y="260280"/>
            <a:ext cx="2595240" cy="1567080"/>
          </a:xfrm>
          <a:prstGeom prst="rect">
            <a:avLst/>
          </a:prstGeom>
          <a:ln w="0">
            <a:noFill/>
          </a:ln>
        </p:spPr>
      </p:pic>
      <p:sp>
        <p:nvSpPr>
          <p:cNvPr id="81" name="矩形 6"/>
          <p:cNvSpPr/>
          <p:nvPr/>
        </p:nvSpPr>
        <p:spPr>
          <a:xfrm>
            <a:off x="108000" y="2556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1557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 Black"/>
              </a:rPr>
              <a:t>幸福吉祥年</a:t>
            </a:r>
            <a:endParaRPr b="1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FF2-7148-468A-9815-D7AEF9865B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0920" y="2997000"/>
            <a:ext cx="6045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MV Boli"/>
                <a:ea typeface="华文隶书"/>
              </a:rPr>
              <a:t>Happy New Year</a:t>
            </a:r>
            <a:br>
              <a:rPr sz="4300"/>
            </a:br>
            <a:r>
              <a:rPr b="1" lang="en-US" sz="4300" spc="-1" strike="noStrike">
                <a:solidFill>
                  <a:srgbClr val="ffffff"/>
                </a:solidFill>
                <a:latin typeface="MV Boli"/>
                <a:ea typeface="华文隶书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V Boli"/>
                <a:ea typeface="华文隶书"/>
              </a:rPr>
              <a:t>O(∩_∩)O~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0" name="Picture 7" descr="未标题-1"/>
          <p:cNvPicPr/>
          <p:nvPr/>
        </p:nvPicPr>
        <p:blipFill>
          <a:blip r:embed="rId2"/>
          <a:stretch/>
        </p:blipFill>
        <p:spPr>
          <a:xfrm>
            <a:off x="6443640" y="189000"/>
            <a:ext cx="2595600" cy="156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472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28:0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11:27:17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