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077-0AF9-44EE-9AB6-519934C3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AEB-812C-4D34-AED6-E8889598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697-1E3C-41B3-9B83-C37E1104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545-CA00-4AAA-8D39-9CE5F85A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D58-CD20-473A-9CA1-F47F71F2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911-2540-4F47-BB02-CB834F22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058-8EA5-40F8-980E-F28890BC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E9D-156B-4E98-BDCB-1C20C2BE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9EA-6361-4F52-8920-87D7125A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336-F25B-4428-A2F4-86A5BB6B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E6D-91F2-4E3B-94E8-F4ACE57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3A1-1394-404C-B603-7DC35DDB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5767-931D-4205-9F81-AB57C2046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1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814760" y="1565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372120" y="3200400"/>
            <a:ext cx="20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茅   以   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13680" y="981000"/>
            <a:ext cx="3841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中国石拱桥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33320" y="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常用的说明顺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空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1828800" y="7621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676160"/>
              <a:gd name="textAreaBottom" fmla="*/ 162684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8"/>
                  <a:pt x="10800" y="2036"/>
                </a:cubicBezTo>
                <a:lnTo>
                  <a:pt x="10800" y="8764"/>
                </a:lnTo>
                <a:cubicBezTo>
                  <a:pt x="10800" y="9782"/>
                  <a:pt x="5400" y="10800"/>
                  <a:pt x="0" y="10800"/>
                </a:cubicBezTo>
                <a:cubicBezTo>
                  <a:pt x="5400" y="10800"/>
                  <a:pt x="10800" y="11818"/>
                  <a:pt x="10800" y="12836"/>
                </a:cubicBezTo>
                <a:lnTo>
                  <a:pt x="10800" y="19564"/>
                </a:lnTo>
                <a:cubicBezTo>
                  <a:pt x="10800" y="2058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089440" y="4572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外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145240" y="914400"/>
            <a:ext cx="10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242080" y="1295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前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120040" y="182880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总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870480" y="24382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一般用于说明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对静止的事物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863280" y="419112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时间顺序：以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间先后作为说明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顺序，用于说明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物的发展变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399200" y="1295280"/>
            <a:ext cx="15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逻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6095880" y="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710960" y="2362320"/>
            <a:ext cx="127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按事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内部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系或人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认识事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过程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安排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顺序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6584040" y="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整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692040" y="8380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原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6768360" y="15238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特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692040" y="228600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主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次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6768360" y="304812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概括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具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6768360" y="411480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现象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675080" y="561960"/>
            <a:ext cx="583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本文以赵州桥、卢沟桥为例说明中国石拱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原因是（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都是闻名世界的古代石拱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都具有中国石拱桥的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各具特点：一为独拱，一为联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既有我国石拱桥的共同特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又各具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424600" y="9874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赵州桥3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416320" y="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重点研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试以赵州桥和卢沟桥为例，分别说说它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是如何体现中国石拱桥的特点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211640" y="1752480"/>
            <a:ext cx="93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说明文的语言要求准确、周密，作者用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哪些准确、周密的语言来写赵州桥和卢沟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的特征？请找出几句抄写下来，并加以分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卢沟桥2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06360" y="198108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50200" y="92160"/>
            <a:ext cx="8757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桥洞不是普通半圆形，而是像一张弓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桥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半圆形的石拱组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个石拱长度不一，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1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永定河发水时，来势很猛，以前两岸河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被冲毁，但是这座桥从未出过事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这些石刻狮子，有的母子相抱，有的交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接耳，有的像倾听水声，千态万状，惟妙惟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861680" y="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441200" y="1523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列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059960" y="3048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作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441200" y="487692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摹状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0" y="556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902320" y="5334120"/>
            <a:ext cx="30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唐朝的张鷟说，远望这座桥就像“初月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云，长虹饮涧”。（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5388480" y="57913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引用、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98760" y="457200"/>
            <a:ext cx="570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为了准确说明事物，说明文用语很讲究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寸。如果把括号中的词语去掉，表达的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有什么变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044960" y="205740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石拱桥在世界桥梁史上出现得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比较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659600" y="2743200"/>
            <a:ext cx="580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水经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里提到的“旅人桥”，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大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成于公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8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可能是有记载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早的石拱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415600" y="4572000"/>
            <a:ext cx="292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我国的石拱桥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几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到处都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220760" y="5302080"/>
            <a:ext cx="56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全桥只有一个大拱，长达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7.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米，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当时可算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世界上最长的石拱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464120" y="380880"/>
            <a:ext cx="620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仿照下列句式的特点进行仿句练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这些石刻狮子，有的母子相抱，有的交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接耳，有的像倾听水声，有的像注视行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千态万状，惟妙惟肖。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描写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全桥只有一个大拱，长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7.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米，在当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可算是世界上最大的石拱。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评价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-36360" y="117360"/>
            <a:ext cx="9256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指出下列各句的说明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桥洞不是普通半圆形，而是像一张弓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桥长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6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米，由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个半圆形的石拱组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每个石拱长度不一，自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米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1.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米。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永定河发水时，来势很猛，以前两岸河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常被冲毁，但是这座桥从未出过事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这些石刻狮子，有的母子相抱，有的交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接耳，有的像倾听水声，千态万状，惟妙惟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861680" y="990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441200" y="243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列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349040" y="3825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作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425360" y="5654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摹状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卢沟桥4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416600" y="457200"/>
            <a:ext cx="652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了解常用的说明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为了把事物特征说清楚，或把事理阐述明白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要有相适应的说明方法。常见的说明方法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举例子   分类别   列数据      作比较      画图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下定义    作诠释    打比方     摹状貌  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卢沟桥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473-AFE7-49DC-B094-BAFAE27438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赵州桥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卢沟桥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6"/>
          <p:cNvSpPr/>
          <p:nvPr/>
        </p:nvSpPr>
        <p:spPr>
          <a:xfrm>
            <a:off x="831240" y="223920"/>
            <a:ext cx="7525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茅以升（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896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—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8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，我国近代桥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程学的奠基人，著名的桥梁学专家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获美国加里基工学院博士学位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3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持设计并领导建造了中国第一座现代化的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桥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48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当选为中央研究院院士。五十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代有参加设计了规模更大的武汉长江大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5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，在首都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十大建筑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建设中，茅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升担任人民大会堂结构审查组组长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8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美国科学院授予外籍院士称号。他编写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国桥梁史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他为中国的桥梁事业做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了杰出的贡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给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黄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字注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匀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称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推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崇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巧妙绝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伦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残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损                    雄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跨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弧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形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惟妙惟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肖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桥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墩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雄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姿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02960" y="53352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è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020840" y="53352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ó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65840" y="457200"/>
            <a:ext cx="8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ú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102680" y="11430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á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294080" y="10666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ku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7292880" y="1143000"/>
            <a:ext cx="7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026800" y="167652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x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389840" y="16765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d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7238520" y="16765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z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701520" y="3048120"/>
            <a:ext cx="1744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下列词语解释有误的一项是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惟妙惟肖：形容描写得十分精妙逼真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巧妙绝伦：独一无二，没有什么可比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千态万状：形容各种各样奇怪的事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就地取材：就在原地选用需要的材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255360" y="312408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pic_1198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-2133720" y="-685800"/>
            <a:ext cx="11734920" cy="7543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0"/>
            <a:ext cx="9360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体感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中国石拱桥的共同特点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赵州桥和卢沟桥的特点分别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章为什么只重点介绍赵州桥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卢沟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试理清本文的说明顺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26"/>
          <p:cNvSpPr/>
          <p:nvPr/>
        </p:nvSpPr>
        <p:spPr>
          <a:xfrm>
            <a:off x="4413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609480"/>
          <a:ext cx="8991720" cy="556272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2743200"/>
                <a:gridCol w="39625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1056"/>
          <p:cNvSpPr/>
          <p:nvPr/>
        </p:nvSpPr>
        <p:spPr>
          <a:xfrm>
            <a:off x="186120" y="68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57"/>
          <p:cNvSpPr/>
          <p:nvPr/>
        </p:nvSpPr>
        <p:spPr>
          <a:xfrm>
            <a:off x="1252800" y="68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58"/>
          <p:cNvSpPr/>
          <p:nvPr/>
        </p:nvSpPr>
        <p:spPr>
          <a:xfrm>
            <a:off x="2867400" y="685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历史和修建年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60"/>
          <p:cNvSpPr/>
          <p:nvPr/>
        </p:nvSpPr>
        <p:spPr>
          <a:xfrm>
            <a:off x="6009480" y="685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61"/>
          <p:cNvSpPr/>
          <p:nvPr/>
        </p:nvSpPr>
        <p:spPr>
          <a:xfrm>
            <a:off x="322560" y="144792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62"/>
          <p:cNvSpPr/>
          <p:nvPr/>
        </p:nvSpPr>
        <p:spPr>
          <a:xfrm>
            <a:off x="398880" y="36576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63"/>
          <p:cNvSpPr/>
          <p:nvPr/>
        </p:nvSpPr>
        <p:spPr>
          <a:xfrm>
            <a:off x="1329120" y="152388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横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64"/>
          <p:cNvSpPr/>
          <p:nvPr/>
        </p:nvSpPr>
        <p:spPr>
          <a:xfrm>
            <a:off x="1329120" y="358128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位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永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65"/>
          <p:cNvSpPr/>
          <p:nvPr/>
        </p:nvSpPr>
        <p:spPr>
          <a:xfrm>
            <a:off x="2689200" y="1371600"/>
            <a:ext cx="192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建于公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0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左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到现在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3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多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66"/>
          <p:cNvSpPr/>
          <p:nvPr/>
        </p:nvSpPr>
        <p:spPr>
          <a:xfrm>
            <a:off x="2564280" y="3581280"/>
            <a:ext cx="242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建于公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9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间，至今已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多年的历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67"/>
          <p:cNvSpPr/>
          <p:nvPr/>
        </p:nvSpPr>
        <p:spPr>
          <a:xfrm>
            <a:off x="6058800" y="1523880"/>
            <a:ext cx="2236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一个大拱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大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肩各有两个小拱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大拱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道拱圈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成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全桥结构匀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74"/>
          <p:cNvSpPr/>
          <p:nvPr/>
        </p:nvSpPr>
        <p:spPr>
          <a:xfrm>
            <a:off x="5666400" y="3505320"/>
            <a:ext cx="2841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半圆形石拱组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石拱长度不一，几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河面平行。每两个石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之间有石砌桥墩，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石拱联成一个整体，是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座联拱石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1:57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11:05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