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311-C93D-4BC7-B640-B4F374C6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518-583A-4697-B4B1-9B0ED2C1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F9B8-BE37-400C-9808-CAB5C847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875-A43F-41CB-A973-1E963676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0746-86E1-4D90-8703-32BAEF94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2B3-CF69-47E0-B568-E10CE0AE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3EB-0F1F-4325-A0D9-33C92EF5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8EF-224F-49D7-8C91-0807EDA0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BDF-F062-4B7D-9B16-D5D7D090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704-F554-4CCB-8F30-90AB3AFE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5A06-6ACC-43AA-9D44-082562E2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2ADA-CEC2-4205-8118-4749121B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3DBD-FB32-4643-89B6-A29C484C6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50640" y="476280"/>
            <a:ext cx="324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《中国石拱桥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74200" y="1052640"/>
            <a:ext cx="75265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问题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赵州桥卢沟桥除了一个是独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是联拱的特点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们各自还有其他特点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组合作完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39640" y="2833560"/>
            <a:ext cx="77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在说明中国石拱桥的这些特征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一个例子不是更简练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要举两个例子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组合作完 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59280" y="2349360"/>
            <a:ext cx="318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华文琥珀"/>
              </a:rPr>
              <a:t>再    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work4-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Bird06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igh_bridg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237492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预习检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54064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确读出下列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洨河　　　匀称　　 张鷟　　　　惟妙惟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弧形　　　拱桥 　  和谐        饮   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桥墩      郦道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486080" y="28875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xiá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203640" y="288756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hè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245200" y="288756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zhu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7740720" y="28875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xià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482840" y="396864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 hú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191040" y="396864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gǒ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243400" y="3968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xi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7812000" y="39686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jià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1476360" y="4976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dū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ｎ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587760" y="50482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ì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4000" y="1628280"/>
            <a:ext cx="7740360" cy="42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色的超出一般水平的作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威武雄壮的姿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非常灵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一 无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有什么可以相比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合得适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匀称而协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分重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给以很高的评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伟美丽而罕见的景象或出奇少有的事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59990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根据解释写出相应词语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476040" y="164772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杰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460040" y="215100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雄姿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567160" y="31590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巧妙绝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5899680" y="359244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和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547680" y="424008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推崇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010600" y="517536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奇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08360" y="957240"/>
            <a:ext cx="55659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读课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答问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7705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中举了赵州桥、卢沟桥两个例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明中国石拱桥有的象赵州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的象卢沟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这两种形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样说对不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立思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主完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11120" y="4365720"/>
            <a:ext cx="8136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文中单举赵州桥、卢沟桥这两个例子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立思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主完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826920" y="1484280"/>
            <a:ext cx="720108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石拱桥具有历史悠久、形式优美、结构坚固的特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中国石拱桥的共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然是共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赵州桥、卢沟桥都应该体现出这些特征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们根据课文内容具体分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看赵州桥卢沟桥是不是体现了这些特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作完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566100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Arial"/>
                <a:hlinkClick r:id="rId2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166-6F0A-418D-AA74-4696259322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07:20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44:29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