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6A6-EDB3-4C0E-A589-9B134307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950-7020-411A-A8EB-D4135CF9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443-08A2-4EF2-8A28-DF42C2C2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4AB-1659-44FB-A717-8ECD91A4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4A1-1267-4EF2-A299-030E21E0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AA0-E4BC-41FE-9642-9CB42777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A2D-9F28-42E3-973D-E12B5EEB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8AF-9684-4FE4-A061-65FD2598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465-87C8-4E36-9817-6DCA6C58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995-22AD-46E2-8A65-BDC7EFA3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9D2-7234-4A1E-B74C-C47F70D4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458-05A3-479E-B625-A40C055D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D76A-A6C1-4A3A-AE1F-EA4FFCAA4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7"/>
          <a:stretch/>
        </p:blipFill>
        <p:spPr>
          <a:xfrm>
            <a:off x="0" y="-4680"/>
            <a:ext cx="939636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70320" y="2205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坐井观天优质课件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2"/>
          <p:cNvSpPr/>
          <p:nvPr/>
        </p:nvSpPr>
        <p:spPr>
          <a:xfrm>
            <a:off x="250920" y="1125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沿    际     错     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179280" y="378936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信    抬      蛙      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042920" y="83664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天不过井口那么大，还用飞那么远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26920" y="2924280"/>
            <a:ext cx="79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只有井口那么大，不用飞那么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A3B-0D72-46B6-84F6-89B65494A6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55640" y="105264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们长这么大了，还用妈妈喂饭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19256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71640" y="3068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长那么大了，不用妈妈喂饭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042920" y="2276640"/>
            <a:ext cx="73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沿   际   错    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116000" y="465300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信   抬   蛙    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34920" y="1341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án    jì     cuò     huái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332000" y="3645000"/>
            <a:ext cx="61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īn  tái    wā     d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39640" y="162864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、青蛙认为天有多大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763640" y="2637000"/>
            <a:ext cx="37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井口那么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95280" y="3789360"/>
            <a:ext cx="68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小鸟它眼中的天是什么样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979640" y="522936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无边无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28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29"/>
          <p:cNvSpPr/>
          <p:nvPr/>
        </p:nvSpPr>
        <p:spPr>
          <a:xfrm>
            <a:off x="2124000" y="1557360"/>
            <a:ext cx="482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j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ǐ</a:t>
            </a: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ng </a:t>
            </a:r>
            <a:r>
              <a:rPr b="0" lang="en-US" sz="8000" spc="-1" strike="noStrike">
                <a:solidFill>
                  <a:srgbClr val="ff3300"/>
                </a:solidFill>
                <a:latin typeface="黑体"/>
                <a:ea typeface="黑体"/>
              </a:rPr>
              <a:t>y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  <a:ea typeface="黑体"/>
              </a:rPr>
              <a:t>á</a:t>
            </a:r>
            <a:r>
              <a:rPr b="0" lang="en-US" sz="80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30"/>
          <p:cNvSpPr/>
          <p:nvPr/>
        </p:nvSpPr>
        <p:spPr>
          <a:xfrm>
            <a:off x="2700360" y="314172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井  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68360" y="1557360"/>
            <a:ext cx="48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xiāng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xì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987640" y="2781360"/>
            <a:ext cx="30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相  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484360" y="177336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tái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tó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56000" y="3141720"/>
            <a:ext cx="36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抬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4705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692360" y="170028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W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 biān w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黑体"/>
              </a:rPr>
              <a:t>ú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黑体"/>
                <a:ea typeface="黑体"/>
              </a:rPr>
              <a:t>j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  <a:ea typeface="黑体"/>
              </a:rPr>
              <a:t>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124000" y="299736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无 边 无 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484360" y="1628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īng 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w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03640" y="270828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青  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7561080" cy="4314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195640" y="1844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cuò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w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556000" y="3141720"/>
            <a:ext cx="35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错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843280" y="328464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回 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00360" y="1916280"/>
            <a:ext cx="38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huí 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d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7561080" cy="4314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2340000" y="162864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Huái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yǒ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132000" y="2997360"/>
            <a:ext cx="367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还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3:45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4:38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