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4A2-AE76-42F3-BF30-00DBADD4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BB3F-15B7-4BA8-8AC3-574C5CC6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DEE-B97C-4094-B132-7982A1FF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1D1-FDC3-470F-95EF-E2C06A25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08B7-EC3C-4153-A5BE-3A54FAC5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23B4-68BD-46C7-AEB7-6248F8B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487D-186B-4D11-B5AE-0363C00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A43F-BFAE-4EDC-A770-33D7DC90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B0C3-5067-44C3-92A3-89895A1F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87B2-359E-4DF0-94C6-B04F6A4A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2FA1-7647-4CBC-88E0-90363934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302-E681-46B7-B45E-6A0E10F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C4E1-8031-42EB-8B34-B467D2C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573F-BA13-4E96-B885-A7379DBB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6D50-B7A7-43B0-97C9-7E8239C3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EE32-4529-45E8-B272-0AF0E3F7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5EB0-06EE-4973-998C-29096AF5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C00-C71E-4FCC-A19F-13AFC758F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44A-A6EA-4E97-8F4E-D4F18888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5C5-39F8-4B4F-BD2F-C147E32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6425-CA3F-4D79-AE15-0EFFCF1D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976-B156-4639-A9EC-2833C99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B43-6792-47C8-A1FE-FE5A115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7F9-D75C-400B-AC6B-B5B51C84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56E8-44FE-476C-B372-B962EBC156E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7340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官方logo副本"/>
          <p:cNvPicPr/>
          <p:nvPr/>
        </p:nvPicPr>
        <p:blipFill>
          <a:blip r:embed="rId3"/>
          <a:stretch/>
        </p:blipFill>
        <p:spPr>
          <a:xfrm>
            <a:off x="179280" y="587700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379-B84E-4B34-8128-AF70FDB1DCC3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5"/>
          <p:cNvSpPr txBox="1"/>
          <p:nvPr/>
        </p:nvSpPr>
        <p:spPr>
          <a:xfrm>
            <a:off x="2700360" y="2492280"/>
            <a:ext cx="295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1" strike="noStrike">
                <a:ln w="18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0" dir="0" blurRad="0" rotWithShape="0">
                    <a:srgbClr val="000000">
                      <a:alpha val="66000"/>
                    </a:srgbClr>
                  </a:outerShdw>
                </a:effectLst>
                <a:latin typeface="宋体"/>
              </a:rPr>
              <a:t>责任</a:t>
            </a:r>
            <a:endParaRPr b="0" lang="en-US" sz="1600" spc="1" strike="noStrike">
              <a:ln w="18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0" dir="0" blurRad="0" rotWithShape="0">
                  <a:srgbClr val="000000">
                    <a:alpha val="6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2391840" y="126828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西师大版 三年级语文下册 第七单元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588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后来小男孩为什么委屈而为难呢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752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小男孩为什么感到自豪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1D1-DAE4-445B-8518-13149659ABFF}" type="slidenum">
              <a:t>12</a:t>
            </a:fld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920" y="1700280"/>
            <a:ext cx="69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想一想：父亲为什么感到欣慰？父亲的用意达到了吗？读父亲的话，你从哪些词句中能体会到？体会到什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28720" y="4581360"/>
            <a:ext cx="6111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http://www.eeppt.com/moban/kejian/</a:t>
            </a:r>
            <a:endParaRPr b="0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15640" y="1557360"/>
            <a:ext cx="65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总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同学们，通过这节课的学习，大家对责任有了自己的认识。大家再读课题。让我们牢牢记住“责任”这两个字，希望你们从小做有责任感的人，长大做有出息的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0000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学习目标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676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运用有效的识字方法，学会本课生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通过有感情地朗读课文，理解课文内容，懂得犯了错要有勇气承担责任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41300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读一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124000" y="3068640"/>
            <a:ext cx="4680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膛   恕   谅   赔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49"/>
          <p:cNvSpPr/>
          <p:nvPr/>
        </p:nvSpPr>
        <p:spPr>
          <a:xfrm>
            <a:off x="2989440" y="4649760"/>
            <a:ext cx="3527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餐    承</a:t>
            </a:r>
            <a:endParaRPr b="0" lang="en-US" sz="40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Text Box 58"/>
          <p:cNvSpPr/>
          <p:nvPr/>
        </p:nvSpPr>
        <p:spPr>
          <a:xfrm>
            <a:off x="1979640" y="24922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tá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3" name="Text Box 59"/>
          <p:cNvSpPr/>
          <p:nvPr/>
        </p:nvSpPr>
        <p:spPr>
          <a:xfrm>
            <a:off x="3348000" y="2492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shù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427640" y="2492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liá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5" name="Text Box 63"/>
          <p:cNvSpPr/>
          <p:nvPr/>
        </p:nvSpPr>
        <p:spPr>
          <a:xfrm>
            <a:off x="5940360" y="24922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péi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Text Box 64"/>
          <p:cNvSpPr/>
          <p:nvPr/>
        </p:nvSpPr>
        <p:spPr>
          <a:xfrm>
            <a:off x="2916360" y="39895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cān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4211640" y="39895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hxbx_py2.0"/>
              </a:rPr>
              <a:t>chéng</a:t>
            </a:r>
            <a:endParaRPr b="0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2666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学一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恕 谅 赔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餐 承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3059280" y="342900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3600" y="125712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想一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2" descr="汉字娃娃3"/>
          <p:cNvPicPr/>
          <p:nvPr/>
        </p:nvPicPr>
        <p:blipFill>
          <a:blip r:embed="rId2"/>
          <a:stretch/>
        </p:blipFill>
        <p:spPr>
          <a:xfrm>
            <a:off x="5408640" y="3879720"/>
            <a:ext cx="1373040" cy="229248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3"/>
          <p:cNvSpPr/>
          <p:nvPr/>
        </p:nvSpPr>
        <p:spPr>
          <a:xfrm>
            <a:off x="1403280" y="2349360"/>
            <a:ext cx="6121440" cy="1513080"/>
          </a:xfrm>
          <a:prstGeom prst="cloudCallout">
            <a:avLst>
              <a:gd name="adj1" fmla="val -46708"/>
              <a:gd name="adj2" fmla="val 10697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课主要讲了一件什么事？ 用自己的话说说什么叫做责任。</a:t>
            </a:r>
            <a:endParaRPr b="0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5880" y="60642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为什么小男孩的情感会发生这样几次变化呢？在小组内交流阅读体会，看看哪些同学最会合作学习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小男孩儿为什么感到委屈？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（抓住小男孩无意闯祸、认了错、以为应该得到原谅，而老太太不肯原谅、索赔等词语体会小男孩的委屈。）　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69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）真是认了错就该得到原谅吗？小男孩已经向老太太认了错，老太太为什么还不原谅他呢？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　　　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26920" y="2205000"/>
            <a:ext cx="691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有的错误并不是认了错就可以了结的，还必须付出相应的代价，承担相应的责任，比如钱物的赔偿，心灵的不安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　　　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03:39:24Z</dcterms:created>
  <dc:creator>An</dc:creator>
  <dc:description/>
  <dc:language>en-US</dc:language>
  <cp:lastModifiedBy/>
  <dcterms:modified xsi:type="dcterms:W3CDTF">2015-07-14T14:12:00Z</dcterms:modified>
  <cp:revision>2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