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F73-EF99-438D-903E-C87B0BF4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DD1-F1CE-449F-A064-6CB2258B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650-3E5F-4E42-AF40-69EF50F2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434-57AA-4AAA-80FC-D2AA28EB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EEFA-296F-47CB-9919-3D8DBEA4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BB2-2A17-443E-87F6-AFFA5135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4B3-2A1A-49C2-A86E-9CDB1E1A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91E-063E-4FFD-9705-E2A90DB4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DEE-2427-47B7-94C6-E386FE6A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C44-950F-4A85-A1A7-448E263E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A9F-5A74-498D-988F-BFD4E66E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39E-9E90-408A-8C68-BE1ED0C4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E9DA-854D-47DA-805C-58650DEC5C6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2" name="Picture 2" descr="无标题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水中花.mp3" descr=""/>
          <p:cNvPicPr/>
          <p:nvPr/>
        </p:nvPicPr>
        <p:blipFill>
          <a:blip r:embed="rId3"/>
          <a:stretch/>
        </p:blipFill>
        <p:spPr>
          <a:xfrm>
            <a:off x="8763120" y="6553080"/>
            <a:ext cx="15228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568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709720"/>
            <a:ext cx="590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eaeaea"/>
                </a:solidFill>
                <a:latin typeface="Times New Roman"/>
              </a:rPr>
              <a:t>《竹影》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eaeaea"/>
                </a:solidFill>
                <a:latin typeface="Times New Roman"/>
              </a:rPr>
              <a:t>课件模板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887840" y="557280"/>
            <a:ext cx="536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和西洋画的不同特点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--------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西洋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3" name="Picture 3" descr="893"/>
          <p:cNvPicPr/>
          <p:nvPr/>
        </p:nvPicPr>
        <p:blipFill>
          <a:blip r:embed="rId2"/>
          <a:stretch/>
        </p:blipFill>
        <p:spPr>
          <a:xfrm>
            <a:off x="4952880" y="1143000"/>
            <a:ext cx="3581640" cy="4952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891"/>
          <p:cNvPicPr/>
          <p:nvPr/>
        </p:nvPicPr>
        <p:blipFill>
          <a:blip r:embed="rId3"/>
          <a:stretch/>
        </p:blipFill>
        <p:spPr>
          <a:xfrm>
            <a:off x="457200" y="1143000"/>
            <a:ext cx="41148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6" name="Picture 2" descr="903"/>
          <p:cNvPicPr/>
          <p:nvPr/>
        </p:nvPicPr>
        <p:blipFill>
          <a:blip r:embed="rId2"/>
          <a:stretch/>
        </p:blipFill>
        <p:spPr>
          <a:xfrm>
            <a:off x="457200" y="1066680"/>
            <a:ext cx="3886200" cy="5224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04920" y="45720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和西洋画的不同特点欣赏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-----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西洋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8" name="Picture 4" descr="921"/>
          <p:cNvPicPr/>
          <p:nvPr/>
        </p:nvPicPr>
        <p:blipFill>
          <a:blip r:embed="rId3"/>
          <a:stretch/>
        </p:blipFill>
        <p:spPr>
          <a:xfrm>
            <a:off x="4724280" y="114300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33520" y="380880"/>
            <a:ext cx="84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和西洋画的不同特点欣赏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-----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西洋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1" name="Picture 3" descr="20040926172047318"/>
          <p:cNvPicPr/>
          <p:nvPr/>
        </p:nvPicPr>
        <p:blipFill>
          <a:blip r:embed="rId2"/>
          <a:stretch/>
        </p:blipFill>
        <p:spPr>
          <a:xfrm>
            <a:off x="609480" y="1066680"/>
            <a:ext cx="3581640" cy="5105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红磨房的约会--雷诺阿"/>
          <p:cNvPicPr/>
          <p:nvPr/>
        </p:nvPicPr>
        <p:blipFill>
          <a:blip r:embed="rId3"/>
          <a:stretch/>
        </p:blipFill>
        <p:spPr>
          <a:xfrm>
            <a:off x="4648320" y="1143000"/>
            <a:ext cx="39621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457200" y="1163520"/>
            <a:ext cx="86263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结论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中国画趣味高远，西洋画趣味平易。作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艺术研究，西洋画不及中国画的精深。作为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众欣赏，中国画不及西洋画的普通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57200" y="380880"/>
            <a:ext cx="83818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丰子恺的成功与其父亲的教育引导有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吗？文中的父亲给你留下怎样的印象，给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怎样的启发？请以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如果我是家长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”为题写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篇短文，畅谈自己的教育构想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903960" y="-69840"/>
            <a:ext cx="7221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儿歌</a:t>
            </a:r>
            <a:r>
              <a:rPr b="0" lang="en-US" sz="6000" spc="-1" strike="noStrike">
                <a:solidFill>
                  <a:srgbClr val="ff3300"/>
                </a:solidFill>
                <a:latin typeface="隶书"/>
                <a:ea typeface="隶书"/>
              </a:rPr>
              <a:t>-------------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华文新魏"/>
                <a:ea typeface="华文新魏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影子在前，影子在后，影子是个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黑 狗，常 常 跟着我，影子在左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影子在右，影子是 个好朋友，常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陪着我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……</a:t>
            </a: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5877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28600" y="380880"/>
            <a:ext cx="4876920" cy="59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丰子恺简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丰子恺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98----197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，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丰润，浙江崇德人，现代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家、散文家、美术和音乐教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家，是一位多方面卓有成就的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文艺大师。作品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缘缘堂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笔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艺术趣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率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集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0" name="Picture 3" descr="20050109232446950"/>
          <p:cNvPicPr/>
          <p:nvPr/>
        </p:nvPicPr>
        <p:blipFill>
          <a:blip r:embed="rId2"/>
          <a:stretch/>
        </p:blipFill>
        <p:spPr>
          <a:xfrm>
            <a:off x="5105520" y="669960"/>
            <a:ext cx="38862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5729040" y="15228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丰子恺国画作品示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228600" y="3049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撇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ĕ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                           蘸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惬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è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意：   满 意 ，称 心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幽 暗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包 罗：包 含，包 括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参 差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 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不 齐：长 短，高 低 不 齐 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C59-8026-4057-BD99-3B6C63FA67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304920" y="320760"/>
            <a:ext cx="964224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中国画和西洋画的不同特点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、中国画盛用线条；西洋画线条都不显著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、中国画不注重透视法；西洋画极注重透视法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、中国画人物不讲解剖学；西洋人物画很重视解剖学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、中国画不注重背景；西洋画很重视背景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、中国画题材以自然为主；西洋画以人物为主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80880" y="380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和西洋画的不同特点欣赏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----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1" name="Picture 5" descr="000601"/>
          <p:cNvPicPr/>
          <p:nvPr/>
        </p:nvPicPr>
        <p:blipFill>
          <a:blip r:embed="rId2"/>
          <a:stretch/>
        </p:blipFill>
        <p:spPr>
          <a:xfrm>
            <a:off x="457200" y="121932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0040831172642626"/>
          <p:cNvPicPr/>
          <p:nvPr/>
        </p:nvPicPr>
        <p:blipFill>
          <a:blip r:embed="rId3"/>
          <a:stretch/>
        </p:blipFill>
        <p:spPr>
          <a:xfrm>
            <a:off x="4952880" y="1219320"/>
            <a:ext cx="3657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04920" y="6811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和西洋画的不同特点欣赏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-----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4" name="Picture 3" descr="20041027080508167"/>
          <p:cNvPicPr/>
          <p:nvPr/>
        </p:nvPicPr>
        <p:blipFill>
          <a:blip r:embed="rId2"/>
          <a:stretch/>
        </p:blipFill>
        <p:spPr>
          <a:xfrm>
            <a:off x="533520" y="1352520"/>
            <a:ext cx="3733560" cy="487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0050109232829336"/>
          <p:cNvPicPr/>
          <p:nvPr/>
        </p:nvPicPr>
        <p:blipFill>
          <a:blip r:embed="rId3"/>
          <a:stretch/>
        </p:blipFill>
        <p:spPr>
          <a:xfrm>
            <a:off x="4724280" y="1352520"/>
            <a:ext cx="3810240" cy="487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975680" y="457200"/>
            <a:ext cx="53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和西洋画的不同特点欣赏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----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9" name="Picture 4" descr="20050109233432547"/>
          <p:cNvPicPr/>
          <p:nvPr/>
        </p:nvPicPr>
        <p:blipFill>
          <a:blip r:embed="rId2"/>
          <a:stretch/>
        </p:blipFill>
        <p:spPr>
          <a:xfrm>
            <a:off x="609480" y="1143000"/>
            <a:ext cx="3505320" cy="505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song24luohanx"/>
          <p:cNvPicPr/>
          <p:nvPr/>
        </p:nvPicPr>
        <p:blipFill>
          <a:blip r:embed="rId3"/>
          <a:stretch/>
        </p:blipFill>
        <p:spPr>
          <a:xfrm>
            <a:off x="4572000" y="1143000"/>
            <a:ext cx="3962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5:20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14:42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