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s022.WAV" ContentType="audio/x-wav"/>
  <Override PartName="/ppt/media/image9.wmf" ContentType="image/x-wmf"/>
  <Override PartName="/ppt/media/image4.jpeg" ContentType="image/jpeg"/>
  <Override PartName="/ppt/media/chimes.wav" ContentType="audio/x-wav"/>
  <Override PartName="/ppt/media/image5.wmf" ContentType="image/x-wmf"/>
  <Override PartName="/ppt/media/image10.wmf" ContentType="image/x-wmf"/>
  <Override PartName="/ppt/media/camera.wav" ContentType="audio/x-wav"/>
  <Override PartName="/ppt/media/image6.wmf" ContentType="image/x-wmf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010-16A1-4BF5-B79B-FAAEA1FF2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FE2F-CE4A-4B8A-B201-5B72A06C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24C-167B-4020-89EF-8DDB1BE5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B22-C97F-47DF-85D1-154275F5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1FC8-B918-494F-9C22-0B7522938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603-CFA8-4845-B8DC-E74F3F1D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DA7-4A6F-431F-ACAA-0015B4F1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D680-E861-4C76-95BD-1CB314DE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DEE-10B9-48FC-B635-E4F92F26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58EB-29EC-490E-89BA-F8569079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8106-1D76-4D54-9816-5FEEE020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C6D-E916-43F2-AEE8-80C65271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7c2"/>
            </a:gs>
            <a:gs pos="100000">
              <a:srgbClr val="bae2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9994-B887-40E2-AAB3-59F6156C58E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s02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9"/>
          <p:cNvSpPr/>
          <p:nvPr/>
        </p:nvSpPr>
        <p:spPr>
          <a:xfrm>
            <a:off x="2749680" y="335772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1216080" y="576360"/>
            <a:ext cx="652932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346248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0" name="Picture 4" descr="http://www.zhenzhuquan.com/images/wonder/avi01.jpg"/>
          <p:cNvPicPr/>
          <p:nvPr/>
        </p:nvPicPr>
        <p:blipFill>
          <a:blip r:embed="rId1"/>
          <a:stretch/>
        </p:blipFill>
        <p:spPr>
          <a:xfrm>
            <a:off x="457200" y="2409840"/>
            <a:ext cx="5699160" cy="3726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435800" y="2895480"/>
            <a:ext cx="10987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328800" y="2324160"/>
            <a:ext cx="2815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那绿得没有一点儿颜色的蕨草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水是那样绿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开始，水泡很小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水面和潭底，金色上午光斑和银色的光斑交错着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我很想知道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 u="sng">
                <a:solidFill>
                  <a:srgbClr val="cc00ff"/>
                </a:solidFill>
                <a:uFillTx/>
                <a:latin typeface="Times New Roman"/>
                <a:ea typeface="楷体_GB2312"/>
              </a:rPr>
              <a:t>挑着满满一担水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16080" y="1197000"/>
            <a:ext cx="309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Arial"/>
              </a:rPr>
              <a:t>《珍珠泉》</a:t>
            </a:r>
            <a:r>
              <a:rPr b="0" lang="zh-CN" sz="4000" spc="-1" strike="noStrike">
                <a:solidFill>
                  <a:srgbClr val="5b5249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5b5249"/>
                </a:solidFill>
                <a:latin typeface="Arial"/>
              </a:rPr>
              <a:t>课件模板</a:t>
            </a:r>
            <a:endParaRPr b="0" lang="en-US" sz="40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s022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7c2"/>
            </a:gs>
            <a:gs pos="100000">
              <a:srgbClr val="bae2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691344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413a0"/>
                </a:solidFill>
                <a:latin typeface="Times New Roman"/>
                <a:ea typeface="楷体_GB2312"/>
              </a:rPr>
              <a:t>那绿得没有一点儿杂色的蕨草，那悄悄地开放着的花朵，给珍珠泉编了个朴素的花环。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56" name="Picture 3" descr="Z143">
            <a:hlinkClick r:id="" action="ppaction://hlinkshowjump?jump=firstslide"/>
          </p:cNvPr>
          <p:cNvPicPr/>
          <p:nvPr/>
        </p:nvPicPr>
        <p:blipFill>
          <a:blip r:embed="rId1"/>
          <a:stretch/>
        </p:blipFill>
        <p:spPr>
          <a:xfrm>
            <a:off x="5181480" y="5410080"/>
            <a:ext cx="3276720" cy="1185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0ae6a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7c2"/>
            </a:gs>
            <a:gs pos="100000">
              <a:srgbClr val="bae2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59" name="Picture 2" descr="SO01871_"/>
          <p:cNvPicPr/>
          <p:nvPr/>
        </p:nvPicPr>
        <p:blipFill>
          <a:blip r:embed="rId1"/>
          <a:stretch/>
        </p:blipFill>
        <p:spPr>
          <a:xfrm>
            <a:off x="468360" y="765000"/>
            <a:ext cx="8280360" cy="56232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7238880" y="5486400"/>
            <a:ext cx="1447920" cy="99072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132480 h 990720"/>
              <a:gd name="textAreaBottom" fmla="*/ 8582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332000" y="119700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413a0"/>
                </a:solidFill>
                <a:latin typeface="楷体_GB2312"/>
                <a:ea typeface="楷体_GB2312"/>
              </a:rPr>
              <a:t>水是那样绿，绿得像是被周围的绿树、绿草染过的。水是那样深，又那样清，清得能看见潭底的 青褐色的石头，能看见沉积在潭底的沙粒和已经发黑的树叶。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7c2"/>
            </a:gs>
            <a:gs pos="100000">
              <a:srgbClr val="bae2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1619280" y="1182600"/>
            <a:ext cx="702468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413a0"/>
                </a:solidFill>
                <a:latin typeface="楷体_GB2312"/>
                <a:ea typeface="楷体_GB2312"/>
              </a:rPr>
              <a:t>开始，水泡很小，摇晃着越升越高，越来越大，最后在水面绽开了，在</a:t>
            </a:r>
            <a:r>
              <a:rPr b="0" lang="zh-CN" sz="4800" spc="-1" strike="noStrike">
                <a:solidFill>
                  <a:srgbClr val="0413a0"/>
                </a:solidFill>
                <a:latin typeface="Times New Roman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0413a0"/>
                </a:solidFill>
                <a:latin typeface="楷体_GB2312"/>
                <a:ea typeface="楷体_GB2312"/>
              </a:rPr>
              <a:t>扑哧</a:t>
            </a:r>
            <a:r>
              <a:rPr b="0" lang="zh-CN" sz="4800" spc="-1" strike="noStrike">
                <a:solidFill>
                  <a:srgbClr val="0413a0"/>
                </a:solidFill>
                <a:latin typeface="Times New Roman"/>
                <a:ea typeface="楷体_GB2312"/>
              </a:rPr>
              <a:t>”</a:t>
            </a:r>
            <a:r>
              <a:rPr b="0" lang="zh-CN" sz="4800" spc="-1" strike="noStrike">
                <a:solidFill>
                  <a:srgbClr val="0413a0"/>
                </a:solidFill>
                <a:latin typeface="楷体_GB2312"/>
                <a:ea typeface="楷体_GB2312"/>
              </a:rPr>
              <a:t>一笑中消失了！</a:t>
            </a: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6315120" y="6010200"/>
            <a:ext cx="154080" cy="1461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6924600" y="6086520"/>
            <a:ext cx="154080" cy="1461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7839000" y="6086520"/>
            <a:ext cx="154080" cy="1461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7" name="AutoShape 6"/>
          <p:cNvSpPr/>
          <p:nvPr/>
        </p:nvSpPr>
        <p:spPr>
          <a:xfrm>
            <a:off x="6772320" y="5629320"/>
            <a:ext cx="231840" cy="2188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445080" y="4672080"/>
            <a:ext cx="30816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9" name="AutoShape 8"/>
          <p:cNvSpPr/>
          <p:nvPr/>
        </p:nvSpPr>
        <p:spPr>
          <a:xfrm>
            <a:off x="8143920" y="5172120"/>
            <a:ext cx="154080" cy="2188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0" name="AutoShape 9"/>
          <p:cNvSpPr/>
          <p:nvPr/>
        </p:nvSpPr>
        <p:spPr>
          <a:xfrm>
            <a:off x="6086520" y="5629320"/>
            <a:ext cx="231840" cy="1461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7991640" y="5553000"/>
            <a:ext cx="231480" cy="21924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8143920" y="4638600"/>
            <a:ext cx="231840" cy="2923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5629320" y="4714920"/>
            <a:ext cx="30780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7381800" y="6086520"/>
            <a:ext cx="228600" cy="15228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5" name="AutoShape 14"/>
          <p:cNvSpPr/>
          <p:nvPr/>
        </p:nvSpPr>
        <p:spPr>
          <a:xfrm>
            <a:off x="7381800" y="5553000"/>
            <a:ext cx="231840" cy="14760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6" name="AutoShape 15"/>
          <p:cNvSpPr/>
          <p:nvPr/>
        </p:nvSpPr>
        <p:spPr>
          <a:xfrm>
            <a:off x="7381800" y="5095800"/>
            <a:ext cx="308160" cy="2923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7305840" y="4638600"/>
            <a:ext cx="307800" cy="36504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8" name="AutoShape 17">
            <a:hlinkClick r:id="" action="ppaction://hlinkshowjump?jump=firstslide"/>
          </p:cNvPr>
          <p:cNvSpPr/>
          <p:nvPr/>
        </p:nvSpPr>
        <p:spPr>
          <a:xfrm>
            <a:off x="380880" y="5791320"/>
            <a:ext cx="1143000" cy="685800"/>
          </a:xfrm>
          <a:prstGeom prst="flowChartExtract">
            <a:avLst/>
          </a:prstGeom>
          <a:solidFill>
            <a:srgbClr val="243468"/>
          </a:solidFill>
          <a:ln w="1908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79" name="AutoShape 18"/>
          <p:cNvSpPr/>
          <p:nvPr/>
        </p:nvSpPr>
        <p:spPr>
          <a:xfrm>
            <a:off x="5857920" y="5172120"/>
            <a:ext cx="307800" cy="29196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>
            <a:off x="6620040" y="5095800"/>
            <a:ext cx="307800" cy="292320"/>
          </a:xfrm>
          <a:prstGeom prst="flowChartConnec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819000" y="619200"/>
            <a:ext cx="7926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b03ff"/>
                </a:solidFill>
                <a:latin typeface="Times New Roman"/>
                <a:ea typeface="楷体_GB2312"/>
              </a:rPr>
              <a:t>水面和潭底，金色的光斑和银色的光斑交错着；水泡闪亮闪亮的，射出红的光，黄的光，绿的光，紫的光</a:t>
            </a:r>
            <a:r>
              <a:rPr b="1" lang="en-US" sz="5400" spc="-1" strike="noStrike">
                <a:solidFill>
                  <a:srgbClr val="ab03ff"/>
                </a:solidFill>
                <a:latin typeface="Times New Roman"/>
                <a:ea typeface="楷体_GB2312"/>
              </a:rPr>
              <a:t>……</a:t>
            </a:r>
            <a:r>
              <a:rPr b="1" lang="zh-CN" sz="5400" spc="-1" strike="noStrike">
                <a:solidFill>
                  <a:srgbClr val="ab03ff"/>
                </a:solidFill>
                <a:latin typeface="Times New Roman"/>
                <a:ea typeface="楷体_GB2312"/>
              </a:rPr>
              <a:t>多像一串一串彩色的珍珠啊！</a:t>
            </a: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48720" y="5715000"/>
            <a:ext cx="990360" cy="838080"/>
          </a:xfrm>
          <a:custGeom>
            <a:avLst/>
            <a:gdLst>
              <a:gd name="textAreaLeft" fmla="*/ 0 w 990360"/>
              <a:gd name="textAreaRight" fmla="*/ 848880 w 990360"/>
              <a:gd name="textAreaTop" fmla="*/ 55872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ef65db"/>
          </a:solidFill>
          <a:ln w="9360">
            <a:solidFill>
              <a:srgbClr val="ab0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84" name="Picture 4" descr="NA00864_"/>
          <p:cNvPicPr/>
          <p:nvPr/>
        </p:nvPicPr>
        <p:blipFill>
          <a:blip r:embed="rId1"/>
          <a:stretch/>
        </p:blipFill>
        <p:spPr>
          <a:xfrm>
            <a:off x="533520" y="5943600"/>
            <a:ext cx="1171440" cy="687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NA00864_"/>
          <p:cNvPicPr/>
          <p:nvPr/>
        </p:nvPicPr>
        <p:blipFill>
          <a:blip r:embed="rId2"/>
          <a:stretch/>
        </p:blipFill>
        <p:spPr>
          <a:xfrm>
            <a:off x="3505320" y="5867280"/>
            <a:ext cx="1171440" cy="687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NA00864_"/>
          <p:cNvPicPr/>
          <p:nvPr/>
        </p:nvPicPr>
        <p:blipFill>
          <a:blip r:embed="rId3"/>
          <a:stretch/>
        </p:blipFill>
        <p:spPr>
          <a:xfrm>
            <a:off x="2133720" y="5867280"/>
            <a:ext cx="1171440" cy="687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NA00864_"/>
          <p:cNvPicPr/>
          <p:nvPr/>
        </p:nvPicPr>
        <p:blipFill>
          <a:blip r:embed="rId4"/>
          <a:stretch/>
        </p:blipFill>
        <p:spPr>
          <a:xfrm>
            <a:off x="6553080" y="5867280"/>
            <a:ext cx="1171800" cy="687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NA00864_"/>
          <p:cNvPicPr/>
          <p:nvPr/>
        </p:nvPicPr>
        <p:blipFill>
          <a:blip r:embed="rId5"/>
          <a:stretch/>
        </p:blipFill>
        <p:spPr>
          <a:xfrm>
            <a:off x="5029200" y="5867280"/>
            <a:ext cx="1171440" cy="68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66560" y="645336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b03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6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4360" y="765000"/>
            <a:ext cx="80769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413a0"/>
                </a:solidFill>
                <a:latin typeface="Times New Roman"/>
                <a:ea typeface="楷体_GB2312"/>
              </a:rPr>
              <a:t>我很想知道，它哪来这么多冒不完的水泡？在小河断流得时候，在村里得井水干涸的时候，它还是不停地冒着水泡。难道是有许多快乐的孩子，躲在什么地方吹泡泡玩儿吗？他们一定玩得很高兴吧？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2" name="AutoShape 3">
            <a:hlinkClick r:id="" action="ppaction://hlinkshowjump?jump=firstslide"/>
          </p:cNvPr>
          <p:cNvSpPr/>
          <p:nvPr/>
        </p:nvSpPr>
        <p:spPr>
          <a:xfrm>
            <a:off x="7620120" y="6019920"/>
            <a:ext cx="1066680" cy="838080"/>
          </a:xfrm>
          <a:custGeom>
            <a:avLst/>
            <a:gdLst>
              <a:gd name="textAreaLeft" fmla="*/ 52200 w 1066680"/>
              <a:gd name="textAreaRight" fmla="*/ 1014480 w 106668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27489" h="21600">
                <a:moveTo>
                  <a:pt x="0" y="0"/>
                </a:moveTo>
                <a:lnTo>
                  <a:pt x="27489" y="0"/>
                </a:lnTo>
                <a:lnTo>
                  <a:pt x="27489" y="21600"/>
                </a:lnTo>
                <a:lnTo>
                  <a:pt x="0" y="21600"/>
                </a:lnTo>
                <a:close/>
              </a:path>
              <a:path fill="lightenLess" w="27489" h="21600">
                <a:moveTo>
                  <a:pt x="0" y="0"/>
                </a:moveTo>
                <a:lnTo>
                  <a:pt x="27489" y="0"/>
                </a:lnTo>
                <a:lnTo>
                  <a:pt x="26139" y="1350"/>
                </a:lnTo>
                <a:lnTo>
                  <a:pt x="1350" y="1350"/>
                </a:lnTo>
                <a:close/>
              </a:path>
              <a:path fill="darken" w="27489" h="21600">
                <a:moveTo>
                  <a:pt x="27489" y="0"/>
                </a:moveTo>
                <a:lnTo>
                  <a:pt x="27489" y="21600"/>
                </a:lnTo>
                <a:lnTo>
                  <a:pt x="26139" y="20250"/>
                </a:lnTo>
                <a:lnTo>
                  <a:pt x="26139" y="1350"/>
                </a:lnTo>
                <a:close/>
              </a:path>
              <a:path fill="darkenLess" w="27489" h="21600">
                <a:moveTo>
                  <a:pt x="274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139" y="20250"/>
                </a:lnTo>
                <a:close/>
              </a:path>
              <a:path fill="lighten" w="274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489" h="21600">
                <a:moveTo>
                  <a:pt x="6701" y="3756"/>
                </a:moveTo>
                <a:lnTo>
                  <a:pt x="20788" y="10800"/>
                </a:lnTo>
                <a:lnTo>
                  <a:pt x="6701" y="17844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blinds dir="horz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CB1-07E0-40C6-A810-24A503073FAD}" type="slidenum">
              <a:t>7</a:t>
            </a:fld>
          </a:p>
        </p:txBody>
      </p:sp>
    </p:spTree>
  </p:cSld>
  <p:transition>
    <p:blinds dir="horz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d7c2"/>
            </a:gs>
            <a:gs pos="100000">
              <a:srgbClr val="bae27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1143000" y="99072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>
            <a:off x="457200" y="685800"/>
            <a:ext cx="8686800" cy="4572000"/>
          </a:xfrm>
          <a:custGeom>
            <a:avLst/>
            <a:gdLst>
              <a:gd name="textAreaLeft" fmla="*/ 484920 w 8686800"/>
              <a:gd name="textAreaRight" fmla="*/ 8201880 w 8686800"/>
              <a:gd name="textAreaTop" fmla="*/ 484920 h 4572000"/>
              <a:gd name="textAreaBottom" fmla="*/ 4087080 h 4572000"/>
            </a:gdLst>
            <a:ahLst/>
            <a:rect l="textAreaLeft" t="textAreaTop" r="textAreaRight" b="textAreaBottom"/>
            <a:pathLst>
              <a:path w="41038" h="21600">
                <a:moveTo>
                  <a:pt x="3240" y="0"/>
                </a:moveTo>
                <a:arcTo wR="3240" hR="3240" stAng="0" swAng="5400000"/>
                <a:lnTo>
                  <a:pt x="0" y="18360"/>
                </a:lnTo>
                <a:arcTo wR="3240" hR="3240" stAng="16200000" swAng="5400000"/>
                <a:lnTo>
                  <a:pt x="37798" y="21600"/>
                </a:lnTo>
                <a:arcTo wR="3240" hR="3240" stAng="10800000" swAng="5400000"/>
                <a:lnTo>
                  <a:pt x="41038" y="3240"/>
                </a:lnTo>
                <a:arcTo wR="3240" hR="3240" stAng="5400000" swAng="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4642"/>
                </a:solidFill>
                <a:latin typeface="Times New Roman"/>
                <a:ea typeface="华文新魏"/>
              </a:rPr>
              <a:t>挑着满满一担水，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4642"/>
                </a:solidFill>
                <a:latin typeface="Times New Roman"/>
                <a:ea typeface="华文新魏"/>
              </a:rPr>
              <a:t>走在林中的石板路上，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a4642"/>
                </a:solidFill>
                <a:latin typeface="Times New Roman"/>
                <a:ea typeface="华文新魏"/>
              </a:rPr>
              <a:t>我泼洒了多少珍珠啊！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7162920" y="5486400"/>
            <a:ext cx="1523880" cy="838080"/>
          </a:xfrm>
          <a:custGeom>
            <a:avLst/>
            <a:gdLst>
              <a:gd name="textAreaLeft" fmla="*/ 190440 w 1523880"/>
              <a:gd name="textAreaRight" fmla="*/ 1333440 w 15238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1" name="Picture 5" descr="NA01441_"/>
          <p:cNvPicPr/>
          <p:nvPr/>
        </p:nvPicPr>
        <p:blipFill>
          <a:blip r:embed="rId1"/>
          <a:stretch/>
        </p:blipFill>
        <p:spPr>
          <a:xfrm>
            <a:off x="1828800" y="4876920"/>
            <a:ext cx="1371600" cy="17524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NA01441_"/>
          <p:cNvPicPr/>
          <p:nvPr/>
        </p:nvPicPr>
        <p:blipFill>
          <a:blip r:embed="rId2"/>
          <a:stretch/>
        </p:blipFill>
        <p:spPr>
          <a:xfrm>
            <a:off x="4800600" y="4724280"/>
            <a:ext cx="2027160" cy="16858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3"/>
          <p:cNvSpPr/>
          <p:nvPr/>
        </p:nvSpPr>
        <p:spPr>
          <a:xfrm>
            <a:off x="342900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104" name="Picture 2" descr="wearhat"/>
          <p:cNvPicPr/>
          <p:nvPr/>
        </p:nvPicPr>
        <p:blipFill>
          <a:blip r:embed="rId1"/>
          <a:stretch/>
        </p:blipFill>
        <p:spPr>
          <a:xfrm>
            <a:off x="6767640" y="4211640"/>
            <a:ext cx="2757240" cy="2589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"/>
          <p:cNvSpPr/>
          <p:nvPr/>
        </p:nvSpPr>
        <p:spPr>
          <a:xfrm>
            <a:off x="1238400" y="2546280"/>
            <a:ext cx="7162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31801"/>
                </a:solidFill>
                <a:latin typeface="Times New Roman"/>
                <a:ea typeface="楷体_GB2312"/>
              </a:rPr>
              <a:t>向同学们介绍一下自己家乡的美丽景点。</a:t>
            </a:r>
            <a:endParaRPr b="0" lang="en-US" sz="6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6" name="PubOvalCallout"/>
          <p:cNvSpPr/>
          <p:nvPr/>
        </p:nvSpPr>
        <p:spPr>
          <a:xfrm>
            <a:off x="380880" y="609480"/>
            <a:ext cx="8229600" cy="175284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a3d7a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f7fffb"/>
                </a:solidFill>
                <a:latin typeface="Times New Roman"/>
                <a:ea typeface="楷体_GB2312"/>
              </a:rPr>
              <a:t>我来做导游</a:t>
            </a:r>
            <a:endParaRPr b="0" lang="en-US" sz="66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5:0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01:2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