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1C40-9D5D-4A79-83C8-C2721C0EF9DC}" type="slidenum"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4" descr="logo_small"/>
          <p:cNvPicPr/>
          <p:nvPr/>
        </p:nvPicPr>
        <p:blipFill>
          <a:blip r:embed="rId2"/>
          <a:stretch/>
        </p:blipFill>
        <p:spPr>
          <a:xfrm>
            <a:off x="5867280" y="5791320"/>
            <a:ext cx="3124440" cy="8204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logo_small"/>
          <p:cNvPicPr/>
          <p:nvPr/>
        </p:nvPicPr>
        <p:blipFill>
          <a:blip r:embed="rId2"/>
          <a:stretch/>
        </p:blipFill>
        <p:spPr>
          <a:xfrm>
            <a:off x="152280" y="93600"/>
            <a:ext cx="3124440" cy="820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9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20"/>
          <p:cNvSpPr/>
          <p:nvPr/>
        </p:nvSpPr>
        <p:spPr>
          <a:xfrm>
            <a:off x="335268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新魏"/>
              </a:rPr>
              <a:t>北航软件学院开题报告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新魏"/>
              </a:rPr>
              <a:t>模板</a:t>
            </a:r>
            <a:br>
              <a:rPr sz="4000"/>
            </a:br>
            <a:br>
              <a:rPr sz="3200"/>
            </a:b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论文名称：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姓    名：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学    号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专    业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学院指导老师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197B-DFB0-4BA9-8F32-5F891F878CC1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研究背景及意义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课题来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课题意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E311-F6ED-4779-99FB-E249114B33B9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国内外相关研究的现状分析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国外研究现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国内研究现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对比分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19F1-F81E-4B46-8AED-D30FBB468AA4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研究目标和内容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36AB-86EB-484C-B8C4-5D10F1D51B3A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关键技术和解决方案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系统总体解决方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关键技术及解决途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6C6-52DE-4335-9547-F98F1F9B3E3E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预期的研究成果形式及创新点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研究成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技术指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6C27-79E7-475B-8974-FA0EB3304E02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6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论文工作计划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D3E0-8001-4F5E-BCFD-050937964BF0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主要参考文献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5:00:53Z</dcterms:created>
  <dc:creator>www.pptbz.com</dc:creator>
  <dc:description/>
  <dc:language>en-US</dc:language>
  <cp:lastModifiedBy>微软用户</cp:lastModifiedBy>
  <dcterms:modified xsi:type="dcterms:W3CDTF">2015-08-03T12:31:21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