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3195-2862-4F62-ADF9-9E99277A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746-8C06-4A10-A0DE-3E307F70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768-C7DA-4FBF-96CE-44977273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77E-6246-47E9-9322-556C2DEF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867-3740-418D-A114-D5738042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489-BE11-4AEA-88D2-58E39C74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515-C89A-425A-A384-8B2A5208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E0E-00FD-42A6-8239-F6116779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6C9-A265-4244-88E8-275710B3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1FC-D309-47DC-928B-7D8D038D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6AE-F3EC-438D-9F89-B2B66CAB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C97-81E4-4E8F-A500-23AB046D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19D7-AF16-4126-9DC5-5E34D8A677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1120" y="4876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meet </a:t>
            </a:r>
            <a:br>
              <a:rPr sz="2600"/>
            </a:br>
            <a:r>
              <a:rPr b="0" lang="en-US" sz="60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"/>
          <p:cNvSpPr/>
          <p:nvPr/>
        </p:nvSpPr>
        <p:spPr>
          <a:xfrm>
            <a:off x="1880280" y="99072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eorgia"/>
              </a:rPr>
              <a:t>创意个人介绍极简素描风格幻灯片下载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love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ood conversation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" name="Picture 5" descr="10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ould you like to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start a conversa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" name="Picture 7" descr="11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tell him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sto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" name="Picture 5" descr="19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chat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th hi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" name="Picture 4" descr="17"/>
          <p:cNvPicPr/>
          <p:nvPr/>
        </p:nvPicPr>
        <p:blipFill>
          <a:blip r:embed="rId1"/>
          <a:stretch/>
        </p:blipFill>
        <p:spPr>
          <a:xfrm>
            <a:off x="0" y="-230040"/>
            <a:ext cx="91440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r jus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hang ou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th his gang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" name="Picture 4" descr="18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20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e can help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2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you 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宋体"/>
              </a:rPr>
              <a:t>star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the conversa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7"/>
          <p:cNvSpPr/>
          <p:nvPr/>
        </p:nvSpPr>
        <p:spPr>
          <a:xfrm>
            <a:off x="1724040" y="2895480"/>
            <a:ext cx="565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宋体"/>
              </a:rPr>
              <a:t>All you need to do is.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eorgia"/>
              </a:rPr>
              <a:t>使用规范说明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eorgi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Georgia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Georgi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eorgi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Georgia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eorgi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A8F-1480-490C-94E1-4D5A5CF85E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1" descr="20"/>
          <p:cNvPicPr/>
          <p:nvPr/>
        </p:nvPicPr>
        <p:blipFill>
          <a:blip r:embed="rId1"/>
          <a:stretch/>
        </p:blipFill>
        <p:spPr>
          <a:xfrm>
            <a:off x="0" y="1295280"/>
            <a:ext cx="9101160" cy="5604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1828800" y="190512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  <a:ea typeface="宋体"/>
              </a:rPr>
              <a:t>Contact</a:t>
            </a:r>
            <a:endParaRPr b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5029200" y="2666880"/>
            <a:ext cx="360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Saurabh@Phonethics.in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2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77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67080" y="53337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a.k.a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3"/>
          <p:cNvPicPr/>
          <p:nvPr/>
        </p:nvPicPr>
        <p:blipFill>
          <a:blip r:embed="rId1"/>
          <a:stretch/>
        </p:blipFill>
        <p:spPr>
          <a:xfrm>
            <a:off x="-380880" y="45720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86200" y="5333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Mr. Multiple Profiles!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Rahu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lives in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loba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villag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0" name="Picture 5" descr="4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5"/>
          <p:cNvPicPr/>
          <p:nvPr/>
        </p:nvPicPr>
        <p:blipFill>
          <a:blip r:embed="rId1"/>
          <a:stretch/>
        </p:blipFill>
        <p:spPr>
          <a:xfrm>
            <a:off x="380880" y="78120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1430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drives a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eco friendly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ca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s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reat sport.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7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76680" y="5331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makes tim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8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67652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Rahu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great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t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9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05280" y="114264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 i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lousy at.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09:23:02Z</dcterms:created>
  <dc:creator/>
  <dc:description/>
  <dc:language>en-US</dc:language>
  <cp:lastModifiedBy>admin</cp:lastModifiedBy>
  <dcterms:modified xsi:type="dcterms:W3CDTF">2015-08-03T12:31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