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5.png" ContentType="image/png"/>
  <Override PartName="/ppt/media/image62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11.jpeg" ContentType="image/jpe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7EA-0EE4-45B4-93A2-38915DB8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3F7-07BF-48B4-B99B-E1985033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F56-B542-44B9-8033-89C5EB6B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FA2-C251-4338-8E7C-281414F5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393-A521-4F7E-A249-8155D947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F60-7F85-4BB6-9D6F-8E492F8A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48D-483D-412D-BB70-AFC65542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791-77F4-4C60-9D17-2EDEDE3D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9C9-92D7-457B-ABB3-DD594ED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FBB-984A-4A05-8D35-7CF5F4F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A44-CD93-4F0C-BD0E-0C9E855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A97-04F7-4CFB-9EF2-51FCE7CA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A964-1123-4513-8D4F-ECAD3FFE78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0CE5-5D34-4860-BB27-D3CC6672B3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15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39.png"/><Relationship Id="rId25" Type="http://schemas.openxmlformats.org/officeDocument/2006/relationships/image" Target="../media/image40.png"/><Relationship Id="rId26" Type="http://schemas.openxmlformats.org/officeDocument/2006/relationships/image" Target="../media/image41.png"/><Relationship Id="rId27" Type="http://schemas.openxmlformats.org/officeDocument/2006/relationships/image" Target="../media/image42.png"/><Relationship Id="rId28" Type="http://schemas.openxmlformats.org/officeDocument/2006/relationships/image" Target="../media/image43.png"/><Relationship Id="rId29" Type="http://schemas.openxmlformats.org/officeDocument/2006/relationships/image" Target="../media/image44.png"/><Relationship Id="rId30" Type="http://schemas.openxmlformats.org/officeDocument/2006/relationships/image" Target="../media/image45.png"/><Relationship Id="rId3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10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2.png"/><Relationship Id="rId15" Type="http://schemas.openxmlformats.org/officeDocument/2006/relationships/image" Target="../media/image57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8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"/>
          <p:cNvSpPr/>
          <p:nvPr/>
        </p:nvSpPr>
        <p:spPr>
          <a:xfrm>
            <a:off x="0" y="3249720"/>
            <a:ext cx="9144000" cy="236196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5"/>
          <p:cNvSpPr/>
          <p:nvPr/>
        </p:nvSpPr>
        <p:spPr>
          <a:xfrm>
            <a:off x="0" y="3402000"/>
            <a:ext cx="9144000" cy="236232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6"/>
          <p:cNvSpPr/>
          <p:nvPr/>
        </p:nvSpPr>
        <p:spPr>
          <a:xfrm>
            <a:off x="0" y="3571920"/>
            <a:ext cx="9144000" cy="236232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:\Users\lucloudfly\Desktop\PNG图库\懒人图库近25000张透明PNG图片(PPTer要收藏)\sketchy_full_icons\apple-itunes.png"/>
          <p:cNvPicPr/>
          <p:nvPr/>
        </p:nvPicPr>
        <p:blipFill>
          <a:blip r:embed="rId2"/>
          <a:stretch/>
        </p:blipFill>
        <p:spPr>
          <a:xfrm>
            <a:off x="500040" y="36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lucloudfly\Desktop\PNG图库\懒人图库近25000张透明PNG图片(PPTer要收藏)\sketchy_full_icons\clock.png"/>
          <p:cNvPicPr/>
          <p:nvPr/>
        </p:nvPicPr>
        <p:blipFill>
          <a:blip r:embed="rId3"/>
          <a:stretch/>
        </p:blipFill>
        <p:spPr>
          <a:xfrm>
            <a:off x="6143760" y="43578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lucloudfly\Desktop\PNG图库\懒人图库近25000张透明PNG图片(PPTer要收藏)\sketchy_full_icons\contacts.png"/>
          <p:cNvPicPr/>
          <p:nvPr/>
        </p:nvPicPr>
        <p:blipFill>
          <a:blip r:embed="rId4"/>
          <a:stretch/>
        </p:blipFill>
        <p:spPr>
          <a:xfrm>
            <a:off x="2143080" y="4643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lucloudfly\Desktop\PNG图库\懒人图库近25000张透明PNG图片(PPTer要收藏)\sketchy_full_icons\chat.png"/>
          <p:cNvPicPr/>
          <p:nvPr/>
        </p:nvPicPr>
        <p:blipFill>
          <a:blip r:embed="rId5"/>
          <a:stretch/>
        </p:blipFill>
        <p:spPr>
          <a:xfrm>
            <a:off x="4214880" y="51436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lucloudfly\Desktop\PNG图库\懒人图库近25000张透明PNG图片(PPTer要收藏)\sketchy_full_icons\clef.png"/>
          <p:cNvPicPr/>
          <p:nvPr/>
        </p:nvPicPr>
        <p:blipFill>
          <a:blip r:embed="rId6"/>
          <a:stretch/>
        </p:blipFill>
        <p:spPr>
          <a:xfrm>
            <a:off x="7643880" y="32860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1"/>
          <p:cNvSpPr/>
          <p:nvPr/>
        </p:nvSpPr>
        <p:spPr>
          <a:xfrm>
            <a:off x="0" y="2643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95959"/>
                </a:solidFill>
                <a:latin typeface="方正黄草简体"/>
                <a:ea typeface="方正黄草简体"/>
              </a:rPr>
              <a:t>描绘一段属于自己的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2"/>
          <p:cNvSpPr/>
          <p:nvPr/>
        </p:nvSpPr>
        <p:spPr>
          <a:xfrm>
            <a:off x="1187280" y="117360"/>
            <a:ext cx="675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95959"/>
                </a:solidFill>
                <a:latin typeface="方正剪纸简体"/>
                <a:ea typeface="方正剪纸简体"/>
              </a:rPr>
              <a:t>个人简历</a:t>
            </a:r>
            <a:r>
              <a:rPr b="0" lang="zh-CN" sz="6000" spc="-1" strike="noStrike">
                <a:solidFill>
                  <a:srgbClr val="595959"/>
                </a:solidFill>
                <a:latin typeface="方正剪纸简体"/>
                <a:ea typeface="方正剪纸简体"/>
              </a:rPr>
              <a:t>PPT</a:t>
            </a:r>
            <a:r>
              <a:rPr b="0" lang="zh-CN" sz="6000" spc="-1" strike="noStrike">
                <a:solidFill>
                  <a:srgbClr val="595959"/>
                </a:solidFill>
                <a:latin typeface="方正剪纸简体"/>
                <a:ea typeface="方正剪纸简体"/>
              </a:rPr>
              <a:t>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C:\Users\lucloudfly\Desktop\PNG图库\懒人图库近25000张透明PNG图片(PPTer要收藏)\tourism-ICO\eiffel.png"/>
          <p:cNvPicPr/>
          <p:nvPr/>
        </p:nvPicPr>
        <p:blipFill>
          <a:blip r:embed="rId7"/>
          <a:stretch/>
        </p:blipFill>
        <p:spPr>
          <a:xfrm>
            <a:off x="6572160" y="500040"/>
            <a:ext cx="2394000" cy="239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C:\Users\lucloudfly\Desktop\PNG图库\懒人图库近25000张透明PNG图片(PPTer要收藏)\tourism-ICO\liberty.png"/>
          <p:cNvPicPr/>
          <p:nvPr/>
        </p:nvPicPr>
        <p:blipFill>
          <a:blip r:embed="rId8"/>
          <a:stretch/>
        </p:blipFill>
        <p:spPr>
          <a:xfrm>
            <a:off x="0" y="214200"/>
            <a:ext cx="2751120" cy="275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56">
                                  <p:stCondLst>
                                    <p:cond delay="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41"/>
          <p:cNvSpPr/>
          <p:nvPr/>
        </p:nvSpPr>
        <p:spPr>
          <a:xfrm>
            <a:off x="357120" y="571680"/>
            <a:ext cx="421488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2"/>
          <p:cNvSpPr/>
          <p:nvPr/>
        </p:nvSpPr>
        <p:spPr>
          <a:xfrm>
            <a:off x="428760" y="642960"/>
            <a:ext cx="421452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3"/>
          <p:cNvSpPr/>
          <p:nvPr/>
        </p:nvSpPr>
        <p:spPr>
          <a:xfrm>
            <a:off x="500040" y="714240"/>
            <a:ext cx="421488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4"/>
          <p:cNvSpPr/>
          <p:nvPr/>
        </p:nvSpPr>
        <p:spPr>
          <a:xfrm>
            <a:off x="4500720" y="571680"/>
            <a:ext cx="421452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5"/>
          <p:cNvSpPr/>
          <p:nvPr/>
        </p:nvSpPr>
        <p:spPr>
          <a:xfrm>
            <a:off x="4572000" y="642960"/>
            <a:ext cx="421488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6"/>
          <p:cNvSpPr/>
          <p:nvPr/>
        </p:nvSpPr>
        <p:spPr>
          <a:xfrm>
            <a:off x="4643280" y="714240"/>
            <a:ext cx="4214880" cy="57150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lucloudfly\Desktop\PNG图库\懒人图库近25000张透明PNG图片(PPTer要收藏)\sketchy_weather_icons\sketchy_weather_34.png"/>
          <p:cNvPicPr/>
          <p:nvPr/>
        </p:nvPicPr>
        <p:blipFill>
          <a:blip r:embed="rId2"/>
          <a:stretch/>
        </p:blipFill>
        <p:spPr>
          <a:xfrm>
            <a:off x="7072200" y="471492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lucloudfly\Desktop\PNG图库\懒人图库近25000张透明PNG图片(PPTer要收藏)\sketchy_full_icons\fallout.png"/>
          <p:cNvPicPr/>
          <p:nvPr/>
        </p:nvPicPr>
        <p:blipFill>
          <a:blip r:embed="rId3"/>
          <a:stretch/>
        </p:blipFill>
        <p:spPr>
          <a:xfrm>
            <a:off x="1852560" y="6382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571680" y="1463760"/>
            <a:ext cx="38574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我</a:t>
            </a:r>
            <a:r>
              <a:rPr b="0" lang="zh-CN" sz="20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，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一枚小小的文艺青年，本人性格开朗、稳重、有活力</a:t>
            </a:r>
            <a:r>
              <a:rPr b="0" lang="en-US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,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待人热情、真诚。工作认真负责</a:t>
            </a:r>
            <a:r>
              <a:rPr b="0" lang="en-US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,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积极主动</a:t>
            </a:r>
            <a:r>
              <a:rPr b="0" lang="en-US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,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能吃苦耐劳。有较强的组织能力、实际动手能力和团体协作精神</a:t>
            </a:r>
            <a:r>
              <a:rPr b="0" lang="en-US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,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能迅速的适应各种环境</a:t>
            </a:r>
            <a:r>
              <a:rPr b="0" lang="en-US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,</a:t>
            </a:r>
            <a:r>
              <a:rPr b="0" lang="zh-CN" sz="24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并融入其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0" descr="Lighthouse.jpg"/>
          <p:cNvPicPr/>
          <p:nvPr/>
        </p:nvPicPr>
        <p:blipFill>
          <a:blip r:embed="rId4"/>
          <a:stretch/>
        </p:blipFill>
        <p:spPr>
          <a:xfrm>
            <a:off x="5000760" y="1643040"/>
            <a:ext cx="3429000" cy="2571840"/>
          </a:xfrm>
          <a:prstGeom prst="rect">
            <a:avLst/>
          </a:prstGeom>
          <a:ln cap="sq" w="38160">
            <a:solidFill>
              <a:srgbClr val="262626"/>
            </a:solidFill>
            <a:custDash>
              <a:ds d="100000" sp="100000"/>
            </a:custDash>
            <a:miter/>
          </a:ln>
        </p:spPr>
      </p:pic>
      <p:pic>
        <p:nvPicPr>
          <p:cNvPr id="64" name="图片 11" descr="Lighthouse.jpg"/>
          <p:cNvPicPr/>
          <p:nvPr/>
        </p:nvPicPr>
        <p:blipFill>
          <a:blip r:embed="rId5"/>
          <a:stretch/>
        </p:blipFill>
        <p:spPr>
          <a:xfrm>
            <a:off x="5000760" y="1643040"/>
            <a:ext cx="3429000" cy="2571840"/>
          </a:xfrm>
          <a:prstGeom prst="rect">
            <a:avLst/>
          </a:prstGeom>
          <a:ln cap="sq" w="38160">
            <a:solidFill>
              <a:srgbClr val="262626"/>
            </a:solidFill>
            <a:custDash>
              <a:ds d="100000" sp="100000"/>
            </a:custDash>
            <a:miter/>
          </a:ln>
        </p:spPr>
      </p:pic>
      <p:pic>
        <p:nvPicPr>
          <p:cNvPr id="65" name="图片 12" descr="Lighthouse.jpg"/>
          <p:cNvPicPr/>
          <p:nvPr/>
        </p:nvPicPr>
        <p:blipFill>
          <a:blip r:embed="rId6"/>
          <a:stretch/>
        </p:blipFill>
        <p:spPr>
          <a:xfrm>
            <a:off x="5000760" y="1643040"/>
            <a:ext cx="3429000" cy="2571840"/>
          </a:xfrm>
          <a:prstGeom prst="rect">
            <a:avLst/>
          </a:prstGeom>
          <a:ln cap="sq" w="38160">
            <a:solidFill>
              <a:srgbClr val="262626"/>
            </a:solidFill>
            <a:custDash>
              <a:ds d="100000" sp="100000"/>
            </a:custDash>
            <a:miter/>
          </a:ln>
        </p:spPr>
      </p:pic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3" presetSubtype="3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3" presetSubtype="36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9"/>
          <p:cNvSpPr/>
          <p:nvPr/>
        </p:nvSpPr>
        <p:spPr>
          <a:xfrm>
            <a:off x="0" y="71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个人</a:t>
            </a:r>
            <a:r>
              <a:rPr b="0" lang="en-US" sz="4400" spc="-1" strike="noStrike">
                <a:solidFill>
                  <a:srgbClr val="3f3f3f"/>
                </a:solidFill>
                <a:latin typeface="方正粗倩简体"/>
                <a:ea typeface="方正粗倩简体"/>
              </a:rPr>
              <a:t>SWOT</a:t>
            </a:r>
            <a:r>
              <a:rPr b="0" lang="zh-CN" sz="4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lucloudfly\Desktop\PNG图库\懒人图库近25000张透明PNG图片(PPTer要收藏)\pngicon-13\png-1262.png"/>
          <p:cNvPicPr/>
          <p:nvPr/>
        </p:nvPicPr>
        <p:blipFill>
          <a:blip r:embed="rId2"/>
          <a:stretch/>
        </p:blipFill>
        <p:spPr>
          <a:xfrm rot="4863600">
            <a:off x="6494040" y="323640"/>
            <a:ext cx="537840" cy="538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-1428840" y="1054080"/>
            <a:ext cx="9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f3f3f"/>
                </a:solidFill>
                <a:latin typeface="7 hours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8"/>
          <p:cNvGrpSpPr/>
          <p:nvPr/>
        </p:nvGrpSpPr>
        <p:grpSpPr>
          <a:xfrm>
            <a:off x="2141640" y="1143000"/>
            <a:ext cx="73080" cy="1143000"/>
            <a:chOff x="2141640" y="1143000"/>
            <a:chExt cx="73080" cy="1143000"/>
          </a:xfrm>
        </p:grpSpPr>
        <p:sp>
          <p:nvSpPr>
            <p:cNvPr id="70" name="直接连接符 28"/>
            <p:cNvSpPr/>
            <p:nvPr/>
          </p:nvSpPr>
          <p:spPr>
            <a:xfrm flipH="1">
              <a:off x="2214000" y="1214280"/>
              <a:ext cx="720" cy="1071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9"/>
            <p:cNvSpPr/>
            <p:nvPr/>
          </p:nvSpPr>
          <p:spPr>
            <a:xfrm flipH="1">
              <a:off x="2141640" y="1143000"/>
              <a:ext cx="1440" cy="11422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49"/>
          <p:cNvGrpSpPr/>
          <p:nvPr/>
        </p:nvGrpSpPr>
        <p:grpSpPr>
          <a:xfrm>
            <a:off x="7788240" y="1143000"/>
            <a:ext cx="69840" cy="1143000"/>
            <a:chOff x="7788240" y="1143000"/>
            <a:chExt cx="69840" cy="1143000"/>
          </a:xfrm>
        </p:grpSpPr>
        <p:sp>
          <p:nvSpPr>
            <p:cNvPr id="73" name="直接连接符 33"/>
            <p:cNvSpPr/>
            <p:nvPr/>
          </p:nvSpPr>
          <p:spPr>
            <a:xfrm flipH="1">
              <a:off x="7788240" y="1214280"/>
              <a:ext cx="720" cy="1071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34"/>
            <p:cNvSpPr/>
            <p:nvPr/>
          </p:nvSpPr>
          <p:spPr>
            <a:xfrm flipH="1">
              <a:off x="7856640" y="1143000"/>
              <a:ext cx="1440" cy="11422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46"/>
          <p:cNvGrpSpPr/>
          <p:nvPr/>
        </p:nvGrpSpPr>
        <p:grpSpPr>
          <a:xfrm>
            <a:off x="2071800" y="1285920"/>
            <a:ext cx="5857920" cy="73080"/>
            <a:chOff x="2071800" y="1285920"/>
            <a:chExt cx="5857920" cy="73080"/>
          </a:xfrm>
        </p:grpSpPr>
        <p:sp>
          <p:nvSpPr>
            <p:cNvPr id="76" name="直接连接符 14"/>
            <p:cNvSpPr/>
            <p:nvPr/>
          </p:nvSpPr>
          <p:spPr>
            <a:xfrm>
              <a:off x="2071800" y="128592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16"/>
            <p:cNvSpPr/>
            <p:nvPr/>
          </p:nvSpPr>
          <p:spPr>
            <a:xfrm>
              <a:off x="5715360" y="128592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18"/>
            <p:cNvSpPr/>
            <p:nvPr/>
          </p:nvSpPr>
          <p:spPr>
            <a:xfrm>
              <a:off x="4643640" y="128592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35"/>
            <p:cNvSpPr/>
            <p:nvPr/>
          </p:nvSpPr>
          <p:spPr>
            <a:xfrm>
              <a:off x="2071800" y="13575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36"/>
            <p:cNvSpPr/>
            <p:nvPr/>
          </p:nvSpPr>
          <p:spPr>
            <a:xfrm>
              <a:off x="5715360" y="13575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37"/>
            <p:cNvSpPr/>
            <p:nvPr/>
          </p:nvSpPr>
          <p:spPr>
            <a:xfrm>
              <a:off x="4643640" y="135756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47"/>
          <p:cNvGrpSpPr/>
          <p:nvPr/>
        </p:nvGrpSpPr>
        <p:grpSpPr>
          <a:xfrm>
            <a:off x="2071800" y="2071800"/>
            <a:ext cx="5857920" cy="73080"/>
            <a:chOff x="2071800" y="2071800"/>
            <a:chExt cx="5857920" cy="73080"/>
          </a:xfrm>
        </p:grpSpPr>
        <p:sp>
          <p:nvSpPr>
            <p:cNvPr id="83" name="直接连接符 15"/>
            <p:cNvSpPr/>
            <p:nvPr/>
          </p:nvSpPr>
          <p:spPr>
            <a:xfrm>
              <a:off x="3000240" y="214344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19"/>
            <p:cNvSpPr/>
            <p:nvPr/>
          </p:nvSpPr>
          <p:spPr>
            <a:xfrm>
              <a:off x="2071800" y="214200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21"/>
            <p:cNvSpPr/>
            <p:nvPr/>
          </p:nvSpPr>
          <p:spPr>
            <a:xfrm>
              <a:off x="6072480" y="21434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23"/>
            <p:cNvSpPr/>
            <p:nvPr/>
          </p:nvSpPr>
          <p:spPr>
            <a:xfrm>
              <a:off x="7072560" y="214344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41"/>
            <p:cNvSpPr/>
            <p:nvPr/>
          </p:nvSpPr>
          <p:spPr>
            <a:xfrm>
              <a:off x="3000240" y="207324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42"/>
            <p:cNvSpPr/>
            <p:nvPr/>
          </p:nvSpPr>
          <p:spPr>
            <a:xfrm>
              <a:off x="2071800" y="207180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43"/>
            <p:cNvSpPr/>
            <p:nvPr/>
          </p:nvSpPr>
          <p:spPr>
            <a:xfrm>
              <a:off x="6072480" y="20732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44"/>
            <p:cNvSpPr/>
            <p:nvPr/>
          </p:nvSpPr>
          <p:spPr>
            <a:xfrm>
              <a:off x="7072560" y="207324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50"/>
          <p:cNvSpPr/>
          <p:nvPr/>
        </p:nvSpPr>
        <p:spPr>
          <a:xfrm>
            <a:off x="2286000" y="135720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单击此处添加个人的</a:t>
            </a:r>
            <a:r>
              <a:rPr b="0" lang="en-US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项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有什么优势就在这里说出来吧！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1"/>
          <p:cNvSpPr/>
          <p:nvPr/>
        </p:nvSpPr>
        <p:spPr>
          <a:xfrm>
            <a:off x="-1428840" y="2428920"/>
            <a:ext cx="9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f3f3f"/>
                </a:solidFill>
                <a:latin typeface="7 hours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2"/>
          <p:cNvGrpSpPr/>
          <p:nvPr/>
        </p:nvGrpSpPr>
        <p:grpSpPr>
          <a:xfrm>
            <a:off x="2141640" y="2517840"/>
            <a:ext cx="73080" cy="1144440"/>
            <a:chOff x="2141640" y="2517840"/>
            <a:chExt cx="73080" cy="1144440"/>
          </a:xfrm>
        </p:grpSpPr>
        <p:sp>
          <p:nvSpPr>
            <p:cNvPr id="94" name="直接连接符 53"/>
            <p:cNvSpPr/>
            <p:nvPr/>
          </p:nvSpPr>
          <p:spPr>
            <a:xfrm flipH="1">
              <a:off x="2214000" y="2589120"/>
              <a:ext cx="720" cy="107316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54"/>
            <p:cNvSpPr/>
            <p:nvPr/>
          </p:nvSpPr>
          <p:spPr>
            <a:xfrm flipH="1">
              <a:off x="2141640" y="2517840"/>
              <a:ext cx="1440" cy="1143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55"/>
          <p:cNvGrpSpPr/>
          <p:nvPr/>
        </p:nvGrpSpPr>
        <p:grpSpPr>
          <a:xfrm>
            <a:off x="7788240" y="2517840"/>
            <a:ext cx="69840" cy="1144440"/>
            <a:chOff x="7788240" y="2517840"/>
            <a:chExt cx="69840" cy="1144440"/>
          </a:xfrm>
        </p:grpSpPr>
        <p:sp>
          <p:nvSpPr>
            <p:cNvPr id="97" name="直接连接符 56"/>
            <p:cNvSpPr/>
            <p:nvPr/>
          </p:nvSpPr>
          <p:spPr>
            <a:xfrm flipH="1">
              <a:off x="7788240" y="2589120"/>
              <a:ext cx="720" cy="107316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57"/>
            <p:cNvSpPr/>
            <p:nvPr/>
          </p:nvSpPr>
          <p:spPr>
            <a:xfrm flipH="1">
              <a:off x="7856640" y="2517840"/>
              <a:ext cx="1440" cy="1143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58"/>
          <p:cNvGrpSpPr/>
          <p:nvPr/>
        </p:nvGrpSpPr>
        <p:grpSpPr>
          <a:xfrm>
            <a:off x="2071800" y="2660760"/>
            <a:ext cx="5857920" cy="73080"/>
            <a:chOff x="2071800" y="2660760"/>
            <a:chExt cx="5857920" cy="73080"/>
          </a:xfrm>
        </p:grpSpPr>
        <p:sp>
          <p:nvSpPr>
            <p:cNvPr id="100" name="直接连接符 59"/>
            <p:cNvSpPr/>
            <p:nvPr/>
          </p:nvSpPr>
          <p:spPr>
            <a:xfrm>
              <a:off x="2071800" y="26607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60"/>
            <p:cNvSpPr/>
            <p:nvPr/>
          </p:nvSpPr>
          <p:spPr>
            <a:xfrm>
              <a:off x="5715360" y="26607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61"/>
            <p:cNvSpPr/>
            <p:nvPr/>
          </p:nvSpPr>
          <p:spPr>
            <a:xfrm>
              <a:off x="4643640" y="266076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62"/>
            <p:cNvSpPr/>
            <p:nvPr/>
          </p:nvSpPr>
          <p:spPr>
            <a:xfrm>
              <a:off x="2071800" y="27324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63"/>
            <p:cNvSpPr/>
            <p:nvPr/>
          </p:nvSpPr>
          <p:spPr>
            <a:xfrm>
              <a:off x="5715360" y="27324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64"/>
            <p:cNvSpPr/>
            <p:nvPr/>
          </p:nvSpPr>
          <p:spPr>
            <a:xfrm>
              <a:off x="4643640" y="273240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65"/>
          <p:cNvGrpSpPr/>
          <p:nvPr/>
        </p:nvGrpSpPr>
        <p:grpSpPr>
          <a:xfrm>
            <a:off x="2071800" y="3446640"/>
            <a:ext cx="5857920" cy="72720"/>
            <a:chOff x="2071800" y="3446640"/>
            <a:chExt cx="5857920" cy="72720"/>
          </a:xfrm>
        </p:grpSpPr>
        <p:sp>
          <p:nvSpPr>
            <p:cNvPr id="107" name="直接连接符 66"/>
            <p:cNvSpPr/>
            <p:nvPr/>
          </p:nvSpPr>
          <p:spPr>
            <a:xfrm>
              <a:off x="3000240" y="351792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67"/>
            <p:cNvSpPr/>
            <p:nvPr/>
          </p:nvSpPr>
          <p:spPr>
            <a:xfrm>
              <a:off x="2071800" y="35164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68"/>
            <p:cNvSpPr/>
            <p:nvPr/>
          </p:nvSpPr>
          <p:spPr>
            <a:xfrm>
              <a:off x="6072480" y="351792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69"/>
            <p:cNvSpPr/>
            <p:nvPr/>
          </p:nvSpPr>
          <p:spPr>
            <a:xfrm>
              <a:off x="7072560" y="351792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70"/>
            <p:cNvSpPr/>
            <p:nvPr/>
          </p:nvSpPr>
          <p:spPr>
            <a:xfrm>
              <a:off x="3000240" y="344808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71"/>
            <p:cNvSpPr/>
            <p:nvPr/>
          </p:nvSpPr>
          <p:spPr>
            <a:xfrm>
              <a:off x="2071800" y="34466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72"/>
            <p:cNvSpPr/>
            <p:nvPr/>
          </p:nvSpPr>
          <p:spPr>
            <a:xfrm>
              <a:off x="6072480" y="34480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73"/>
            <p:cNvSpPr/>
            <p:nvPr/>
          </p:nvSpPr>
          <p:spPr>
            <a:xfrm>
              <a:off x="7072560" y="344808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74"/>
          <p:cNvSpPr/>
          <p:nvPr/>
        </p:nvSpPr>
        <p:spPr>
          <a:xfrm>
            <a:off x="2286000" y="273204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单击此处添加个人的</a:t>
            </a:r>
            <a:r>
              <a:rPr b="0" lang="en-US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W</a:t>
            </a: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项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有什么弱势就在这里说出来吧！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5"/>
          <p:cNvSpPr/>
          <p:nvPr/>
        </p:nvSpPr>
        <p:spPr>
          <a:xfrm>
            <a:off x="-1428840" y="3786120"/>
            <a:ext cx="9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f3f3f"/>
                </a:solidFill>
                <a:latin typeface="7 hours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76"/>
          <p:cNvGrpSpPr/>
          <p:nvPr/>
        </p:nvGrpSpPr>
        <p:grpSpPr>
          <a:xfrm>
            <a:off x="2141640" y="3875040"/>
            <a:ext cx="73080" cy="1144800"/>
            <a:chOff x="2141640" y="3875040"/>
            <a:chExt cx="73080" cy="1144800"/>
          </a:xfrm>
        </p:grpSpPr>
        <p:sp>
          <p:nvSpPr>
            <p:cNvPr id="118" name="直接连接符 77"/>
            <p:cNvSpPr/>
            <p:nvPr/>
          </p:nvSpPr>
          <p:spPr>
            <a:xfrm flipH="1">
              <a:off x="2214000" y="3946320"/>
              <a:ext cx="720" cy="10735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78"/>
            <p:cNvSpPr/>
            <p:nvPr/>
          </p:nvSpPr>
          <p:spPr>
            <a:xfrm flipH="1">
              <a:off x="2141640" y="3875040"/>
              <a:ext cx="1440" cy="11440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79"/>
          <p:cNvGrpSpPr/>
          <p:nvPr/>
        </p:nvGrpSpPr>
        <p:grpSpPr>
          <a:xfrm>
            <a:off x="7788240" y="3875040"/>
            <a:ext cx="69840" cy="1144800"/>
            <a:chOff x="7788240" y="3875040"/>
            <a:chExt cx="69840" cy="1144800"/>
          </a:xfrm>
        </p:grpSpPr>
        <p:sp>
          <p:nvSpPr>
            <p:cNvPr id="121" name="直接连接符 80"/>
            <p:cNvSpPr/>
            <p:nvPr/>
          </p:nvSpPr>
          <p:spPr>
            <a:xfrm flipH="1">
              <a:off x="7788240" y="3946320"/>
              <a:ext cx="720" cy="10735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81"/>
            <p:cNvSpPr/>
            <p:nvPr/>
          </p:nvSpPr>
          <p:spPr>
            <a:xfrm flipH="1">
              <a:off x="7856640" y="3875040"/>
              <a:ext cx="1440" cy="11440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82"/>
          <p:cNvGrpSpPr/>
          <p:nvPr/>
        </p:nvGrpSpPr>
        <p:grpSpPr>
          <a:xfrm>
            <a:off x="2071800" y="4017960"/>
            <a:ext cx="5857920" cy="73080"/>
            <a:chOff x="2071800" y="4017960"/>
            <a:chExt cx="5857920" cy="73080"/>
          </a:xfrm>
        </p:grpSpPr>
        <p:sp>
          <p:nvSpPr>
            <p:cNvPr id="124" name="直接连接符 83"/>
            <p:cNvSpPr/>
            <p:nvPr/>
          </p:nvSpPr>
          <p:spPr>
            <a:xfrm>
              <a:off x="2071800" y="40179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84"/>
            <p:cNvSpPr/>
            <p:nvPr/>
          </p:nvSpPr>
          <p:spPr>
            <a:xfrm>
              <a:off x="5715360" y="40179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85"/>
            <p:cNvSpPr/>
            <p:nvPr/>
          </p:nvSpPr>
          <p:spPr>
            <a:xfrm>
              <a:off x="4643640" y="401796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86"/>
            <p:cNvSpPr/>
            <p:nvPr/>
          </p:nvSpPr>
          <p:spPr>
            <a:xfrm>
              <a:off x="2071800" y="40896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87"/>
            <p:cNvSpPr/>
            <p:nvPr/>
          </p:nvSpPr>
          <p:spPr>
            <a:xfrm>
              <a:off x="5715360" y="40896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88"/>
            <p:cNvSpPr/>
            <p:nvPr/>
          </p:nvSpPr>
          <p:spPr>
            <a:xfrm>
              <a:off x="4643640" y="408960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89"/>
          <p:cNvGrpSpPr/>
          <p:nvPr/>
        </p:nvGrpSpPr>
        <p:grpSpPr>
          <a:xfrm>
            <a:off x="2071800" y="4803840"/>
            <a:ext cx="5857920" cy="73080"/>
            <a:chOff x="2071800" y="4803840"/>
            <a:chExt cx="5857920" cy="73080"/>
          </a:xfrm>
        </p:grpSpPr>
        <p:sp>
          <p:nvSpPr>
            <p:cNvPr id="131" name="直接连接符 90"/>
            <p:cNvSpPr/>
            <p:nvPr/>
          </p:nvSpPr>
          <p:spPr>
            <a:xfrm>
              <a:off x="3000240" y="487548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91"/>
            <p:cNvSpPr/>
            <p:nvPr/>
          </p:nvSpPr>
          <p:spPr>
            <a:xfrm>
              <a:off x="2071800" y="48740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92"/>
            <p:cNvSpPr/>
            <p:nvPr/>
          </p:nvSpPr>
          <p:spPr>
            <a:xfrm>
              <a:off x="6072480" y="48754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93"/>
            <p:cNvSpPr/>
            <p:nvPr/>
          </p:nvSpPr>
          <p:spPr>
            <a:xfrm>
              <a:off x="7072560" y="487548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94"/>
            <p:cNvSpPr/>
            <p:nvPr/>
          </p:nvSpPr>
          <p:spPr>
            <a:xfrm>
              <a:off x="3000240" y="480528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95"/>
            <p:cNvSpPr/>
            <p:nvPr/>
          </p:nvSpPr>
          <p:spPr>
            <a:xfrm>
              <a:off x="2071800" y="48038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96"/>
            <p:cNvSpPr/>
            <p:nvPr/>
          </p:nvSpPr>
          <p:spPr>
            <a:xfrm>
              <a:off x="6072480" y="48052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97"/>
            <p:cNvSpPr/>
            <p:nvPr/>
          </p:nvSpPr>
          <p:spPr>
            <a:xfrm>
              <a:off x="7072560" y="480528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Box 98"/>
          <p:cNvSpPr/>
          <p:nvPr/>
        </p:nvSpPr>
        <p:spPr>
          <a:xfrm>
            <a:off x="2286000" y="408924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单击此处添加个人的</a:t>
            </a:r>
            <a:r>
              <a:rPr b="0" lang="en-US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项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有什么机会就在这里说出来吧！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9"/>
          <p:cNvSpPr/>
          <p:nvPr/>
        </p:nvSpPr>
        <p:spPr>
          <a:xfrm>
            <a:off x="-1428840" y="5197320"/>
            <a:ext cx="93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f3f3f"/>
                </a:solidFill>
                <a:latin typeface="7 hours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00"/>
          <p:cNvGrpSpPr/>
          <p:nvPr/>
        </p:nvGrpSpPr>
        <p:grpSpPr>
          <a:xfrm>
            <a:off x="2141640" y="5286240"/>
            <a:ext cx="73080" cy="1143000"/>
            <a:chOff x="2141640" y="5286240"/>
            <a:chExt cx="73080" cy="1143000"/>
          </a:xfrm>
        </p:grpSpPr>
        <p:sp>
          <p:nvSpPr>
            <p:cNvPr id="142" name="直接连接符 101"/>
            <p:cNvSpPr/>
            <p:nvPr/>
          </p:nvSpPr>
          <p:spPr>
            <a:xfrm flipH="1">
              <a:off x="2214000" y="5357520"/>
              <a:ext cx="720" cy="1071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02"/>
            <p:cNvSpPr/>
            <p:nvPr/>
          </p:nvSpPr>
          <p:spPr>
            <a:xfrm flipH="1">
              <a:off x="2141640" y="5286240"/>
              <a:ext cx="1440" cy="11422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103"/>
          <p:cNvGrpSpPr/>
          <p:nvPr/>
        </p:nvGrpSpPr>
        <p:grpSpPr>
          <a:xfrm>
            <a:off x="7788240" y="5286240"/>
            <a:ext cx="69840" cy="1143000"/>
            <a:chOff x="7788240" y="5286240"/>
            <a:chExt cx="69840" cy="1143000"/>
          </a:xfrm>
        </p:grpSpPr>
        <p:sp>
          <p:nvSpPr>
            <p:cNvPr id="145" name="直接连接符 104"/>
            <p:cNvSpPr/>
            <p:nvPr/>
          </p:nvSpPr>
          <p:spPr>
            <a:xfrm flipH="1">
              <a:off x="7788240" y="5357520"/>
              <a:ext cx="720" cy="107172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05"/>
            <p:cNvSpPr/>
            <p:nvPr/>
          </p:nvSpPr>
          <p:spPr>
            <a:xfrm flipH="1">
              <a:off x="7856640" y="5286240"/>
              <a:ext cx="1440" cy="114228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06"/>
          <p:cNvGrpSpPr/>
          <p:nvPr/>
        </p:nvGrpSpPr>
        <p:grpSpPr>
          <a:xfrm>
            <a:off x="2071800" y="5429160"/>
            <a:ext cx="5857920" cy="73080"/>
            <a:chOff x="2071800" y="5429160"/>
            <a:chExt cx="5857920" cy="73080"/>
          </a:xfrm>
        </p:grpSpPr>
        <p:sp>
          <p:nvSpPr>
            <p:cNvPr id="148" name="直接连接符 107"/>
            <p:cNvSpPr/>
            <p:nvPr/>
          </p:nvSpPr>
          <p:spPr>
            <a:xfrm>
              <a:off x="2071800" y="54291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08"/>
            <p:cNvSpPr/>
            <p:nvPr/>
          </p:nvSpPr>
          <p:spPr>
            <a:xfrm>
              <a:off x="5715360" y="542916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109"/>
            <p:cNvSpPr/>
            <p:nvPr/>
          </p:nvSpPr>
          <p:spPr>
            <a:xfrm>
              <a:off x="4643640" y="542916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110"/>
            <p:cNvSpPr/>
            <p:nvPr/>
          </p:nvSpPr>
          <p:spPr>
            <a:xfrm>
              <a:off x="2071800" y="55008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111"/>
            <p:cNvSpPr/>
            <p:nvPr/>
          </p:nvSpPr>
          <p:spPr>
            <a:xfrm>
              <a:off x="5715360" y="5500800"/>
              <a:ext cx="22143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112"/>
            <p:cNvSpPr/>
            <p:nvPr/>
          </p:nvSpPr>
          <p:spPr>
            <a:xfrm>
              <a:off x="4643640" y="550080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13"/>
          <p:cNvGrpSpPr/>
          <p:nvPr/>
        </p:nvGrpSpPr>
        <p:grpSpPr>
          <a:xfrm>
            <a:off x="2071800" y="6215040"/>
            <a:ext cx="5857920" cy="73080"/>
            <a:chOff x="2071800" y="6215040"/>
            <a:chExt cx="5857920" cy="73080"/>
          </a:xfrm>
        </p:grpSpPr>
        <p:sp>
          <p:nvSpPr>
            <p:cNvPr id="155" name="直接连接符 114"/>
            <p:cNvSpPr/>
            <p:nvPr/>
          </p:nvSpPr>
          <p:spPr>
            <a:xfrm>
              <a:off x="3000240" y="628668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15"/>
            <p:cNvSpPr/>
            <p:nvPr/>
          </p:nvSpPr>
          <p:spPr>
            <a:xfrm>
              <a:off x="2071800" y="62852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16"/>
            <p:cNvSpPr/>
            <p:nvPr/>
          </p:nvSpPr>
          <p:spPr>
            <a:xfrm>
              <a:off x="6072480" y="62866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117"/>
            <p:cNvSpPr/>
            <p:nvPr/>
          </p:nvSpPr>
          <p:spPr>
            <a:xfrm>
              <a:off x="7072560" y="628668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18"/>
            <p:cNvSpPr/>
            <p:nvPr/>
          </p:nvSpPr>
          <p:spPr>
            <a:xfrm>
              <a:off x="3000240" y="6216480"/>
              <a:ext cx="285768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119"/>
            <p:cNvSpPr/>
            <p:nvPr/>
          </p:nvSpPr>
          <p:spPr>
            <a:xfrm>
              <a:off x="2071800" y="621504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120"/>
            <p:cNvSpPr/>
            <p:nvPr/>
          </p:nvSpPr>
          <p:spPr>
            <a:xfrm>
              <a:off x="6072480" y="6216480"/>
              <a:ext cx="71424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121"/>
            <p:cNvSpPr/>
            <p:nvPr/>
          </p:nvSpPr>
          <p:spPr>
            <a:xfrm>
              <a:off x="7072560" y="6216480"/>
              <a:ext cx="857160" cy="1440"/>
            </a:xfrm>
            <a:prstGeom prst="line">
              <a:avLst/>
            </a:prstGeom>
            <a:ln w="255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122"/>
          <p:cNvSpPr/>
          <p:nvPr/>
        </p:nvSpPr>
        <p:spPr>
          <a:xfrm>
            <a:off x="2286000" y="550080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单击此处添加个人的</a:t>
            </a:r>
            <a:r>
              <a:rPr b="0" lang="en-US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项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有什么威胁就在这里说出来吧！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C:\Users\lucloudfly\Desktop\PNG图库\懒人图库近25000张透明PNG图片(PPTer要收藏)\pngicon-13\png-1279.png"/>
          <p:cNvPicPr/>
          <p:nvPr/>
        </p:nvPicPr>
        <p:blipFill>
          <a:blip r:embed="rId3"/>
          <a:stretch/>
        </p:blipFill>
        <p:spPr>
          <a:xfrm>
            <a:off x="8072280" y="585792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0"/>
          <p:cNvGrpSpPr/>
          <p:nvPr/>
        </p:nvGrpSpPr>
        <p:grpSpPr>
          <a:xfrm>
            <a:off x="71280" y="5357880"/>
            <a:ext cx="8929800" cy="1500120"/>
            <a:chOff x="71280" y="5357880"/>
            <a:chExt cx="8929800" cy="1500120"/>
          </a:xfrm>
        </p:grpSpPr>
        <p:pic>
          <p:nvPicPr>
            <p:cNvPr id="166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2"/>
            <a:stretch/>
          </p:blipFill>
          <p:spPr>
            <a:xfrm>
              <a:off x="7128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3"/>
            <a:stretch/>
          </p:blipFill>
          <p:spPr>
            <a:xfrm>
              <a:off x="128556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4"/>
            <a:stretch/>
          </p:blipFill>
          <p:spPr>
            <a:xfrm>
              <a:off x="250020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5"/>
            <a:stretch/>
          </p:blipFill>
          <p:spPr>
            <a:xfrm>
              <a:off x="371448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6"/>
            <a:stretch/>
          </p:blipFill>
          <p:spPr>
            <a:xfrm>
              <a:off x="507204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7"/>
            <a:stretch/>
          </p:blipFill>
          <p:spPr>
            <a:xfrm>
              <a:off x="628632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8"/>
            <a:stretch/>
          </p:blipFill>
          <p:spPr>
            <a:xfrm>
              <a:off x="750096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TextBox 16"/>
          <p:cNvSpPr/>
          <p:nvPr/>
        </p:nvSpPr>
        <p:spPr>
          <a:xfrm>
            <a:off x="0" y="71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工作技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Users\lucloudfly\Desktop\PNG图库\懒人图库近25000张透明PNG图片(PPTer要收藏)\acients-system\acients-system-24.png"/>
          <p:cNvPicPr/>
          <p:nvPr/>
        </p:nvPicPr>
        <p:blipFill>
          <a:blip r:embed="rId9"/>
          <a:stretch/>
        </p:blipFill>
        <p:spPr>
          <a:xfrm>
            <a:off x="642960" y="24242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lucloudfly\Desktop\PNG图库\懒人图库近25000张透明PNG图片(PPTer要收藏)\acients-system\acients-system-20.png"/>
          <p:cNvPicPr/>
          <p:nvPr/>
        </p:nvPicPr>
        <p:blipFill>
          <a:blip r:embed="rId10"/>
          <a:stretch/>
        </p:blipFill>
        <p:spPr>
          <a:xfrm>
            <a:off x="571680" y="1285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:\Users\lucloudfly\Desktop\PNG图库\懒人图库近25000张透明PNG图片(PPTer要收藏)\acients-system\acients-system-22.png"/>
          <p:cNvPicPr/>
          <p:nvPr/>
        </p:nvPicPr>
        <p:blipFill>
          <a:blip r:embed="rId11"/>
          <a:stretch/>
        </p:blipFill>
        <p:spPr>
          <a:xfrm>
            <a:off x="642960" y="356724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10"/>
          <p:cNvGrpSpPr/>
          <p:nvPr/>
        </p:nvGrpSpPr>
        <p:grpSpPr>
          <a:xfrm>
            <a:off x="71280" y="5357880"/>
            <a:ext cx="8929800" cy="1500120"/>
            <a:chOff x="71280" y="5357880"/>
            <a:chExt cx="8929800" cy="1500120"/>
          </a:xfrm>
        </p:grpSpPr>
        <p:pic>
          <p:nvPicPr>
            <p:cNvPr id="178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2"/>
            <a:stretch/>
          </p:blipFill>
          <p:spPr>
            <a:xfrm>
              <a:off x="7128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3"/>
            <a:stretch/>
          </p:blipFill>
          <p:spPr>
            <a:xfrm>
              <a:off x="128556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4"/>
            <a:stretch/>
          </p:blipFill>
          <p:spPr>
            <a:xfrm>
              <a:off x="250020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5"/>
            <a:stretch/>
          </p:blipFill>
          <p:spPr>
            <a:xfrm>
              <a:off x="371448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6"/>
            <a:stretch/>
          </p:blipFill>
          <p:spPr>
            <a:xfrm>
              <a:off x="507204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7"/>
            <a:stretch/>
          </p:blipFill>
          <p:spPr>
            <a:xfrm>
              <a:off x="628632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6" descr="C:\Users\lucloudfly\Desktop\PNG图库\懒人图库近25000张透明PNG图片(PPTer要收藏)\sketchy_weather_icons\sketchy_weather_16.png"/>
            <p:cNvPicPr/>
            <p:nvPr/>
          </p:nvPicPr>
          <p:blipFill>
            <a:blip r:embed="rId8"/>
            <a:stretch/>
          </p:blipFill>
          <p:spPr>
            <a:xfrm>
              <a:off x="7500960" y="5357880"/>
              <a:ext cx="1500120" cy="15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TextBox 16"/>
          <p:cNvSpPr/>
          <p:nvPr/>
        </p:nvSpPr>
        <p:spPr>
          <a:xfrm>
            <a:off x="0" y="71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工作经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7b615"/>
                </a:solidFill>
                <a:uFillTx/>
                <a:latin typeface="Arial"/>
                <a:hlinkClick r:id="rId9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Users\lucloudfly\Desktop\PNG图库\懒人图库近25000张透明PNG图片(PPTer要收藏)\sketchy_weather_icons\sketchy_weather_33.png"/>
          <p:cNvPicPr/>
          <p:nvPr/>
        </p:nvPicPr>
        <p:blipFill>
          <a:blip r:embed="rId2"/>
          <a:stretch/>
        </p:blipFill>
        <p:spPr>
          <a:xfrm>
            <a:off x="2857680" y="142884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lucloudfly\Desktop\PNG图库\懒人图库近25000张透明PNG图片(PPTer要收藏)\sketchy_weather_icons\sketchy_weather_34.png"/>
          <p:cNvPicPr/>
          <p:nvPr/>
        </p:nvPicPr>
        <p:blipFill>
          <a:blip r:embed="rId3"/>
          <a:stretch/>
        </p:blipFill>
        <p:spPr>
          <a:xfrm>
            <a:off x="4572000" y="-64296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Users\lucloudfly\Desktop\PNG图库\懒人图库近25000张透明PNG图片(PPTer要收藏)\sketchy_weather_icons\sketchy_weather_12.png"/>
          <p:cNvPicPr/>
          <p:nvPr/>
        </p:nvPicPr>
        <p:blipFill>
          <a:blip r:embed="rId4"/>
          <a:stretch/>
        </p:blipFill>
        <p:spPr>
          <a:xfrm>
            <a:off x="3071880" y="4000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:\Users\lucloudfly\Desktop\PNG图库\懒人图库近25000张透明PNG图片(PPTer要收藏)\sketchy_weather_icons\sketchy_weather_13.png"/>
          <p:cNvPicPr/>
          <p:nvPr/>
        </p:nvPicPr>
        <p:blipFill>
          <a:blip r:embed="rId5"/>
          <a:stretch/>
        </p:blipFill>
        <p:spPr>
          <a:xfrm>
            <a:off x="-1625760" y="285840"/>
            <a:ext cx="3251520" cy="3251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Users\lucloudfly\Desktop\PNG图库\懒人图库近25000张透明PNG图片(PPTer要收藏)\sketchy_weather_icons\sketchy_weather_16.png"/>
          <p:cNvPicPr/>
          <p:nvPr/>
        </p:nvPicPr>
        <p:blipFill>
          <a:blip r:embed="rId6"/>
          <a:stretch/>
        </p:blipFill>
        <p:spPr>
          <a:xfrm>
            <a:off x="6215040" y="264312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:\Users\lucloudfly\Desktop\PNG图库\懒人图库近25000张透明PNG图片(PPTer要收藏)\sketchy_weather_icons\sketchy_weather_17.png"/>
          <p:cNvPicPr/>
          <p:nvPr/>
        </p:nvPicPr>
        <p:blipFill>
          <a:blip r:embed="rId7"/>
          <a:stretch/>
        </p:blipFill>
        <p:spPr>
          <a:xfrm>
            <a:off x="-428760" y="221472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:\Users\lucloudfly\Desktop\PNG图库\懒人图库近25000张透明PNG图片(PPTer要收藏)\sketchy-paper\padlock_locked.png"/>
          <p:cNvPicPr/>
          <p:nvPr/>
        </p:nvPicPr>
        <p:blipFill>
          <a:blip r:embed="rId8"/>
          <a:stretch/>
        </p:blipFill>
        <p:spPr>
          <a:xfrm>
            <a:off x="3786120" y="7858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:\Users\lucloudfly\Desktop\PNG图库\懒人图库近25000张透明PNG图片(PPTer要收藏)\sketchy-paper\zoom_search.png"/>
          <p:cNvPicPr/>
          <p:nvPr/>
        </p:nvPicPr>
        <p:blipFill>
          <a:blip r:embed="rId9"/>
          <a:stretch/>
        </p:blipFill>
        <p:spPr>
          <a:xfrm>
            <a:off x="3786120" y="7858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Users\lucloudfly\Desktop\PNG图库\懒人图库近25000张透明PNG图片(PPTer要收藏)\sketchy-paper\application.png"/>
          <p:cNvPicPr/>
          <p:nvPr/>
        </p:nvPicPr>
        <p:blipFill>
          <a:blip r:embed="rId10"/>
          <a:stretch/>
        </p:blipFill>
        <p:spPr>
          <a:xfrm>
            <a:off x="3786120" y="7858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:\Users\lucloudfly\Desktop\PNG图库\懒人图库近25000张透明PNG图片(PPTer要收藏)\sketchy-paper\chart.png"/>
          <p:cNvPicPr/>
          <p:nvPr/>
        </p:nvPicPr>
        <p:blipFill>
          <a:blip r:embed="rId11"/>
          <a:stretch/>
        </p:blipFill>
        <p:spPr>
          <a:xfrm>
            <a:off x="3786120" y="7858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:\Users\lucloudfly\Desktop\PNG图库\懒人图库近25000张透明PNG图片(PPTer要收藏)\sketchy-paper\home_page.png"/>
          <p:cNvPicPr/>
          <p:nvPr/>
        </p:nvPicPr>
        <p:blipFill>
          <a:blip r:embed="rId12"/>
          <a:stretch/>
        </p:blipFill>
        <p:spPr>
          <a:xfrm>
            <a:off x="3786120" y="785880"/>
            <a:ext cx="1649520" cy="1649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C:\Users\lucloudfly\Desktop\PNG图库\懒人图库近25000张透明PNG图片(PPTer要收藏)\Sofa\Sofa_08.png"/>
          <p:cNvPicPr/>
          <p:nvPr/>
        </p:nvPicPr>
        <p:blipFill>
          <a:blip r:embed="rId13"/>
          <a:stretch/>
        </p:blipFill>
        <p:spPr>
          <a:xfrm>
            <a:off x="-214200" y="414324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lucloudfly\Desktop\PNG图库\懒人图库近25000张透明PNG图片(PPTer要收藏)\Somatic_Rebirth_Extras\Calculator.png"/>
          <p:cNvPicPr/>
          <p:nvPr/>
        </p:nvPicPr>
        <p:blipFill>
          <a:blip r:embed="rId14"/>
          <a:stretch/>
        </p:blipFill>
        <p:spPr>
          <a:xfrm>
            <a:off x="8143920" y="12859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lucloudfly\Desktop\PNG图库\懒人图库近25000张透明PNG图片(PPTer要收藏)\pngicon-13\png-1269.png"/>
          <p:cNvPicPr/>
          <p:nvPr/>
        </p:nvPicPr>
        <p:blipFill>
          <a:blip r:embed="rId15"/>
          <a:stretch/>
        </p:blipFill>
        <p:spPr>
          <a:xfrm>
            <a:off x="1571760" y="3571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Users\lucloudfly\Desktop\PNG图库\懒人图库近25000张透明PNG图片(PPTer要收藏)\pngicon-13\png-1273.png"/>
          <p:cNvPicPr/>
          <p:nvPr/>
        </p:nvPicPr>
        <p:blipFill>
          <a:blip r:embed="rId16"/>
          <a:stretch/>
        </p:blipFill>
        <p:spPr>
          <a:xfrm rot="5920200">
            <a:off x="1726920" y="1085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Users\lucloudfly\Desktop\PNG图库\懒人图库近25000张透明PNG图片(PPTer要收藏)\pngicon-13\png-1275.png"/>
          <p:cNvPicPr/>
          <p:nvPr/>
        </p:nvPicPr>
        <p:blipFill>
          <a:blip r:embed="rId17"/>
          <a:stretch/>
        </p:blipFill>
        <p:spPr>
          <a:xfrm>
            <a:off x="500040" y="3286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C:\Users\lucloudfly\Desktop\PNG图库\懒人图库近25000张透明PNG图片(PPTer要收藏)\pngicon-13\png-1276.png"/>
          <p:cNvPicPr/>
          <p:nvPr/>
        </p:nvPicPr>
        <p:blipFill>
          <a:blip r:embed="rId18"/>
          <a:stretch/>
        </p:blipFill>
        <p:spPr>
          <a:xfrm>
            <a:off x="385776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Users\lucloudfly\Desktop\PNG图库\懒人图库近25000张透明PNG图片(PPTer要收藏)\pngicon-13\png-1279.png"/>
          <p:cNvPicPr/>
          <p:nvPr/>
        </p:nvPicPr>
        <p:blipFill>
          <a:blip r:embed="rId19"/>
          <a:stretch/>
        </p:blipFill>
        <p:spPr>
          <a:xfrm>
            <a:off x="8143920" y="37861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C:\Users\lucloudfly\Desktop\PNG图库\懒人图库近25000张透明PNG图片(PPTer要收藏)\pngicon-13\png-1282.png"/>
          <p:cNvPicPr/>
          <p:nvPr/>
        </p:nvPicPr>
        <p:blipFill>
          <a:blip r:embed="rId20"/>
          <a:stretch/>
        </p:blipFill>
        <p:spPr>
          <a:xfrm>
            <a:off x="5715000" y="3929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C:\Users\lucloudfly\Desktop\PNG图库\懒人图库近25000张透明PNG图片(PPTer要收藏)\pngicon-13\png-1285.png"/>
          <p:cNvPicPr/>
          <p:nvPr/>
        </p:nvPicPr>
        <p:blipFill>
          <a:blip r:embed="rId21"/>
          <a:stretch/>
        </p:blipFill>
        <p:spPr>
          <a:xfrm>
            <a:off x="3071880" y="4786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C:\Users\lucloudfly\Desktop\PNG图库\懒人图库近25000张透明PNG图片(PPTer要收藏)\pngicon-13\png-1289.png"/>
          <p:cNvPicPr/>
          <p:nvPr/>
        </p:nvPicPr>
        <p:blipFill>
          <a:blip r:embed="rId22"/>
          <a:stretch/>
        </p:blipFill>
        <p:spPr>
          <a:xfrm>
            <a:off x="3929040" y="26431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C:\Users\lucloudfly\Desktop\PNG图库\懒人图库近25000张透明PNG图片(PPTer要收藏)\pngicon-13\png-1290.png"/>
          <p:cNvPicPr/>
          <p:nvPr/>
        </p:nvPicPr>
        <p:blipFill>
          <a:blip r:embed="rId23"/>
          <a:stretch/>
        </p:blipFill>
        <p:spPr>
          <a:xfrm>
            <a:off x="6929280" y="4287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C:\Users\lucloudfly\Desktop\PNG图库\懒人图库近25000张透明PNG图片(PPTer要收藏)\pngicon-13\png-1292.png"/>
          <p:cNvPicPr/>
          <p:nvPr/>
        </p:nvPicPr>
        <p:blipFill>
          <a:blip r:embed="rId24"/>
          <a:stretch/>
        </p:blipFill>
        <p:spPr>
          <a:xfrm>
            <a:off x="5929200" y="2143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C:\Users\lucloudfly\Desktop\PNG图库\懒人图库近25000张透明PNG图片(PPTer要收藏)\pngicon-13\png-1300.png"/>
          <p:cNvPicPr/>
          <p:nvPr/>
        </p:nvPicPr>
        <p:blipFill>
          <a:blip r:embed="rId25"/>
          <a:stretch/>
        </p:blipFill>
        <p:spPr>
          <a:xfrm>
            <a:off x="1285920" y="2214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C:\Users\lucloudfly\Desktop\PNG图库\懒人图库近25000张透明PNG图片(PPTer要收藏)\pngicon-13\png-1256.png"/>
          <p:cNvPicPr/>
          <p:nvPr/>
        </p:nvPicPr>
        <p:blipFill>
          <a:blip r:embed="rId26"/>
          <a:stretch/>
        </p:blipFill>
        <p:spPr>
          <a:xfrm>
            <a:off x="6072120" y="54291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C:\Users\lucloudfly\Desktop\PNG图库\懒人图库近25000张透明PNG图片(PPTer要收藏)\pngicon-13\png-1260.png"/>
          <p:cNvPicPr/>
          <p:nvPr/>
        </p:nvPicPr>
        <p:blipFill>
          <a:blip r:embed="rId27"/>
          <a:stretch/>
        </p:blipFill>
        <p:spPr>
          <a:xfrm>
            <a:off x="2357280" y="36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C:\Users\lucloudfly\Desktop\PNG图库\懒人图库近25000张透明PNG图片(PPTer要收藏)\pngicon-13\png-1261.png"/>
          <p:cNvPicPr/>
          <p:nvPr/>
        </p:nvPicPr>
        <p:blipFill>
          <a:blip r:embed="rId28"/>
          <a:stretch/>
        </p:blipFill>
        <p:spPr>
          <a:xfrm>
            <a:off x="4857840" y="4714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C:\Users\lucloudfly\Desktop\PNG图库\懒人图库近25000张透明PNG图片(PPTer要收藏)\pngicon-13\png-1267.png"/>
          <p:cNvPicPr/>
          <p:nvPr/>
        </p:nvPicPr>
        <p:blipFill>
          <a:blip r:embed="rId29"/>
          <a:stretch/>
        </p:blipFill>
        <p:spPr>
          <a:xfrm>
            <a:off x="7215120" y="19288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C:\Users\lucloudfly\Desktop\PNG图库\懒人图库近25000张透明PNG图片(PPTer要收藏)\pngicon-13\png-1268.png"/>
          <p:cNvPicPr/>
          <p:nvPr/>
        </p:nvPicPr>
        <p:blipFill>
          <a:blip r:embed="rId30"/>
          <a:stretch/>
        </p:blipFill>
        <p:spPr>
          <a:xfrm>
            <a:off x="5286240" y="31431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lucloudfly\Desktop\PNG图库\懒人图库近25000张透明PNG图片(PPTer要收藏)\sketchy_full_icons\extra.png"/>
          <p:cNvPicPr/>
          <p:nvPr/>
        </p:nvPicPr>
        <p:blipFill>
          <a:blip r:embed="rId2"/>
          <a:stretch/>
        </p:blipFill>
        <p:spPr>
          <a:xfrm>
            <a:off x="4714920" y="2357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lucloudfly\Desktop\PNG图库\懒人图库近25000张透明PNG图片(PPTer要收藏)\sketchy_full_icons\fallout.png"/>
          <p:cNvPicPr/>
          <p:nvPr/>
        </p:nvPicPr>
        <p:blipFill>
          <a:blip r:embed="rId3"/>
          <a:stretch/>
        </p:blipFill>
        <p:spPr>
          <a:xfrm>
            <a:off x="2928960" y="2500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Users\lucloudfly\Desktop\PNG图库\懒人图库近25000张透明PNG图片(PPTer要收藏)\sketchy_full_icons\goo.png"/>
          <p:cNvPicPr/>
          <p:nvPr/>
        </p:nvPicPr>
        <p:blipFill>
          <a:blip r:embed="rId4"/>
          <a:stretch/>
        </p:blipFill>
        <p:spPr>
          <a:xfrm>
            <a:off x="2286000" y="49291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Users\lucloudfly\Desktop\PNG图库\懒人图库近25000张透明PNG图片(PPTer要收藏)\sketchy_full_icons\i-explorer.png"/>
          <p:cNvPicPr/>
          <p:nvPr/>
        </p:nvPicPr>
        <p:blipFill>
          <a:blip r:embed="rId5"/>
          <a:stretch/>
        </p:blipFill>
        <p:spPr>
          <a:xfrm>
            <a:off x="5072040" y="37861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lucloudfly\Desktop\PNG图库\懒人图库近25000张透明PNG图片(PPTer要收藏)\sketchy_full_icons\network-places.png"/>
          <p:cNvPicPr/>
          <p:nvPr/>
        </p:nvPicPr>
        <p:blipFill>
          <a:blip r:embed="rId6"/>
          <a:stretch/>
        </p:blipFill>
        <p:spPr>
          <a:xfrm>
            <a:off x="7715160" y="40006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C:\Users\lucloudfly\Desktop\PNG图库\懒人图库近25000张透明PNG图片(PPTer要收藏)\sketchy_full_icons\paint.png"/>
          <p:cNvPicPr/>
          <p:nvPr/>
        </p:nvPicPr>
        <p:blipFill>
          <a:blip r:embed="rId7"/>
          <a:stretch/>
        </p:blipFill>
        <p:spPr>
          <a:xfrm>
            <a:off x="7000920" y="2143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C:\Users\lucloudfly\Desktop\PNG图库\懒人图库近25000张透明PNG图片(PPTer要收藏)\sketchy_full_icons\rtm.png"/>
          <p:cNvPicPr/>
          <p:nvPr/>
        </p:nvPicPr>
        <p:blipFill>
          <a:blip r:embed="rId8"/>
          <a:stretch/>
        </p:blipFill>
        <p:spPr>
          <a:xfrm>
            <a:off x="628668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C:\Users\lucloudfly\Desktop\PNG图库\懒人图库近25000张透明PNG图片(PPTer要收藏)\sketchy_full_icons\stellarium.png"/>
          <p:cNvPicPr/>
          <p:nvPr/>
        </p:nvPicPr>
        <p:blipFill>
          <a:blip r:embed="rId9"/>
          <a:stretch/>
        </p:blipFill>
        <p:spPr>
          <a:xfrm>
            <a:off x="7715160" y="7858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C:\Users\lucloudfly\Desktop\PNG图库\懒人图库近25000张透明PNG图片(PPTer要收藏)\sketchy_full_icons\ventrilo.png"/>
          <p:cNvPicPr/>
          <p:nvPr/>
        </p:nvPicPr>
        <p:blipFill>
          <a:blip r:embed="rId10"/>
          <a:stretch/>
        </p:blipFill>
        <p:spPr>
          <a:xfrm>
            <a:off x="6643800" y="857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C:\Users\lucloudfly\Desktop\PNG图库\懒人图库近25000张透明PNG图片(PPTer要收藏)\sketchy_full_icons\where.png"/>
          <p:cNvPicPr/>
          <p:nvPr/>
        </p:nvPicPr>
        <p:blipFill>
          <a:blip r:embed="rId11"/>
          <a:stretch/>
        </p:blipFill>
        <p:spPr>
          <a:xfrm>
            <a:off x="3357720" y="28584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C:\Users\lucloudfly\Desktop\PNG图库\懒人图库近25000张透明PNG图片(PPTer要收藏)\sketchy_full_icons\win-media.png"/>
          <p:cNvPicPr/>
          <p:nvPr/>
        </p:nvPicPr>
        <p:blipFill>
          <a:blip r:embed="rId12"/>
          <a:stretch/>
        </p:blipFill>
        <p:spPr>
          <a:xfrm>
            <a:off x="8215200" y="2786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C:\Users\lucloudfly\Desktop\PNG图库\懒人图库近25000张透明PNG图片(PPTer要收藏)\sketchy_full_icons\winrar.png"/>
          <p:cNvPicPr/>
          <p:nvPr/>
        </p:nvPicPr>
        <p:blipFill>
          <a:blip r:embed="rId13"/>
          <a:stretch/>
        </p:blipFill>
        <p:spPr>
          <a:xfrm>
            <a:off x="5929200" y="4572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C:\Users\lucloudfly\Desktop\PNG图库\懒人图库近25000张透明PNG图片(PPTer要收藏)\sketchy_full_icons\apple-itunes.png"/>
          <p:cNvPicPr/>
          <p:nvPr/>
        </p:nvPicPr>
        <p:blipFill>
          <a:blip r:embed="rId14"/>
          <a:stretch/>
        </p:blipFill>
        <p:spPr>
          <a:xfrm>
            <a:off x="1428840" y="42148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C:\Users\lucloudfly\Desktop\PNG图库\懒人图库近25000张透明PNG图片(PPTer要收藏)\sketchy_full_icons\bitlord.png"/>
          <p:cNvPicPr/>
          <p:nvPr/>
        </p:nvPicPr>
        <p:blipFill>
          <a:blip r:embed="rId15"/>
          <a:stretch/>
        </p:blipFill>
        <p:spPr>
          <a:xfrm>
            <a:off x="428760" y="142884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C:\Users\lucloudfly\Desktop\PNG图库\懒人图库近25000张透明PNG图片(PPTer要收藏)\sketchy_full_icons\chat.png"/>
          <p:cNvPicPr/>
          <p:nvPr/>
        </p:nvPicPr>
        <p:blipFill>
          <a:blip r:embed="rId16"/>
          <a:stretch/>
        </p:blipFill>
        <p:spPr>
          <a:xfrm>
            <a:off x="6072120" y="15001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C:\Users\lucloudfly\Desktop\PNG图库\懒人图库近25000张透明PNG图片(PPTer要收藏)\sketchy_full_icons\clef.png"/>
          <p:cNvPicPr/>
          <p:nvPr/>
        </p:nvPicPr>
        <p:blipFill>
          <a:blip r:embed="rId17"/>
          <a:stretch/>
        </p:blipFill>
        <p:spPr>
          <a:xfrm>
            <a:off x="2928960" y="135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C:\Users\lucloudfly\Desktop\PNG图库\懒人图库近25000张透明PNG图片(PPTer要收藏)\sketchy_full_icons\clock.png"/>
          <p:cNvPicPr/>
          <p:nvPr/>
        </p:nvPicPr>
        <p:blipFill>
          <a:blip r:embed="rId18"/>
          <a:stretch/>
        </p:blipFill>
        <p:spPr>
          <a:xfrm>
            <a:off x="4000680" y="40719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C:\Users\lucloudfly\Desktop\PNG图库\懒人图库近25000张透明PNG图片(PPTer要收藏)\sketchy_full_icons\contacts.png"/>
          <p:cNvPicPr/>
          <p:nvPr/>
        </p:nvPicPr>
        <p:blipFill>
          <a:blip r:embed="rId19"/>
          <a:stretch/>
        </p:blipFill>
        <p:spPr>
          <a:xfrm>
            <a:off x="5857920" y="28576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0" descr="C:\Users\lucloudfly\Desktop\PNG图库\懒人图库近25000张透明PNG图片(PPTer要收藏)\sketchy_full_icons\corel.png"/>
          <p:cNvPicPr/>
          <p:nvPr/>
        </p:nvPicPr>
        <p:blipFill>
          <a:blip r:embed="rId20"/>
          <a:stretch/>
        </p:blipFill>
        <p:spPr>
          <a:xfrm>
            <a:off x="4643280" y="92880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1" descr="C:\Users\lucloudfly\Desktop\PNG图库\懒人图库近25000张透明PNG图片(PPTer要收藏)\sketchy_full_icons\documents1.png"/>
          <p:cNvPicPr/>
          <p:nvPr/>
        </p:nvPicPr>
        <p:blipFill>
          <a:blip r:embed="rId21"/>
          <a:stretch/>
        </p:blipFill>
        <p:spPr>
          <a:xfrm>
            <a:off x="2071800" y="29289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lucloudfly\Desktop\PNG图库\懒人图库近25000张透明PNG图片(PPTer要收藏)\2540\jianshixt_36.png"/>
          <p:cNvPicPr/>
          <p:nvPr/>
        </p:nvPicPr>
        <p:blipFill>
          <a:blip r:embed="rId22">
            <a:lum bright="30000"/>
          </a:blip>
          <a:stretch/>
        </p:blipFill>
        <p:spPr>
          <a:xfrm>
            <a:off x="1214280" y="571680"/>
            <a:ext cx="1192320" cy="98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1E8-3961-47E8-A809-EC7EC7F2FBBA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9"/>
          <p:cNvSpPr/>
          <p:nvPr/>
        </p:nvSpPr>
        <p:spPr>
          <a:xfrm>
            <a:off x="816120" y="1928880"/>
            <a:ext cx="42840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0"/>
          <p:cNvSpPr/>
          <p:nvPr/>
        </p:nvSpPr>
        <p:spPr>
          <a:xfrm>
            <a:off x="1387440" y="1928880"/>
            <a:ext cx="42876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1"/>
          <p:cNvSpPr/>
          <p:nvPr/>
        </p:nvSpPr>
        <p:spPr>
          <a:xfrm>
            <a:off x="1959120" y="1928880"/>
            <a:ext cx="42840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2"/>
          <p:cNvSpPr/>
          <p:nvPr/>
        </p:nvSpPr>
        <p:spPr>
          <a:xfrm>
            <a:off x="2530440" y="1928880"/>
            <a:ext cx="42876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4"/>
          <p:cNvSpPr/>
          <p:nvPr/>
        </p:nvSpPr>
        <p:spPr>
          <a:xfrm>
            <a:off x="6531120" y="1785960"/>
            <a:ext cx="1928520" cy="1000080"/>
          </a:xfrm>
          <a:prstGeom prst="rect">
            <a:avLst/>
          </a:prstGeom>
          <a:noFill/>
          <a:ln w="2556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5"/>
          <p:cNvSpPr/>
          <p:nvPr/>
        </p:nvSpPr>
        <p:spPr>
          <a:xfrm>
            <a:off x="457200" y="1500120"/>
            <a:ext cx="8217000" cy="364356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501480" y="1557360"/>
            <a:ext cx="8217000" cy="3643200"/>
          </a:xfrm>
          <a:prstGeom prst="rect">
            <a:avLst/>
          </a:prstGeom>
          <a:noFill/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8"/>
          <p:cNvSpPr/>
          <p:nvPr/>
        </p:nvSpPr>
        <p:spPr>
          <a:xfrm>
            <a:off x="7493040" y="1785960"/>
            <a:ext cx="1440" cy="1000080"/>
          </a:xfrm>
          <a:prstGeom prst="line">
            <a:avLst/>
          </a:prstGeom>
          <a:ln w="25560">
            <a:solidFill>
              <a:srgbClr val="5959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9"/>
          <p:cNvSpPr/>
          <p:nvPr/>
        </p:nvSpPr>
        <p:spPr>
          <a:xfrm>
            <a:off x="7531200" y="1857240"/>
            <a:ext cx="8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贴邮票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6531120" y="1857240"/>
            <a:ext cx="9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简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Users\lucloudfly\Desktop\PNG图库\懒人图库近25000张透明PNG图片(PPTer要收藏)\pngicon-13\png-1232.png"/>
          <p:cNvPicPr/>
          <p:nvPr/>
        </p:nvPicPr>
        <p:blipFill>
          <a:blip r:embed="rId2"/>
          <a:stretch/>
        </p:blipFill>
        <p:spPr>
          <a:xfrm rot="20820000">
            <a:off x="7345440" y="16790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51" name="直接连接符 22"/>
          <p:cNvSpPr/>
          <p:nvPr/>
        </p:nvSpPr>
        <p:spPr>
          <a:xfrm>
            <a:off x="785880" y="3357720"/>
            <a:ext cx="4214880" cy="1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23"/>
          <p:cNvSpPr/>
          <p:nvPr/>
        </p:nvSpPr>
        <p:spPr>
          <a:xfrm>
            <a:off x="785880" y="3927600"/>
            <a:ext cx="4214880" cy="1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4"/>
          <p:cNvSpPr/>
          <p:nvPr/>
        </p:nvSpPr>
        <p:spPr>
          <a:xfrm>
            <a:off x="785880" y="4498920"/>
            <a:ext cx="4214880" cy="18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7"/>
          <p:cNvSpPr/>
          <p:nvPr/>
        </p:nvSpPr>
        <p:spPr>
          <a:xfrm>
            <a:off x="3129120" y="1928880"/>
            <a:ext cx="42840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3711600" y="1928880"/>
            <a:ext cx="428760" cy="428400"/>
          </a:xfrm>
          <a:prstGeom prst="rect">
            <a:avLst/>
          </a:prstGeom>
          <a:solidFill>
            <a:srgbClr val="a5a5a5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5"/>
          <p:cNvSpPr/>
          <p:nvPr/>
        </p:nvSpPr>
        <p:spPr>
          <a:xfrm>
            <a:off x="785880" y="285768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用心制作一份简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785880" y="342900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认真邮寄一份希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7"/>
          <p:cNvSpPr/>
          <p:nvPr/>
        </p:nvSpPr>
        <p:spPr>
          <a:xfrm>
            <a:off x="785880" y="400068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古隶简体"/>
                <a:ea typeface="方正古隶简体"/>
              </a:rPr>
              <a:t>还你一个工作机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5429160" y="464328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2013</a:t>
            </a:r>
            <a:r>
              <a:rPr b="0" lang="zh-CN" sz="24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方正古隶简体"/>
                <a:ea typeface="方正古隶简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C:\Users\lucloudfly\Desktop\PNG图库\懒人图库近25000张透明PNG图片(PPTer要收藏)\sketchy_weather_icons\sketchy_weather_34.png"/>
          <p:cNvPicPr/>
          <p:nvPr/>
        </p:nvPicPr>
        <p:blipFill>
          <a:blip r:embed="rId3"/>
          <a:stretch/>
        </p:blipFill>
        <p:spPr>
          <a:xfrm>
            <a:off x="6429240" y="2714760"/>
            <a:ext cx="2036880" cy="2036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8" descr="C:\Users\lucloudfly\Desktop\PNG图库\懒人图库近25000张透明PNG图片(PPTer要收藏)\tourism-ICO\eiffel.png"/>
          <p:cNvPicPr/>
          <p:nvPr/>
        </p:nvPicPr>
        <p:blipFill>
          <a:blip r:embed="rId4"/>
          <a:stretch/>
        </p:blipFill>
        <p:spPr>
          <a:xfrm>
            <a:off x="4892760" y="2786040"/>
            <a:ext cx="1822320" cy="18223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8" descr="C:\Users\lucloudfly\Desktop\PNG图库\懒人图库近25000张透明PNG图片(PPTer要收藏)\Sofa\Sofa_08.png"/>
          <p:cNvPicPr/>
          <p:nvPr/>
        </p:nvPicPr>
        <p:blipFill>
          <a:blip r:embed="rId5"/>
          <a:stretch/>
        </p:blipFill>
        <p:spPr>
          <a:xfrm>
            <a:off x="2571840" y="2643120"/>
            <a:ext cx="4000320" cy="30718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7"/>
          <p:cNvSpPr/>
          <p:nvPr/>
        </p:nvSpPr>
        <p:spPr>
          <a:xfrm>
            <a:off x="0" y="2484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62626"/>
                </a:solidFill>
                <a:latin typeface="方正古隶简体"/>
                <a:ea typeface="方正古隶简体"/>
              </a:rPr>
              <a:t>感谢您的关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900"/>
                            </p:stCondLst>
                            <p:childTnLst>
                              <p:par>
                                <p:cTn id="297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900"/>
                            </p:stCondLst>
                            <p:childTnLst>
                              <p:par>
                                <p:cTn id="3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dur="indefinite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2:50:24Z</dcterms:created>
  <dc:creator>lucloudfly</dc:creator>
  <dc:description/>
  <dc:language>en-US</dc:language>
  <cp:lastModifiedBy>YANGS2015</cp:lastModifiedBy>
  <dcterms:modified xsi:type="dcterms:W3CDTF">2015-08-03T12:31:06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