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69C-258E-4932-A8E1-E68E4B67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5AF-60DB-474A-9177-37C2D0C5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2953-02BC-444E-94FF-AF3BF3E3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FC8-B186-4E6A-ADF0-C42D5CD8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CE6-5889-413D-B2EE-AFFBFF8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54F-1D51-48DA-8E7F-E3E0AFF4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B404-0E26-4004-AC65-15721740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3DD-6348-4D41-97B1-72B8888F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3E2-B5A0-4C4C-8FFF-AA71674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43B-B8D5-4D4E-A84E-A2E68C5B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51A-3B86-4D10-84FF-3AB486B6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BD5-64B9-4543-9750-0D01CB9F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54B1-515D-4B98-A403-9D30BCA6DD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F0BB-B028-46BC-87A3-E682D0FEB7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b23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 rot="1764600">
            <a:off x="-3308400" y="3027240"/>
            <a:ext cx="156621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0"/>
          <p:cNvSpPr/>
          <p:nvPr/>
        </p:nvSpPr>
        <p:spPr>
          <a:xfrm rot="1764600">
            <a:off x="-12600" y="-2553840"/>
            <a:ext cx="15662160" cy="6791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7"/>
          <p:cNvGrpSpPr/>
          <p:nvPr/>
        </p:nvGrpSpPr>
        <p:grpSpPr>
          <a:xfrm>
            <a:off x="5083200" y="3327480"/>
            <a:ext cx="2575080" cy="654120"/>
            <a:chOff x="5083200" y="3327480"/>
            <a:chExt cx="2575080" cy="654120"/>
          </a:xfrm>
        </p:grpSpPr>
        <p:sp>
          <p:nvSpPr>
            <p:cNvPr id="44" name="矩形 13"/>
            <p:cNvSpPr/>
            <p:nvPr/>
          </p:nvSpPr>
          <p:spPr>
            <a:xfrm>
              <a:off x="5083200" y="3332880"/>
              <a:ext cx="2575080" cy="6487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8d8d8"/>
                  </a:solidFill>
                  <a:latin typeface="HelveticaNeue LT 107 XBlkCn"/>
                </a:rPr>
                <a:t>LETTER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16"/>
            <p:cNvSpPr/>
            <p:nvPr/>
          </p:nvSpPr>
          <p:spPr>
            <a:xfrm>
              <a:off x="7572600" y="3327480"/>
              <a:ext cx="85680" cy="6541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组合 20"/>
          <p:cNvGrpSpPr/>
          <p:nvPr/>
        </p:nvGrpSpPr>
        <p:grpSpPr>
          <a:xfrm>
            <a:off x="4552920" y="1847880"/>
            <a:ext cx="3105360" cy="838080"/>
            <a:chOff x="4552920" y="1847880"/>
            <a:chExt cx="3105360" cy="838080"/>
          </a:xfrm>
        </p:grpSpPr>
        <p:sp>
          <p:nvSpPr>
            <p:cNvPr id="47" name="矩形 11"/>
            <p:cNvSpPr/>
            <p:nvPr/>
          </p:nvSpPr>
          <p:spPr>
            <a:xfrm>
              <a:off x="4552920" y="1847880"/>
              <a:ext cx="3105360" cy="838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1b2371"/>
                  </a:solidFill>
                  <a:latin typeface="HelveticaNeue LT 107 XBlkCn"/>
                </a:rPr>
                <a:t>RESUM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7572600" y="1882440"/>
              <a:ext cx="85680" cy="76896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22"/>
          <p:cNvGrpSpPr/>
          <p:nvPr/>
        </p:nvGrpSpPr>
        <p:grpSpPr>
          <a:xfrm>
            <a:off x="3951360" y="2685960"/>
            <a:ext cx="3706920" cy="647640"/>
            <a:chOff x="3951360" y="2685960"/>
            <a:chExt cx="3706920" cy="647640"/>
          </a:xfrm>
        </p:grpSpPr>
        <p:sp>
          <p:nvSpPr>
            <p:cNvPr id="50" name="矩形 12"/>
            <p:cNvSpPr/>
            <p:nvPr/>
          </p:nvSpPr>
          <p:spPr>
            <a:xfrm>
              <a:off x="3951360" y="2685960"/>
              <a:ext cx="3706920" cy="6476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1b2371"/>
                  </a:solidFill>
                  <a:latin typeface="HelveticaNeue LT 107 XBlkCn"/>
                </a:rPr>
                <a:t>APPLIC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5"/>
            <p:cNvSpPr/>
            <p:nvPr/>
          </p:nvSpPr>
          <p:spPr>
            <a:xfrm>
              <a:off x="7572600" y="2720520"/>
              <a:ext cx="85680" cy="578520"/>
            </a:xfrm>
            <a:prstGeom prst="rect">
              <a:avLst/>
            </a:prstGeom>
            <a:solidFill>
              <a:srgbClr val="1b23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27"/>
          <p:cNvSpPr/>
          <p:nvPr/>
        </p:nvSpPr>
        <p:spPr>
          <a:xfrm>
            <a:off x="4552920" y="1854360"/>
            <a:ext cx="3105360" cy="83808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8"/>
          <p:cNvSpPr/>
          <p:nvPr/>
        </p:nvSpPr>
        <p:spPr>
          <a:xfrm>
            <a:off x="3530520" y="2685960"/>
            <a:ext cx="4127760" cy="64764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29"/>
          <p:cNvSpPr/>
          <p:nvPr/>
        </p:nvSpPr>
        <p:spPr>
          <a:xfrm>
            <a:off x="292104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30"/>
          <p:cNvSpPr/>
          <p:nvPr/>
        </p:nvSpPr>
        <p:spPr>
          <a:xfrm>
            <a:off x="461628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</a:rPr>
              <a:t>EDUCAT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</a:rPr>
              <a:t>BACKG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31"/>
          <p:cNvSpPr/>
          <p:nvPr/>
        </p:nvSpPr>
        <p:spPr>
          <a:xfrm>
            <a:off x="62928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32"/>
          <p:cNvSpPr/>
          <p:nvPr/>
        </p:nvSpPr>
        <p:spPr>
          <a:xfrm>
            <a:off x="7934400" y="61848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5040" y="85154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12400" y="81900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动态求职简历商务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xit" presetID="22" presetSubtype="8">
                                  <p:stCondLst>
                                    <p:cond delay="1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1"/>
          <p:cNvSpPr/>
          <p:nvPr/>
        </p:nvSpPr>
        <p:spPr>
          <a:xfrm>
            <a:off x="3137040" y="2624040"/>
            <a:ext cx="1158840" cy="2097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4329000" y="2624040"/>
            <a:ext cx="1157400" cy="1605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5514840" y="2624040"/>
            <a:ext cx="1157400" cy="2824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ADDRES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696000" y="2624040"/>
            <a:ext cx="1157400" cy="2097360"/>
          </a:xfrm>
          <a:prstGeom prst="rect">
            <a:avLst/>
          </a:prstGeom>
          <a:solidFill>
            <a:srgbClr val="1b23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PH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7877160" y="2624040"/>
            <a:ext cx="1157400" cy="39481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NATIVE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3137040" y="2624040"/>
            <a:ext cx="5887800" cy="460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2"/>
          <p:cNvSpPr/>
          <p:nvPr/>
        </p:nvSpPr>
        <p:spPr>
          <a:xfrm>
            <a:off x="292104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PERS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elveticaNeueLT Pro 67 MdC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 13"/>
          <p:cNvSpPr/>
          <p:nvPr/>
        </p:nvSpPr>
        <p:spPr>
          <a:xfrm>
            <a:off x="461628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</a:rPr>
              <a:t>EDUCATIONA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HelveticaNeueLT Pro 67 MdCn"/>
              </a:rPr>
              <a:t>BACKGROU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椭圆 14"/>
          <p:cNvSpPr/>
          <p:nvPr/>
        </p:nvSpPr>
        <p:spPr>
          <a:xfrm>
            <a:off x="629280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elveticaNeue LT 107 XBlkCn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LT Pro 67 MdCn"/>
              </a:rPr>
              <a:t>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7934400" y="-673200"/>
            <a:ext cx="1251000" cy="125100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107 XBlkC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NeueLT Pro 67 MdCn"/>
              </a:rPr>
              <a:t>HON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6"/>
          <p:cNvSpPr/>
          <p:nvPr/>
        </p:nvSpPr>
        <p:spPr>
          <a:xfrm>
            <a:off x="3598200" y="1243080"/>
            <a:ext cx="497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PERSONAL DA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3628440" y="938160"/>
            <a:ext cx="49050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8d8d8"/>
                </a:solidFill>
                <a:latin typeface="HelveticaNeue LT 97 BlackCn"/>
              </a:rPr>
              <a:t>EDUCATIO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8d8d8"/>
                </a:solidFill>
                <a:latin typeface="HelveticaNeue LT 97 BlackC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236520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236520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236520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5079960" y="2584440"/>
            <a:ext cx="20178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5079960" y="4194000"/>
            <a:ext cx="20178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5079960" y="5051520"/>
            <a:ext cx="20178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/>
          <p:cNvSpPr/>
          <p:nvPr/>
        </p:nvSpPr>
        <p:spPr>
          <a:xfrm>
            <a:off x="7778880" y="2584440"/>
            <a:ext cx="2016000" cy="16095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7778880" y="4194000"/>
            <a:ext cx="2016000" cy="85752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UNIVERS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7778880" y="5051520"/>
            <a:ext cx="2016000" cy="62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2695680" y="522612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3589560" y="522612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DEMON.C\Desktop\badge.png"/>
          <p:cNvPicPr/>
          <p:nvPr/>
        </p:nvPicPr>
        <p:blipFill>
          <a:blip r:embed="rId2"/>
          <a:stretch/>
        </p:blipFill>
        <p:spPr>
          <a:xfrm>
            <a:off x="3359160" y="5219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DEMON.C\Desktop\3D-glasses.png"/>
          <p:cNvPicPr/>
          <p:nvPr/>
        </p:nvPicPr>
        <p:blipFill>
          <a:blip r:embed="rId3"/>
          <a:stretch/>
        </p:blipFill>
        <p:spPr>
          <a:xfrm>
            <a:off x="2449440" y="521964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85" name="矩形 20"/>
          <p:cNvSpPr/>
          <p:nvPr/>
        </p:nvSpPr>
        <p:spPr>
          <a:xfrm>
            <a:off x="5419800" y="521964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6313680" y="521964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DEMON.C\Desktop\badge.png"/>
          <p:cNvPicPr/>
          <p:nvPr/>
        </p:nvPicPr>
        <p:blipFill>
          <a:blip r:embed="rId4"/>
          <a:stretch/>
        </p:blipFill>
        <p:spPr>
          <a:xfrm>
            <a:off x="6083280" y="521496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DEMON.C\Desktop\3D-glasses.png"/>
          <p:cNvPicPr/>
          <p:nvPr/>
        </p:nvPicPr>
        <p:blipFill>
          <a:blip r:embed="rId5"/>
          <a:stretch/>
        </p:blipFill>
        <p:spPr>
          <a:xfrm>
            <a:off x="5173560" y="5214960"/>
            <a:ext cx="285840" cy="284040"/>
          </a:xfrm>
          <a:prstGeom prst="rect">
            <a:avLst/>
          </a:prstGeom>
          <a:ln w="0">
            <a:noFill/>
          </a:ln>
        </p:spPr>
      </p:pic>
      <p:sp>
        <p:nvSpPr>
          <p:cNvPr id="89" name="矩形 24"/>
          <p:cNvSpPr/>
          <p:nvPr/>
        </p:nvSpPr>
        <p:spPr>
          <a:xfrm>
            <a:off x="8128080" y="5214960"/>
            <a:ext cx="71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MAJ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5"/>
          <p:cNvSpPr/>
          <p:nvPr/>
        </p:nvSpPr>
        <p:spPr>
          <a:xfrm>
            <a:off x="9022680" y="5214960"/>
            <a:ext cx="75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HelveticaNeue LT 97 BlackCn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DEMON.C\Desktop\badge.png"/>
          <p:cNvPicPr/>
          <p:nvPr/>
        </p:nvPicPr>
        <p:blipFill>
          <a:blip r:embed="rId6"/>
          <a:stretch/>
        </p:blipFill>
        <p:spPr>
          <a:xfrm>
            <a:off x="8791560" y="5210280"/>
            <a:ext cx="285840" cy="284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DEMON.C\Desktop\3D-glasses.png"/>
          <p:cNvPicPr/>
          <p:nvPr/>
        </p:nvPicPr>
        <p:blipFill>
          <a:blip r:embed="rId7"/>
          <a:stretch/>
        </p:blipFill>
        <p:spPr>
          <a:xfrm>
            <a:off x="7883640" y="5210280"/>
            <a:ext cx="284040" cy="28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Users\DEMON.C\Desktop\school_emblems_1.png"/>
          <p:cNvPicPr/>
          <p:nvPr/>
        </p:nvPicPr>
        <p:blipFill>
          <a:blip r:embed="rId8"/>
          <a:stretch/>
        </p:blipFill>
        <p:spPr>
          <a:xfrm>
            <a:off x="8085240" y="2730600"/>
            <a:ext cx="1326960" cy="139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DEMON.C\Desktop\12.png"/>
          <p:cNvPicPr/>
          <p:nvPr/>
        </p:nvPicPr>
        <p:blipFill>
          <a:blip r:embed="rId9"/>
          <a:stretch/>
        </p:blipFill>
        <p:spPr>
          <a:xfrm>
            <a:off x="2698920" y="2759040"/>
            <a:ext cx="1268280" cy="1228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DEMON.C\Desktop\school_emblems_1.png"/>
          <p:cNvPicPr/>
          <p:nvPr/>
        </p:nvPicPr>
        <p:blipFill>
          <a:blip r:embed="rId10"/>
          <a:stretch/>
        </p:blipFill>
        <p:spPr>
          <a:xfrm>
            <a:off x="5608800" y="2786040"/>
            <a:ext cx="96984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>
            <a:off x="5023440" y="601560"/>
            <a:ext cx="214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b2371"/>
                </a:solidFill>
                <a:latin typeface="HelveticaNeue LT 97 BlackCn"/>
              </a:rPr>
              <a:t>GO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2"/>
          <p:cNvSpPr/>
          <p:nvPr/>
        </p:nvSpPr>
        <p:spPr>
          <a:xfrm>
            <a:off x="276228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281304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DIRECTOR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281304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OP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6"/>
          <p:cNvSpPr/>
          <p:nvPr/>
        </p:nvSpPr>
        <p:spPr>
          <a:xfrm>
            <a:off x="5229360" y="2266920"/>
            <a:ext cx="171108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280120" y="4286160"/>
            <a:ext cx="160956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NA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5280120" y="5043600"/>
            <a:ext cx="160956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9"/>
          <p:cNvSpPr/>
          <p:nvPr/>
        </p:nvSpPr>
        <p:spPr>
          <a:xfrm>
            <a:off x="7686720" y="2266920"/>
            <a:ext cx="1709640" cy="1709640"/>
          </a:xfrm>
          <a:prstGeom prst="ellipse">
            <a:avLst/>
          </a:prstGeom>
          <a:solidFill>
            <a:srgbClr val="1b2371"/>
          </a:solidFill>
          <a:ln w="1015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elveticaNeue LT 107 XBlkCn"/>
              </a:rPr>
              <a:t>F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>
            <a:off x="7737480" y="4286160"/>
            <a:ext cx="1608120" cy="758880"/>
          </a:xfrm>
          <a:prstGeom prst="rect">
            <a:avLst/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elveticaNeue LT 97 BlackCn"/>
              </a:rPr>
              <a:t>GENERAL MAN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7737480" y="5043600"/>
            <a:ext cx="1608120" cy="75888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 LT 97 BlackCn"/>
              </a:rPr>
              <a:t>FOC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等腰三角形 12"/>
          <p:cNvSpPr/>
          <p:nvPr/>
        </p:nvSpPr>
        <p:spPr>
          <a:xfrm>
            <a:off x="347976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13"/>
          <p:cNvSpPr/>
          <p:nvPr/>
        </p:nvSpPr>
        <p:spPr>
          <a:xfrm>
            <a:off x="595944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等腰三角形 14"/>
          <p:cNvSpPr/>
          <p:nvPr/>
        </p:nvSpPr>
        <p:spPr>
          <a:xfrm>
            <a:off x="8404200" y="4122720"/>
            <a:ext cx="273240" cy="235080"/>
          </a:xfrm>
          <a:prstGeom prst="triangle">
            <a:avLst>
              <a:gd name="adj" fmla="val 50000"/>
            </a:avLst>
          </a:prstGeom>
          <a:solidFill>
            <a:srgbClr val="f744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3179520" y="133668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b2371"/>
                </a:solidFill>
                <a:latin typeface="HelveticaNeue LT 97 BlackCn"/>
              </a:rPr>
              <a:t>TO GET A SUITABLE JOB IN A HIGH GROWTH S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圆角矩形 8"/>
          <p:cNvSpPr/>
          <p:nvPr/>
        </p:nvSpPr>
        <p:spPr>
          <a:xfrm>
            <a:off x="2470320" y="4938840"/>
            <a:ext cx="204768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等腰三角形 9"/>
          <p:cNvSpPr/>
          <p:nvPr/>
        </p:nvSpPr>
        <p:spPr>
          <a:xfrm flipV="1">
            <a:off x="335592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5"/>
          <p:cNvSpPr/>
          <p:nvPr/>
        </p:nvSpPr>
        <p:spPr>
          <a:xfrm>
            <a:off x="5072040" y="4938840"/>
            <a:ext cx="20480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等腰三角形 16"/>
          <p:cNvSpPr/>
          <p:nvPr/>
        </p:nvSpPr>
        <p:spPr>
          <a:xfrm flipV="1">
            <a:off x="59580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圆角矩形 22"/>
          <p:cNvSpPr/>
          <p:nvPr/>
        </p:nvSpPr>
        <p:spPr>
          <a:xfrm>
            <a:off x="7707240" y="4938840"/>
            <a:ext cx="2046240" cy="8636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等腰三角形 23"/>
          <p:cNvSpPr/>
          <p:nvPr/>
        </p:nvSpPr>
        <p:spPr>
          <a:xfrm flipV="1">
            <a:off x="8593200" y="5706360"/>
            <a:ext cx="274680" cy="23652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"/>
          <p:cNvSpPr/>
          <p:nvPr/>
        </p:nvSpPr>
        <p:spPr>
          <a:xfrm>
            <a:off x="4413960" y="855720"/>
            <a:ext cx="33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8d8d8"/>
                </a:solidFill>
                <a:latin typeface="HelveticaNeue LT 97 BlackCn"/>
              </a:rPr>
              <a:t>HONOUR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3440880" y="169704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8d8d8"/>
                </a:solidFill>
                <a:latin typeface="HelveticaNeue LT 97 BlackCn"/>
              </a:rPr>
              <a:t>DO YOU HAVE SOMETHING IMPORTANT TO 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3"/>
          <p:cNvSpPr/>
          <p:nvPr/>
        </p:nvSpPr>
        <p:spPr>
          <a:xfrm>
            <a:off x="2470320" y="2552760"/>
            <a:ext cx="204768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2470320" y="3279600"/>
            <a:ext cx="204768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5"/>
          <p:cNvSpPr/>
          <p:nvPr/>
        </p:nvSpPr>
        <p:spPr>
          <a:xfrm>
            <a:off x="2470320" y="3753000"/>
            <a:ext cx="20476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2470320" y="4227480"/>
            <a:ext cx="204768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/>
          <p:cNvSpPr/>
          <p:nvPr/>
        </p:nvSpPr>
        <p:spPr>
          <a:xfrm>
            <a:off x="2470320" y="4702320"/>
            <a:ext cx="204768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0"/>
          <p:cNvSpPr/>
          <p:nvPr/>
        </p:nvSpPr>
        <p:spPr>
          <a:xfrm>
            <a:off x="5072040" y="2552760"/>
            <a:ext cx="20480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5072040" y="3279600"/>
            <a:ext cx="20480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5072040" y="3753000"/>
            <a:ext cx="20480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072040" y="4227480"/>
            <a:ext cx="20480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4"/>
          <p:cNvSpPr/>
          <p:nvPr/>
        </p:nvSpPr>
        <p:spPr>
          <a:xfrm>
            <a:off x="5072040" y="4702320"/>
            <a:ext cx="20480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圆角矩形 17"/>
          <p:cNvSpPr/>
          <p:nvPr/>
        </p:nvSpPr>
        <p:spPr>
          <a:xfrm>
            <a:off x="7707240" y="2552760"/>
            <a:ext cx="2046240" cy="861840"/>
          </a:xfrm>
          <a:prstGeom prst="roundRect">
            <a:avLst>
              <a:gd name="adj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 LT 97 BlackCn"/>
              </a:rPr>
              <a:t>A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8"/>
          <p:cNvSpPr/>
          <p:nvPr/>
        </p:nvSpPr>
        <p:spPr>
          <a:xfrm>
            <a:off x="7707240" y="3279600"/>
            <a:ext cx="2046240" cy="4734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9"/>
          <p:cNvSpPr/>
          <p:nvPr/>
        </p:nvSpPr>
        <p:spPr>
          <a:xfrm>
            <a:off x="7707240" y="3753000"/>
            <a:ext cx="204624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0"/>
          <p:cNvSpPr/>
          <p:nvPr/>
        </p:nvSpPr>
        <p:spPr>
          <a:xfrm>
            <a:off x="7707240" y="4227480"/>
            <a:ext cx="2046240" cy="4748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21"/>
          <p:cNvSpPr/>
          <p:nvPr/>
        </p:nvSpPr>
        <p:spPr>
          <a:xfrm>
            <a:off x="7707240" y="4702320"/>
            <a:ext cx="20462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XX素材XX\Dortmund-32x32\star.png"/>
          <p:cNvPicPr/>
          <p:nvPr/>
        </p:nvPicPr>
        <p:blipFill>
          <a:blip r:embed="rId2"/>
          <a:stretch/>
        </p:blipFill>
        <p:spPr>
          <a:xfrm>
            <a:off x="2597040" y="3363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E:\XX素材XX\Dortmund-32x32\lightbulb.png"/>
          <p:cNvPicPr/>
          <p:nvPr/>
        </p:nvPicPr>
        <p:blipFill>
          <a:blip r:embed="rId3"/>
          <a:stretch/>
        </p:blipFill>
        <p:spPr>
          <a:xfrm>
            <a:off x="2597040" y="3838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E:\XX素材XX\Dortmund-32x32\bestseller.png"/>
          <p:cNvPicPr/>
          <p:nvPr/>
        </p:nvPicPr>
        <p:blipFill>
          <a:blip r:embed="rId4"/>
          <a:stretch/>
        </p:blipFill>
        <p:spPr>
          <a:xfrm>
            <a:off x="2597040" y="43275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E:\XX素材XX\Dortmund-32x32\milestone.png"/>
          <p:cNvPicPr/>
          <p:nvPr/>
        </p:nvPicPr>
        <p:blipFill>
          <a:blip r:embed="rId5"/>
          <a:stretch/>
        </p:blipFill>
        <p:spPr>
          <a:xfrm>
            <a:off x="2597040" y="47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E:\XX素材XX\Dortmund-32x32\paypal.png"/>
          <p:cNvPicPr/>
          <p:nvPr/>
        </p:nvPicPr>
        <p:blipFill>
          <a:blip r:embed="rId6"/>
          <a:stretch/>
        </p:blipFill>
        <p:spPr>
          <a:xfrm>
            <a:off x="5251320" y="33685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E:\XX素材XX\Dortmund-32x32\process.png"/>
          <p:cNvPicPr/>
          <p:nvPr/>
        </p:nvPicPr>
        <p:blipFill>
          <a:blip r:embed="rId7"/>
          <a:stretch/>
        </p:blipFill>
        <p:spPr>
          <a:xfrm>
            <a:off x="5251320" y="4324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E:\XX素材XX\Dortmund-32x32\pen.png"/>
          <p:cNvPicPr/>
          <p:nvPr/>
        </p:nvPicPr>
        <p:blipFill>
          <a:blip r:embed="rId8"/>
          <a:stretch/>
        </p:blipFill>
        <p:spPr>
          <a:xfrm>
            <a:off x="5251320" y="384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E:\XX素材XX\Dortmund-32x32\heart.png"/>
          <p:cNvPicPr/>
          <p:nvPr/>
        </p:nvPicPr>
        <p:blipFill>
          <a:blip r:embed="rId9"/>
          <a:stretch/>
        </p:blipFill>
        <p:spPr>
          <a:xfrm>
            <a:off x="5251320" y="4788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E:\XX素材XX\Dortmund-32x32\communication.png"/>
          <p:cNvPicPr/>
          <p:nvPr/>
        </p:nvPicPr>
        <p:blipFill>
          <a:blip r:embed="rId10"/>
          <a:stretch/>
        </p:blipFill>
        <p:spPr>
          <a:xfrm>
            <a:off x="7880400" y="4325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E:\XX素材XX\Dortmund-32x32\cost.png"/>
          <p:cNvPicPr/>
          <p:nvPr/>
        </p:nvPicPr>
        <p:blipFill>
          <a:blip r:embed="rId11"/>
          <a:stretch/>
        </p:blipFill>
        <p:spPr>
          <a:xfrm>
            <a:off x="7880400" y="48038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E:\XX素材XX\Dortmund-32x32\bookmark.png"/>
          <p:cNvPicPr/>
          <p:nvPr/>
        </p:nvPicPr>
        <p:blipFill>
          <a:blip r:embed="rId12"/>
          <a:stretch/>
        </p:blipFill>
        <p:spPr>
          <a:xfrm>
            <a:off x="7880400" y="385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E:\XX素材XX\Dortmund-32x32\check.png"/>
          <p:cNvPicPr/>
          <p:nvPr/>
        </p:nvPicPr>
        <p:blipFill>
          <a:blip r:embed="rId13"/>
          <a:stretch/>
        </p:blipFill>
        <p:spPr>
          <a:xfrm>
            <a:off x="7880400" y="33638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2E9-52E3-4221-835B-85EF0C905A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446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2"/>
          <p:cNvSpPr/>
          <p:nvPr/>
        </p:nvSpPr>
        <p:spPr>
          <a:xfrm>
            <a:off x="961200" y="2295360"/>
            <a:ext cx="1026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HelveticaNeue LT 97 BlackCn"/>
              </a:rPr>
              <a:t>HOPE YOU WILL MAKE PERFECT RESUME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5224320" y="5522760"/>
            <a:ext cx="173700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06:15:00Z</dcterms:created>
  <dc:creator>www.pptbz.com</dc:creator>
  <dc:description/>
  <dc:language>en-US</dc:language>
  <cp:lastModifiedBy>a</cp:lastModifiedBy>
  <dcterms:modified xsi:type="dcterms:W3CDTF">2015-08-03T12:31:14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