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FCB-CF5C-482C-92E7-FE6513F9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75E-0737-4663-BBA9-6B55DF2B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C65-C461-44E2-9163-2ED1AFC4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4BA-D6A3-49F6-84D5-B8CEA765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106-A3D9-4D7A-893C-D3EE8CBB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E04-122F-48D7-8D49-E054E286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A6A-7EF5-43A9-8184-B808C15F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BF6-F67D-4323-8BD4-97CFA6F3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F0F-5C78-45E5-8F9D-87329E3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739-CD94-4463-9435-7C50A09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B10-9860-4215-A532-6FAB132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6E3-1751-47CC-80A3-B255D0E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655A-1189-4961-A8A7-B82440BCEF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91DE-2AB2-473B-8DDA-764F32915D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 rot="21420000">
            <a:off x="272880" y="1674720"/>
            <a:ext cx="8739360" cy="390384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7221600" y="2355840"/>
            <a:ext cx="1871640" cy="2325600"/>
          </a:xfrm>
          <a:prstGeom prst="rect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354440" y="3935520"/>
            <a:ext cx="17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7</a:t>
            </a:r>
            <a:r>
              <a:rPr b="1" lang="zh-CN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月</a:t>
            </a:r>
            <a:r>
              <a:rPr b="1" lang="en-US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22</a:t>
            </a:r>
            <a:r>
              <a:rPr b="1" lang="zh-CN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 rot="236400">
            <a:off x="1044360" y="2421000"/>
            <a:ext cx="767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大学支队工作总结——立体动态</a:t>
            </a: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会、学生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 rot="21002400">
            <a:off x="3373200" y="1816200"/>
            <a:ext cx="4023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迎新联欢晚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主题演讲比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锅庄晚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英语角”学习兴趣小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水利电力学院学生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4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安利“彩虹计划”活动资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 rot="20849400">
            <a:off x="3371400" y="2273400"/>
            <a:ext cx="4291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校友会网站建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《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昆仑情</a:t>
            </a: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》——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校友访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百年校庆主题论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百年校庆主题晚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7"/>
          <p:cNvGrpSpPr/>
          <p:nvPr/>
        </p:nvGrpSpPr>
        <p:grpSpPr>
          <a:xfrm>
            <a:off x="-1706400" y="7750080"/>
            <a:ext cx="2374560" cy="2752920"/>
            <a:chOff x="-1706400" y="7750080"/>
            <a:chExt cx="2374560" cy="2752920"/>
          </a:xfrm>
        </p:grpSpPr>
        <p:pic>
          <p:nvPicPr>
            <p:cNvPr id="129" name="Picture 5" descr=""/>
            <p:cNvPicPr/>
            <p:nvPr/>
          </p:nvPicPr>
          <p:blipFill>
            <a:blip r:embed="rId1"/>
            <a:srcRect l="27074" t="6614" r="27714" b="9071"/>
            <a:stretch/>
          </p:blipFill>
          <p:spPr>
            <a:xfrm>
              <a:off x="-1657080" y="7788600"/>
              <a:ext cx="2283840" cy="2667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0" name="矩形 9"/>
            <p:cNvSpPr/>
            <p:nvPr/>
          </p:nvSpPr>
          <p:spPr>
            <a:xfrm>
              <a:off x="-1706400" y="7750080"/>
              <a:ext cx="2374560" cy="2752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0"/>
          <p:cNvGrpSpPr/>
          <p:nvPr/>
        </p:nvGrpSpPr>
        <p:grpSpPr>
          <a:xfrm>
            <a:off x="1616040" y="8217000"/>
            <a:ext cx="2374920" cy="2754360"/>
            <a:chOff x="1616040" y="8217000"/>
            <a:chExt cx="2374920" cy="2754360"/>
          </a:xfrm>
        </p:grpSpPr>
        <p:pic>
          <p:nvPicPr>
            <p:cNvPr id="132" name="Picture 4" descr=""/>
            <p:cNvPicPr/>
            <p:nvPr/>
          </p:nvPicPr>
          <p:blipFill>
            <a:blip r:embed="rId2"/>
            <a:srcRect l="26831" t="6943" r="28160" b="7574"/>
            <a:stretch/>
          </p:blipFill>
          <p:spPr>
            <a:xfrm>
              <a:off x="1673640" y="8246520"/>
              <a:ext cx="2260440" cy="2689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3" name="矩形 12"/>
            <p:cNvSpPr/>
            <p:nvPr/>
          </p:nvSpPr>
          <p:spPr>
            <a:xfrm>
              <a:off x="1616040" y="8217000"/>
              <a:ext cx="2374920" cy="2754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13"/>
          <p:cNvGrpSpPr/>
          <p:nvPr/>
        </p:nvGrpSpPr>
        <p:grpSpPr>
          <a:xfrm>
            <a:off x="4794120" y="8182080"/>
            <a:ext cx="2374920" cy="2752560"/>
            <a:chOff x="4794120" y="8182080"/>
            <a:chExt cx="2374920" cy="2752560"/>
          </a:xfrm>
        </p:grpSpPr>
        <p:pic>
          <p:nvPicPr>
            <p:cNvPr id="135" name="Picture 3" descr=""/>
            <p:cNvPicPr/>
            <p:nvPr/>
          </p:nvPicPr>
          <p:blipFill>
            <a:blip r:embed="rId3"/>
            <a:srcRect l="26604" t="7654" r="26852" b="4879"/>
            <a:stretch/>
          </p:blipFill>
          <p:spPr>
            <a:xfrm>
              <a:off x="4842720" y="8218080"/>
              <a:ext cx="2284560" cy="2688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6" name="矩形 15"/>
            <p:cNvSpPr/>
            <p:nvPr/>
          </p:nvSpPr>
          <p:spPr>
            <a:xfrm>
              <a:off x="4794120" y="8182080"/>
              <a:ext cx="2374920" cy="2752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2" descr=""/>
          <p:cNvPicPr/>
          <p:nvPr/>
        </p:nvPicPr>
        <p:blipFill>
          <a:blip r:embed="rId4"/>
          <a:srcRect l="36327" t="21929" r="35078" b="11329"/>
          <a:stretch/>
        </p:blipFill>
        <p:spPr>
          <a:xfrm>
            <a:off x="1568520" y="9118440"/>
            <a:ext cx="2365200" cy="331344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友会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104 -0.19028 L -0.43802 -0.79977 E">
                                      <p:cBhvr>
                                        <p:cTn id="40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802 -0.79977 L -0.47709 -1.08264 E">
                                      <p:cBhvr>
                                        <p:cTn id="413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9 -0.12732 L 0.27292 -0.73681 E">
                                      <p:cBhvr>
                                        <p:cTn id="418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92 -0.7368 L 0.23385 -1.01967 E">
                                      <p:cBhvr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19561 L -0.09045 -0.8051 E">
                                      <p:cBhvr>
                                        <p:cTn id="42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36759 L -0.0849 -0.97708 E">
                                      <p:cBhvr>
                                        <p:cTn id="43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8051 L -0.12951 -1.08797 E">
                                      <p:cBhvr>
                                        <p:cTn id="43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89 -0.97708 L -0.12396 -1.25995 E">
                                      <p:cBhvr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省委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 rot="20849400">
            <a:off x="3940560" y="2889000"/>
            <a:ext cx="315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日常工作汇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安利彩虹”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4720" y="260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546-C5B3-4BC1-9936-30FE06DBA2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原底板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数字板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感谢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右侧底板"/>
          <p:cNvSpPr/>
          <p:nvPr/>
        </p:nvSpPr>
        <p:spPr>
          <a:xfrm>
            <a:off x="3276720" y="2219400"/>
            <a:ext cx="6048360" cy="4005360"/>
          </a:xfrm>
          <a:prstGeom prst="rect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板遮板"/>
          <p:cNvSpPr/>
          <p:nvPr/>
        </p:nvSpPr>
        <p:spPr>
          <a:xfrm>
            <a:off x="514440" y="2205000"/>
            <a:ext cx="2587680" cy="400356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左板"/>
          <p:cNvSpPr/>
          <p:nvPr/>
        </p:nvSpPr>
        <p:spPr>
          <a:xfrm>
            <a:off x="514440" y="2205000"/>
            <a:ext cx="1131840" cy="400356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"/>
          <p:cNvPicPr/>
          <p:nvPr/>
        </p:nvPicPr>
        <p:blipFill>
          <a:blip r:embed="rId1"/>
          <a:stretch/>
        </p:blipFill>
        <p:spPr>
          <a:xfrm>
            <a:off x="2593800" y="2749680"/>
            <a:ext cx="4604040" cy="3103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22" presetSubtype="1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600000">
                                      <p:cBhvr>
                                        <p:cTn id="4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5E-006 7.40741E-007 L -0.15712 -0.0044 E">
                                      <p:cBhvr>
                                        <p:cTn id="495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xit" presetID="22" presetSubtype="2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50"/>
                            </p:stCondLst>
                            <p:childTnLst>
                              <p:par>
                                <p:cTn id="5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 rot="20949000">
            <a:off x="2077920" y="1260360"/>
            <a:ext cx="4567320" cy="7207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 rot="20949000">
            <a:off x="2698920" y="1976040"/>
            <a:ext cx="4568760" cy="7225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院系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 rot="20949000">
            <a:off x="3230640" y="2715840"/>
            <a:ext cx="4568760" cy="72216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会、学生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 rot="20949000">
            <a:off x="2670120" y="3663720"/>
            <a:ext cx="4568760" cy="72216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友会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 rot="20949000">
            <a:off x="2133360" y="4701960"/>
            <a:ext cx="4568760" cy="7207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省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1265400" y="1817640"/>
            <a:ext cx="69984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1913040" y="2575080"/>
            <a:ext cx="701640" cy="70164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2470320" y="3282840"/>
            <a:ext cx="70164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5"/>
          <p:cNvSpPr/>
          <p:nvPr/>
        </p:nvSpPr>
        <p:spPr>
          <a:xfrm>
            <a:off x="1893960" y="4203720"/>
            <a:ext cx="70164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1336680" y="5202360"/>
            <a:ext cx="701640" cy="69984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5" descr=""/>
          <p:cNvPicPr/>
          <p:nvPr/>
        </p:nvPicPr>
        <p:blipFill>
          <a:blip r:embed="rId1"/>
          <a:stretch/>
        </p:blipFill>
        <p:spPr>
          <a:xfrm rot="21180000">
            <a:off x="2426760" y="3517560"/>
            <a:ext cx="5780160" cy="1363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7"/>
          <p:cNvSpPr/>
          <p:nvPr/>
        </p:nvSpPr>
        <p:spPr>
          <a:xfrm rot="20719800">
            <a:off x="3783240" y="22464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对口支援图片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7" descr=""/>
          <p:cNvPicPr/>
          <p:nvPr/>
        </p:nvPicPr>
        <p:blipFill>
          <a:blip r:embed="rId2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" descr=""/>
          <p:cNvPicPr/>
          <p:nvPr/>
        </p:nvPicPr>
        <p:blipFill>
          <a:blip r:embed="rId3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4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0" descr=""/>
          <p:cNvPicPr/>
          <p:nvPr/>
        </p:nvPicPr>
        <p:blipFill>
          <a:blip r:embed="rId5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" descr=""/>
          <p:cNvPicPr/>
          <p:nvPr/>
        </p:nvPicPr>
        <p:blipFill>
          <a:blip r:embed="rId6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" descr=""/>
          <p:cNvPicPr/>
          <p:nvPr/>
        </p:nvPicPr>
        <p:blipFill>
          <a:blip r:embed="rId7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 rot="20719800">
            <a:off x="3589920" y="2310120"/>
            <a:ext cx="342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工作规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办公自动化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年鉴修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6"/>
          <p:cNvGrpSpPr/>
          <p:nvPr/>
        </p:nvGrpSpPr>
        <p:grpSpPr>
          <a:xfrm>
            <a:off x="3275640" y="2883960"/>
            <a:ext cx="1760760" cy="1506600"/>
            <a:chOff x="3275640" y="2883960"/>
            <a:chExt cx="1760760" cy="1506600"/>
          </a:xfrm>
        </p:grpSpPr>
        <p:sp>
          <p:nvSpPr>
            <p:cNvPr id="78" name="直接连接符 7"/>
            <p:cNvSpPr/>
            <p:nvPr/>
          </p:nvSpPr>
          <p:spPr>
            <a:xfrm flipH="1" flipV="1">
              <a:off x="3284640" y="3216600"/>
              <a:ext cx="490680" cy="37548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8"/>
            <p:cNvSpPr/>
            <p:nvPr/>
          </p:nvSpPr>
          <p:spPr>
            <a:xfrm flipH="1">
              <a:off x="3275640" y="2883960"/>
              <a:ext cx="1097280" cy="33516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9"/>
            <p:cNvSpPr/>
            <p:nvPr/>
          </p:nvSpPr>
          <p:spPr>
            <a:xfrm flipH="1" flipV="1">
              <a:off x="4365000" y="2886480"/>
              <a:ext cx="491040" cy="37548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10"/>
            <p:cNvSpPr/>
            <p:nvPr/>
          </p:nvSpPr>
          <p:spPr>
            <a:xfrm flipH="1">
              <a:off x="3569040" y="3593520"/>
              <a:ext cx="196920" cy="58572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1"/>
            <p:cNvSpPr/>
            <p:nvPr/>
          </p:nvSpPr>
          <p:spPr>
            <a:xfrm flipH="1">
              <a:off x="3572640" y="3842640"/>
              <a:ext cx="1097280" cy="33552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12"/>
            <p:cNvSpPr/>
            <p:nvPr/>
          </p:nvSpPr>
          <p:spPr>
            <a:xfrm flipH="1">
              <a:off x="4652640" y="3242520"/>
              <a:ext cx="197280" cy="58572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3"/>
            <p:cNvSpPr/>
            <p:nvPr/>
          </p:nvSpPr>
          <p:spPr>
            <a:xfrm rot="20581200">
              <a:off x="3585600" y="4068360"/>
              <a:ext cx="1238040" cy="144000"/>
            </a:xfrm>
            <a:prstGeom prst="rect">
              <a:avLst/>
            </a:prstGeom>
            <a:solidFill>
              <a:srgbClr val="5ca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2"/>
            <p:cNvSpPr/>
            <p:nvPr/>
          </p:nvSpPr>
          <p:spPr>
            <a:xfrm rot="17341200">
              <a:off x="4520160" y="3605040"/>
              <a:ext cx="676440" cy="143640"/>
            </a:xfrm>
            <a:prstGeom prst="pie">
              <a:avLst/>
            </a:prstGeom>
            <a:solidFill>
              <a:srgbClr val="5ca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101760" y="3644640"/>
            <a:ext cx="673200" cy="52200"/>
            <a:chOff x="3101760" y="3644640"/>
            <a:chExt cx="673200" cy="52200"/>
          </a:xfrm>
        </p:grpSpPr>
        <p:sp>
          <p:nvSpPr>
            <p:cNvPr id="87" name="Line 300"/>
            <p:cNvSpPr/>
            <p:nvPr/>
          </p:nvSpPr>
          <p:spPr>
            <a:xfrm flipV="1">
              <a:off x="3102120" y="3644640"/>
              <a:ext cx="672840" cy="52200"/>
            </a:xfrm>
            <a:prstGeom prst="line">
              <a:avLst/>
            </a:prstGeom>
            <a:ln cap="rnd"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10800000">
              <a:off x="3101760" y="3644640"/>
              <a:ext cx="672840" cy="5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6"/>
          <p:cNvSpPr/>
          <p:nvPr/>
        </p:nvSpPr>
        <p:spPr>
          <a:xfrm rot="20719800">
            <a:off x="4671720" y="2314800"/>
            <a:ext cx="3393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排课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1165/12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ff425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9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50"/>
                            </p:stCondLst>
                            <p:childTnLst>
                              <p:par>
                                <p:cTn id="1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50"/>
                            </p:stCondLst>
                            <p:childTnLst>
                              <p:par>
                                <p:cTn id="1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 rot="21187800">
            <a:off x="3704760" y="4914720"/>
            <a:ext cx="2619000" cy="703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教务管理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 rot="20750400">
            <a:off x="3524400" y="2774520"/>
            <a:ext cx="27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批量生成准考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四、六级网上报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 rot="20982600">
            <a:off x="9358200" y="1633320"/>
            <a:ext cx="3246480" cy="3251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 rot="20982600">
            <a:off x="9396000" y="1633320"/>
            <a:ext cx="3170160" cy="325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 rot="20982600">
            <a:off x="9394560" y="1633320"/>
            <a:ext cx="3171600" cy="325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 rot="20982600">
            <a:off x="9321480" y="1928520"/>
            <a:ext cx="31701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-0.60608 0.05486 E">
                                      <p:cBhvr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608 0.05486 L -0.87379 0.08634 E">
                                      <p:cBhvr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-0.60608 0.05486 E">
                                      <p:cBhvr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608 0.05486 L -0.87379 0.08634 E">
                                      <p:cBhvr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-0.60608 0.05486 E">
                                      <p:cBhvr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608 0.05486 L -0.87379 0.08634 E">
                                      <p:cBhvr>
                                        <p:cTn id="246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院系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 rot="20849400">
            <a:off x="3769200" y="2119320"/>
            <a:ext cx="349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综合英语四、六级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计算机程序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数据库及其他课程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前沿讲座及第二课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项目管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英语四级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  <a:ea typeface="Calibri"/>
              </a:rPr>
              <a:t>89.7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前沿讲座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eb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程基础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互联网产品设计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项目管理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网站自助搭建平台系统的研究与实现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FIEA 201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用，被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I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TP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索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辅助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2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院系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 rot="20849400">
            <a:off x="4378680" y="2273400"/>
            <a:ext cx="2276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实验室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班主任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学生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党建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算机系运动会入场式、青海大学迎建党九十周年文艺汇演、合唱比赛彩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辅助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会、学生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会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 rot="20849400">
            <a:off x="3522960" y="1965240"/>
            <a:ext cx="398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同伴教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校内无偿献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专业急救培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“</a:t>
            </a: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12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•</a:t>
            </a: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”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世界艾滋病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4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优秀志愿者团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8:49:00Z</dcterms:created>
  <dc:creator>TITAN</dc:creator>
  <dc:description/>
  <dc:language>en-US</dc:language>
  <cp:lastModifiedBy>SUNNY-PC</cp:lastModifiedBy>
  <dcterms:modified xsi:type="dcterms:W3CDTF">2015-08-03T12:32:0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