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375C-729C-42D4-B504-DBC25554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C1B6-6FCF-43A9-8243-1AAFDED4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1C5B-3B6B-4C35-8BDD-3963DA55F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8239-5B0E-4814-9EAE-B54C8F19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2D47-3989-479D-9A2E-BCFCECDF4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FA97-FE4D-41C7-B73E-39361142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A3FD-EFA6-4496-90E3-CA387D15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9010-C3F9-47CA-8D95-F15E3EF6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BB07-2FD7-4CDB-A3CF-66570605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1256-5943-4124-9C22-AE7DF46C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1436-D14F-4428-8E11-69DAD4EB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1998-B9A5-43C8-B74C-D339B167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E1EA-7138-4593-8ABB-042FDD9F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EF81-3445-44F1-A89E-6B3DE476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89F5-0026-459C-8440-A209489C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7636-4ACE-4BEA-8D80-68D48684A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D706-7FA9-4BDF-A109-2AC854FE3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DA86-64A7-4F9A-B585-6FFC9F2D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72CB-E747-435D-BBB6-C8B9F92C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141B-40AA-4622-AEE6-26AF724D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48E7-2BA9-4CFB-AEF6-682E752C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65F0-E330-4A0C-876D-CD452F78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B53B-5780-43F7-84D0-44932283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B580-E323-4BEB-9E7B-66607EBF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ounded Rectangle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65160" y="1449360"/>
            <a:ext cx="9007560" cy="152712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69840" y="1397160"/>
            <a:ext cx="9004320" cy="120600"/>
          </a:xfrm>
          <a:prstGeom prst="rect">
            <a:avLst/>
          </a:prstGeom>
          <a:solidFill>
            <a:srgbClr val="ae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71280" y="2976480"/>
            <a:ext cx="9010800" cy="111240"/>
          </a:xfrm>
          <a:prstGeom prst="rect">
            <a:avLst/>
          </a:prstGeom>
          <a:solidFill>
            <a:srgbClr val="964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dec9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547560" indent="-228600">
              <a:spcBef>
                <a:spcPts val="575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822240" indent="-228600">
              <a:spcBef>
                <a:spcPts val="575"/>
              </a:spcBef>
              <a:buClr>
                <a:srgbClr val="aec7d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3" marL="1096920" indent="-228600">
              <a:spcBef>
                <a:spcPts val="575"/>
              </a:spcBef>
              <a:buClr>
                <a:srgbClr val="c32d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4" marL="1371600" indent="-228600">
              <a:spcBef>
                <a:spcPts val="575"/>
              </a:spcBef>
              <a:buClr>
                <a:srgbClr val="c32d2e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7dec9"/>
                </a:solidFill>
                <a:latin typeface="Corbel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EBA1-E00E-4E95-A7FD-9DAED5D9E998}" type="datetime">
              <a:rPr b="0" lang="zh-CN" sz="1400" spc="-1" strike="noStrike">
                <a:solidFill>
                  <a:srgbClr val="e7dec9"/>
                </a:solidFill>
                <a:latin typeface="Corbel"/>
                <a:ea typeface="楷体_GB2312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5458-332A-4F80-94A4-1D5F417D53E1}" type="slidenum">
              <a:rPr b="0" lang="en-US" sz="18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dec9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547560" indent="-228600">
              <a:spcBef>
                <a:spcPts val="575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822240" indent="-228600">
              <a:spcBef>
                <a:spcPts val="575"/>
              </a:spcBef>
              <a:buClr>
                <a:srgbClr val="aec7d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3" marL="1096920" indent="-228600">
              <a:spcBef>
                <a:spcPts val="575"/>
              </a:spcBef>
              <a:buClr>
                <a:srgbClr val="c32d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4" marL="1371600" indent="-228600">
              <a:spcBef>
                <a:spcPts val="575"/>
              </a:spcBef>
              <a:buClr>
                <a:srgbClr val="c32d2e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7dec9"/>
                </a:solidFill>
                <a:latin typeface="Corbel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89FE-6BE2-4F2A-A521-7EB617BECEB2}" type="datetime">
              <a:rPr b="0" lang="zh-CN" sz="1400" spc="-1" strike="noStrike">
                <a:solidFill>
                  <a:srgbClr val="e7dec9"/>
                </a:solidFill>
                <a:latin typeface="Corbel"/>
                <a:ea typeface="楷体_GB2312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4206-009D-44DB-B6D5-43848937C42C}" type="slidenum">
              <a:rPr b="0" lang="zh-CN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e7dec9"/>
                </a:solidFill>
                <a:latin typeface="Corbel"/>
                <a:ea typeface="楷体_GB2312"/>
              </a:rPr>
              <a:t>公司名称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63244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67160" y="19051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公司会议幻灯片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7dec9"/>
                </a:solidFill>
                <a:latin typeface="Corbel"/>
                <a:ea typeface="楷体_GB2312"/>
              </a:rPr>
              <a:t>主要支出领域</a:t>
            </a: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pic>
        <p:nvPicPr>
          <p:cNvPr id="110" name="Diagram 3" descr=""/>
          <p:cNvPicPr/>
          <p:nvPr/>
        </p:nvPicPr>
        <p:blipFill>
          <a:blip r:embed="rId1"/>
          <a:stretch/>
        </p:blipFill>
        <p:spPr>
          <a:xfrm>
            <a:off x="895320" y="1444680"/>
            <a:ext cx="78105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7dec9"/>
                </a:solidFill>
                <a:latin typeface="Corbel"/>
                <a:ea typeface="楷体_GB2312"/>
              </a:rPr>
              <a:t>总人数</a:t>
            </a: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目标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结果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3048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dc765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7dec9"/>
                </a:solidFill>
                <a:latin typeface="Corbel"/>
                <a:ea typeface="楷体_GB2312"/>
              </a:rPr>
              <a:t>下一阶段的目标</a:t>
            </a: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pic>
        <p:nvPicPr>
          <p:cNvPr id="115" name="Diagram 3" descr=""/>
          <p:cNvPicPr/>
          <p:nvPr/>
        </p:nvPicPr>
        <p:blipFill>
          <a:blip r:embed="rId1"/>
          <a:stretch/>
        </p:blipFill>
        <p:spPr>
          <a:xfrm>
            <a:off x="835200" y="1444680"/>
            <a:ext cx="78944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7dec9"/>
                </a:solidFill>
                <a:latin typeface="Corbel"/>
              </a:rPr>
              <a:t>使用规范说明</a:t>
            </a: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orbe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Corbe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orbe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orbe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orbe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orbe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orbe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orbe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orbe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orbe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orbe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Corbel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rbe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rbe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orbe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Corbe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33EC-8C6E-4DD1-A3D3-71048A6CEA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7dec9"/>
                </a:solidFill>
                <a:latin typeface="Corbel"/>
                <a:ea typeface="楷体_GB2312"/>
              </a:rPr>
              <a:t>总结</a:t>
            </a: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总结关键成功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/</a:t>
            </a: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挑战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重申关键目标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感谢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7dec9"/>
                </a:solidFill>
                <a:latin typeface="Corbel"/>
                <a:ea typeface="楷体_GB2312"/>
              </a:rPr>
              <a:t>议程</a:t>
            </a: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审查关键目标和关键成功因素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我们如何做？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组织概述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公司面临的最重要问题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对前期目标的审查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目标进度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收入和利润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主要支出领域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总人数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下一阶段的目标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7dec9"/>
                </a:solidFill>
                <a:latin typeface="Corbel"/>
                <a:ea typeface="楷体_GB2312"/>
              </a:rPr>
              <a:t>审查关键目标</a:t>
            </a:r>
            <a:br>
              <a:rPr sz="3600"/>
            </a:br>
            <a:r>
              <a:rPr b="0" lang="zh-CN" sz="3600" spc="-1" strike="noStrike">
                <a:solidFill>
                  <a:srgbClr val="e7dec9"/>
                </a:solidFill>
                <a:latin typeface="Corbel"/>
                <a:ea typeface="楷体_GB2312"/>
              </a:rPr>
              <a:t>和关键成功因素</a:t>
            </a:r>
            <a:endParaRPr b="0" lang="en-US" sz="3600" spc="-1" strike="noStrike">
              <a:solidFill>
                <a:srgbClr val="e7dec9"/>
              </a:solidFill>
              <a:latin typeface="Corbel"/>
            </a:endParaRPr>
          </a:p>
        </p:txBody>
      </p:sp>
      <p:pic>
        <p:nvPicPr>
          <p:cNvPr id="95" name="Diagram 3" descr=""/>
          <p:cNvPicPr/>
          <p:nvPr/>
        </p:nvPicPr>
        <p:blipFill>
          <a:blip r:embed="rId1"/>
          <a:stretch/>
        </p:blipFill>
        <p:spPr>
          <a:xfrm>
            <a:off x="907920" y="1347840"/>
            <a:ext cx="7785360" cy="47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7dec9"/>
                </a:solidFill>
                <a:latin typeface="Corbel"/>
                <a:ea typeface="楷体_GB2312"/>
              </a:rPr>
              <a:t>我们做得如何？</a:t>
            </a: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针对每个目标简要概述工作成果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7dec9"/>
                </a:solidFill>
                <a:latin typeface="Corbel"/>
                <a:ea typeface="楷体_GB2312"/>
              </a:rPr>
              <a:t>组织概述</a:t>
            </a: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pic>
        <p:nvPicPr>
          <p:cNvPr id="99" name="Diagram 3" descr=""/>
          <p:cNvPicPr/>
          <p:nvPr/>
        </p:nvPicPr>
        <p:blipFill>
          <a:blip r:embed="rId1"/>
          <a:stretch/>
        </p:blipFill>
        <p:spPr>
          <a:xfrm>
            <a:off x="817560" y="1444680"/>
            <a:ext cx="792468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7dec9"/>
                </a:solidFill>
                <a:latin typeface="Corbel"/>
                <a:ea typeface="楷体_GB2312"/>
              </a:rPr>
              <a:t>公司面临的最重要问题</a:t>
            </a: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解决任何突出问题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7dec9"/>
                </a:solidFill>
                <a:latin typeface="Corbel"/>
                <a:ea typeface="楷体_GB2312"/>
              </a:rPr>
              <a:t>对前几个目标的审查</a:t>
            </a: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pic>
        <p:nvPicPr>
          <p:cNvPr id="103" name="Diagram 3" descr=""/>
          <p:cNvPicPr/>
          <p:nvPr/>
        </p:nvPicPr>
        <p:blipFill>
          <a:blip r:embed="rId1"/>
          <a:stretch/>
        </p:blipFill>
        <p:spPr>
          <a:xfrm>
            <a:off x="907920" y="1352520"/>
            <a:ext cx="778536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7dec9"/>
                </a:solidFill>
                <a:latin typeface="Corbel"/>
                <a:ea typeface="楷体_GB2312"/>
              </a:rPr>
              <a:t>目标进度</a:t>
            </a: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关键财务结果概述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547560" indent="-22860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orbel"/>
                <a:ea typeface="楷体_GB2312"/>
              </a:rPr>
              <a:t>收入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547560" indent="-22860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orbel"/>
                <a:ea typeface="楷体_GB2312"/>
              </a:rPr>
              <a:t>利润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547560" indent="-22860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orbel"/>
                <a:ea typeface="楷体_GB2312"/>
              </a:rPr>
              <a:t>主要支出领域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547560" indent="-22860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orbel"/>
                <a:ea typeface="楷体_GB2312"/>
              </a:rPr>
              <a:t>总人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7dec9"/>
                </a:solidFill>
                <a:latin typeface="Corbel"/>
                <a:ea typeface="楷体_GB2312"/>
              </a:rPr>
              <a:t>收入和利润</a:t>
            </a: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pic>
        <p:nvPicPr>
          <p:cNvPr id="107" name="Diagram 3" descr=""/>
          <p:cNvPicPr/>
          <p:nvPr/>
        </p:nvPicPr>
        <p:blipFill>
          <a:blip r:embed="rId1"/>
          <a:stretch/>
        </p:blipFill>
        <p:spPr>
          <a:xfrm>
            <a:off x="907920" y="1352520"/>
            <a:ext cx="7785360" cy="4687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dc765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21:43:15Z</dcterms:created>
  <dc:creator>ppt宝藏</dc:creator>
  <dc:description/>
  <dc:language>en-US</dc:language>
  <cp:lastModifiedBy/>
  <dcterms:modified xsi:type="dcterms:W3CDTF">2015-08-03T12:30:56Z</dcterms:modified>
  <cp:revision>1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_TemplateID">
    <vt:lpwstr>TC101671212052</vt:lpwstr>
  </property>
</Properties>
</file>