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F2A-4112-47EB-970F-DED82DE5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82800" y="37400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759-2FD5-4B46-9F3C-1CCDA11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128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AF4-70FF-4086-BDEB-591A5418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816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9388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8280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816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9388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77B-00EE-4275-B47F-FFF2F277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1AC-A76C-4928-9BEC-9C8EC1E2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F3D-A3AC-44F6-B216-6C35657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D5E-1930-418F-8FE4-DDA68F74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ED8-8979-42C2-A61D-5AC1890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2800" y="-360"/>
            <a:ext cx="105156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6BC-1EAE-44A6-BADB-AC0D324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A25-C9CC-4258-A1F7-C66C1CE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128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851-4868-4222-A97B-F0CB13F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EA6-7F4D-4E5A-BC57-8994A23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4976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0A40-3555-4BFD-A70C-F9DE11E736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EB8-5D64-42EC-8557-D1E27538C3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任意多边形 7"/>
          <p:cNvSpPr/>
          <p:nvPr/>
        </p:nvSpPr>
        <p:spPr>
          <a:xfrm rot="5400000">
            <a:off x="276480" y="194400"/>
            <a:ext cx="612720" cy="610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8"/>
          <p:cNvSpPr/>
          <p:nvPr/>
        </p:nvSpPr>
        <p:spPr>
          <a:xfrm flipH="1">
            <a:off x="982800" y="770040"/>
            <a:ext cx="937872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1"/>
          <a:srcRect l="0" t="24976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任意多边形 6"/>
          <p:cNvSpPr/>
          <p:nvPr/>
        </p:nvSpPr>
        <p:spPr>
          <a:xfrm>
            <a:off x="10274400" y="2674800"/>
            <a:ext cx="1079280" cy="10810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38080" y="2552760"/>
            <a:ext cx="1051560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38080" y="3692520"/>
            <a:ext cx="9379080" cy="5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1600" y="244908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工作总结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模板打包下载</a:t>
            </a:r>
            <a:endParaRPr b="0" lang="en-US" sz="40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B85-0A48-4C74-A225-053DF4D43E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9360"/>
            <a:ext cx="10515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393920" y="24541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4:58:00Z</dcterms:created>
  <dc:creator>邹恩栋</dc:creator>
  <dc:description/>
  <cp:keywords>XS-宽屏 16：9;SC-淡红色;BG-浅色;DH-静态</cp:keywords>
  <dc:language>en-US</dc:language>
  <cp:lastModifiedBy>YANGS</cp:lastModifiedBy>
  <dcterms:modified xsi:type="dcterms:W3CDTF">2015-08-03T12:32:14Z</dcterms:modified>
  <cp:revision>10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