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2A0F-8CE1-41D3-90B5-9C4A4C18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3E36-A18B-4935-AF3E-A272F1FF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5991-3253-486E-86BB-896B98BB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222-DECC-4043-80F9-9CF49779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31F-9E43-400E-B616-2FA72440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C01-D50E-4356-BF66-EE6A295F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EB4A-A131-4CE8-8488-66F5C13F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58EE-5489-402E-BE39-AE2F309F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E84-D394-4361-9DAB-30C61549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984-621A-45DF-948B-DED07318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CF3C-BDC5-43AC-AA34-781C2759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910-BE4D-4608-AA9B-6AC43F16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C1B9-D54A-46D2-A9D1-9B3FE2445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941720"/>
            <a:ext cx="52545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Presentation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445000"/>
            <a:ext cx="52545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Your company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165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28520" y="620640"/>
            <a:ext cx="636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会议室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BF2D-EF9A-4326-9EB0-FC2B462E52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13431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dmin</cp:lastModifiedBy>
  <dcterms:modified xsi:type="dcterms:W3CDTF">2015-08-03T12:30:51Z</dcterms:modified>
  <cp:revision>739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