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84D78-8736-4EDC-A0E9-EC338EC8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9AE80-CD11-40FD-BAEE-115B5163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FE800-DA29-4A0F-B0B0-5C3CA79E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DA790-70EF-4827-9E31-88342A22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55EA2-13DD-40F1-9B1E-1B23B0E2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146A5-C052-4410-8E97-BC8820E3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8B2A6-ECA1-4EDC-BF46-DD0955ED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2A417-4FE2-49E4-962F-DB7F7812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093F8-C92F-47EC-AE24-F156C801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374A4-814E-4EAD-802D-643BF287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7F714-EB9B-40DD-A02D-387EBBB7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C2FEF-8E33-4E4B-9808-2E1E5C3E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A3BBC-7F61-48D4-ADA1-0E0C5452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00D0C-5D15-4B3C-B620-4D3E2843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A129C-DB31-4287-8B5B-9D4FF675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6D07A-368B-433C-B91A-64ECFA2E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0093B-6F2E-4827-AD4C-E8322B68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AADA8-3CEE-4FD8-8D85-640759E2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400D7-924C-469F-B8E8-AA7DCF32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79508-6259-44BD-8D1D-D01745B7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46C79-DB31-42D5-BC2B-C08D94EE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1A60B-EB7A-4858-9950-8BF9BE8D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8CC8C-8B3B-418A-860D-676348FA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C41A2-2749-4D93-B183-2409E2ED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13C1E-E486-442E-9799-2C03E17F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28052-0EF2-4BB1-9FA0-2DB55763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58B40-89CD-4DCD-8638-2D5844FD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7B9F7-81BA-40B4-8279-4DC461F7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2F595-3285-48F5-98C6-EF0099FD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02BDE-4553-434B-9926-3CF6F504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256-6034-4772-AEC1-D656E94B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117BB-2BD8-41EC-942C-BC4A4F30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D38C4-1D21-4DEB-B502-3635C60C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EE5D0-5CEE-4FDD-B3F6-EF9208A5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17B0E-1343-49A2-BA5D-87D49A93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6C2CD-1098-4E8B-900D-AA00E47E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57BAB-20E9-47AD-B592-446920C4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91913-ACF4-4B47-A895-F344131F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6BAE4-1C98-473F-A542-76CC7EA1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191DA-1FFD-4B59-BF95-7E3BAB0C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1273D-FFD9-4E2B-BD4E-0570AA39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F9D0-B817-46CF-B1CF-CE780DF1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5BF43-87D0-41CD-BF79-6480BC65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0D3FB-4F7E-40C0-99CD-7B245A2C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4B8B8-958C-4631-916C-13E924B7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B9D22-1AE6-42A5-B001-5345FB9C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185BD-7BF7-45E1-8A73-D2C4E6AD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D7DF-15F0-444E-89BC-81D346EE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7D2-85D1-4302-BB61-7193437D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DBB6-3239-45E1-8515-38A9C226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4817-655D-4177-AA7C-16E66656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724-ED4B-4237-8EF7-BB71B980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AF1A-76B9-426B-99BF-DB19A388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B099-3C4B-43C0-BB53-5904CA2E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333F-E81B-4EA3-A755-D48AB8C7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9DB3-50C2-4EC9-B5C9-9105FC8D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4C6-62DF-459A-9626-E208BA4F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1423-B6E2-45E6-8334-A5627574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CBCA-AC76-41C0-AC51-74417D1C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A2A8-6BCE-4E2C-B84F-C732CFAF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659E-2F21-45CF-A195-4D5DCB6E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4261-2862-4D7C-A2CC-C0DF805E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D8C5-54BE-48EB-B3B4-73693FDE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F859-CC85-4C1F-8A85-4E973C10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EEF3-2231-4761-BBA4-F4CCC222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706C-F32F-433D-A98B-0261D2D7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0367-D6C5-4BFF-9C97-17FA8BDE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75D9-318D-493B-B9AC-7B2E6CA5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77A3-36D1-41AD-BBD4-17CEBDEA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0C981-DF90-4C85-9D33-402E83B1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5D594-0A63-4C4C-BB48-1F52C373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144C6-2B6C-492C-AA23-B3CE0647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4E9E9-963E-41A5-9884-E5A435FA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4ED7F-9CC7-48ED-A865-71D77BDD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1087E-3384-4FAC-A7B2-6B9C855F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6CDD1-9801-472E-89B5-A3CEADE8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72CCD-45FA-4981-B1AB-BA1DA23A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10188-C49B-4F55-8146-492D5F41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45AAB-5AC8-4BB0-89AC-9904B343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880FE-F92A-4586-B061-6C0E2902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3D584-00F9-4AE1-9DE9-31367BED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5E046-0F26-49F2-8515-A23562EE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DBC24-8352-4BFB-A666-44635814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46242-9646-45C7-97FB-A3C6EB2D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F8B9A-828E-48AE-A623-1675F868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22062-CA7F-42F2-AB20-75EEA729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AAC7D-4B16-41EF-88FB-4F010166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457C7-6E60-4C1D-A144-DFCCF451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B4C38-10BD-40F2-8EE4-69F9B65B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91FC5-EF6B-4B08-BA21-F9951B40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6729F-C082-44A7-AE19-36A86482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E8FE7-22B2-460B-86CD-C1530289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B57E2-52BD-4D24-A934-7255645B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4E774-A81B-480C-80E7-1944618E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BA7BA-F1CD-4745-B98C-2036A6EB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6C262-E0F0-4972-BD0A-8C0A708E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B1646-0945-4FFB-8C3D-82362F26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68C72-E88F-41F7-90CB-8459FEA0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B538A-F051-4DD3-B1B1-0FAF08F8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97FB5-7A5C-40E0-A145-09CB0934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EF050-D6E3-4E4B-90FF-A6950FD9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E3FE4-96C9-46D0-BFBD-67EC241A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D7F4B-4901-4E99-BF4B-5265C3B6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BA6D8-7436-4856-B57F-90A43F18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B13BC-1EDD-4CE2-BFAF-858167D3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D7EB4-EA8A-4622-8612-2FF0183C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E4E21-CF08-4912-8E61-72F970C5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6E0F4-1805-459B-8813-953649F7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2FB3B-6E42-40E4-9DD9-F553BFE6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F7649-ED6B-4BAD-955C-D3D7E248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2A5B2-1390-42B3-89D3-FD6C357C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C6E43-E6D5-4503-8DF6-8A43FDC7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5D189-357B-4077-850D-95819DD1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8689C-E024-44D3-B09A-922DFF24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9021C-86A0-4D08-AE41-A421470F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A5EF8-6DF6-4423-B5CD-06B49D35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057E6-094F-4231-8975-86B43B5D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7195C-A2CA-4A83-B449-3B5283DC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2064E-5DB4-46A6-BDCF-91F01839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F9F18-D5EB-4C74-BB8A-704B5D5A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85D83-EDCF-4F43-B58A-5A204A80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D6784-04DA-4DDC-A941-8CB32AD1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642C3-8C49-411A-A424-B19CC8B4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5F821-A3DD-42FB-9070-A9F6DDE6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38A91-6956-494D-AC2B-F5D1CA36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28815-5CDB-44F6-A59C-3A885B80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69D19-9D5E-414E-82C0-6B42F203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4B37C-3D28-48FD-B1B9-DBF88C74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D400D-30CE-44C8-A8F7-E656F8C1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87BAD-9DB2-4CE7-BC41-5646D7F7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0DE83-803D-4909-91E5-FE77978F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16E34-6BBC-4E49-BCBC-973E4FDD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C587-D027-4F41-9BCC-6D18EC0F2EED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8517-03B0-446A-B1A7-2A7A21D543D9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762D-73BE-4B8C-B898-06D91885CE2C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BAFE-39C8-416B-81C3-3A9C9646E6D9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3908-6404-4EA5-9E9C-3B00747AAF82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2AB8-C9E0-4C4D-B389-70964DB629C4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F347-AA04-4865-911C-C80250D83C85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E080-1091-4B87-B774-55E3F102D0EE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517D-3AA0-44AE-9E19-F1D04AA2138D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D326-7DF4-42E9-930D-D40BB39786AF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07CE-1A78-4996-9C82-DBD4D69C1AA7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7921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简洁化工专业开题报告</a:t>
            </a:r>
            <a:r>
              <a:rPr b="1" lang="en-US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直接连接符 4"/>
          <p:cNvSpPr/>
          <p:nvPr/>
        </p:nvSpPr>
        <p:spPr>
          <a:xfrm>
            <a:off x="0" y="1919160"/>
            <a:ext cx="457200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直接连接符 5"/>
          <p:cNvSpPr/>
          <p:nvPr/>
        </p:nvSpPr>
        <p:spPr>
          <a:xfrm flipV="1">
            <a:off x="4572000" y="148428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直接连接符 7"/>
          <p:cNvSpPr/>
          <p:nvPr/>
        </p:nvSpPr>
        <p:spPr>
          <a:xfrm flipV="1">
            <a:off x="4656240" y="1628280"/>
            <a:ext cx="0" cy="2876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2124000" y="3933720"/>
            <a:ext cx="489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告人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-11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http://photocdn.sohu.com/20070613/Img250544030.jpg"/>
          <p:cNvPicPr/>
          <p:nvPr/>
        </p:nvPicPr>
        <p:blipFill>
          <a:blip r:embed="rId1"/>
          <a:stretch/>
        </p:blipFill>
        <p:spPr>
          <a:xfrm>
            <a:off x="324000" y="-744480"/>
            <a:ext cx="3028680" cy="38844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FA32-B0DA-4514-A2D1-D81C2913DF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直接连接符 3"/>
          <p:cNvSpPr/>
          <p:nvPr/>
        </p:nvSpPr>
        <p:spPr>
          <a:xfrm>
            <a:off x="0" y="3460680"/>
            <a:ext cx="457200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"/>
          <p:cNvSpPr/>
          <p:nvPr/>
        </p:nvSpPr>
        <p:spPr>
          <a:xfrm flipV="1">
            <a:off x="4572000" y="3039840"/>
            <a:ext cx="0" cy="43164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直接连接符 6"/>
          <p:cNvSpPr/>
          <p:nvPr/>
        </p:nvSpPr>
        <p:spPr>
          <a:xfrm flipV="1">
            <a:off x="4656240" y="3184560"/>
            <a:ext cx="0" cy="2872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8"/>
          <p:cNvSpPr/>
          <p:nvPr/>
        </p:nvSpPr>
        <p:spPr>
          <a:xfrm>
            <a:off x="4859280" y="3203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zhou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9"/>
          <p:cNvSpPr/>
          <p:nvPr/>
        </p:nvSpPr>
        <p:spPr>
          <a:xfrm>
            <a:off x="250920" y="2421000"/>
            <a:ext cx="43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ank you</a:t>
            </a: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780000" y="1571400"/>
            <a:ext cx="273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自我介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矩形 4"/>
          <p:cNvSpPr/>
          <p:nvPr/>
        </p:nvSpPr>
        <p:spPr>
          <a:xfrm>
            <a:off x="3851280" y="2692440"/>
            <a:ext cx="511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姓       名：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本科院校：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就职单位：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4" descr="http://photocdn.sohu.com/20070613/Img250544030.jpg"/>
          <p:cNvPicPr/>
          <p:nvPr/>
        </p:nvPicPr>
        <p:blipFill>
          <a:blip r:embed="rId1"/>
          <a:stretch/>
        </p:blipFill>
        <p:spPr>
          <a:xfrm>
            <a:off x="431640" y="1558800"/>
            <a:ext cx="3029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直接连接符 3"/>
          <p:cNvSpPr/>
          <p:nvPr/>
        </p:nvSpPr>
        <p:spPr>
          <a:xfrm>
            <a:off x="0" y="1919160"/>
            <a:ext cx="457200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直接连接符 4"/>
          <p:cNvSpPr/>
          <p:nvPr/>
        </p:nvSpPr>
        <p:spPr>
          <a:xfrm flipV="1">
            <a:off x="4572000" y="148428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直接连接符 5"/>
          <p:cNvSpPr/>
          <p:nvPr/>
        </p:nvSpPr>
        <p:spPr>
          <a:xfrm flipV="1">
            <a:off x="4656240" y="1628280"/>
            <a:ext cx="0" cy="2876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6"/>
          <p:cNvSpPr/>
          <p:nvPr/>
        </p:nvSpPr>
        <p:spPr>
          <a:xfrm>
            <a:off x="4716360" y="161928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zhou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7"/>
          <p:cNvSpPr/>
          <p:nvPr/>
        </p:nvSpPr>
        <p:spPr>
          <a:xfrm>
            <a:off x="3506040" y="32446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此处键入论文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040" y="2808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16"/>
          <p:cNvSpPr/>
          <p:nvPr/>
        </p:nvSpPr>
        <p:spPr>
          <a:xfrm>
            <a:off x="3524400" y="1482840"/>
            <a:ext cx="349236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选题的意义及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椭圆 17"/>
          <p:cNvSpPr/>
          <p:nvPr/>
        </p:nvSpPr>
        <p:spPr>
          <a:xfrm>
            <a:off x="3211560" y="1590840"/>
            <a:ext cx="62532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8"/>
          <p:cNvSpPr/>
          <p:nvPr/>
        </p:nvSpPr>
        <p:spPr>
          <a:xfrm>
            <a:off x="3524400" y="2635200"/>
            <a:ext cx="349236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研究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椭圆 19"/>
          <p:cNvSpPr/>
          <p:nvPr/>
        </p:nvSpPr>
        <p:spPr>
          <a:xfrm>
            <a:off x="3211560" y="2743200"/>
            <a:ext cx="62532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20"/>
          <p:cNvSpPr/>
          <p:nvPr/>
        </p:nvSpPr>
        <p:spPr>
          <a:xfrm>
            <a:off x="3516480" y="3714840"/>
            <a:ext cx="349236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论文进度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椭圆 21"/>
          <p:cNvSpPr/>
          <p:nvPr/>
        </p:nvSpPr>
        <p:spPr>
          <a:xfrm>
            <a:off x="3203640" y="3822840"/>
            <a:ext cx="62532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2"/>
          <p:cNvSpPr/>
          <p:nvPr/>
        </p:nvSpPr>
        <p:spPr>
          <a:xfrm>
            <a:off x="3516480" y="4795920"/>
            <a:ext cx="349236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参考文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椭圆 23"/>
          <p:cNvSpPr/>
          <p:nvPr/>
        </p:nvSpPr>
        <p:spPr>
          <a:xfrm>
            <a:off x="3203640" y="4903920"/>
            <a:ext cx="62532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24"/>
          <p:cNvSpPr/>
          <p:nvPr/>
        </p:nvSpPr>
        <p:spPr>
          <a:xfrm>
            <a:off x="1842120" y="4777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3" descr="C:\Users\hanwei\Downloads\chemistry.png"/>
          <p:cNvPicPr/>
          <p:nvPr/>
        </p:nvPicPr>
        <p:blipFill>
          <a:blip r:embed="rId1"/>
          <a:stretch/>
        </p:blipFill>
        <p:spPr>
          <a:xfrm>
            <a:off x="142920" y="2000160"/>
            <a:ext cx="30099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选题的意义及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圆角矩形 13"/>
          <p:cNvSpPr/>
          <p:nvPr/>
        </p:nvSpPr>
        <p:spPr>
          <a:xfrm>
            <a:off x="826920" y="1413000"/>
            <a:ext cx="7561440" cy="3960720"/>
          </a:xfrm>
          <a:prstGeom prst="roundRect">
            <a:avLst>
              <a:gd name="adj" fmla="val 1273"/>
            </a:avLst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此处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4"/>
          <p:cNvSpPr/>
          <p:nvPr/>
        </p:nvSpPr>
        <p:spPr>
          <a:xfrm>
            <a:off x="1258920" y="1154160"/>
            <a:ext cx="2241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1.1</a:t>
            </a: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课题来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选题的意义及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研究方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论文工作进度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684360" y="2060640"/>
          <a:ext cx="7848360" cy="2663640"/>
        </p:xfrm>
        <a:graphic>
          <a:graphicData uri="http://schemas.openxmlformats.org/drawingml/2006/table">
            <a:tbl>
              <a:tblPr/>
              <a:tblGrid>
                <a:gridCol w="2206440"/>
                <a:gridCol w="1774800"/>
                <a:gridCol w="1869840"/>
                <a:gridCol w="1997280"/>
              </a:tblGrid>
              <a:tr h="66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起止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阶段目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起止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阶段目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665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11.10~20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完成开题报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12.2~20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室研究与评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66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11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文献调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1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完成研究报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65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1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理论研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12.6~201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论文答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4.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主要参考文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"/>
          <p:cNvSpPr/>
          <p:nvPr/>
        </p:nvSpPr>
        <p:spPr>
          <a:xfrm>
            <a:off x="500040" y="3317760"/>
            <a:ext cx="8464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4:55:45Z</dcterms:created>
  <dc:creator>www.pptbz.com</dc:creator>
  <dc:description/>
  <dc:language>en-US</dc:language>
  <cp:lastModifiedBy>微软用户</cp:lastModifiedBy>
  <dcterms:modified xsi:type="dcterms:W3CDTF">2015-08-03T12:33:54Z</dcterms:modified>
  <cp:revision>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