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067-085F-437B-A74D-8BD3AD80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C7F-32A4-44DB-A817-9E60DF1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08F-D8F4-47E4-A433-605638EB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75F-0EE1-48B6-89A4-108139D7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4CC-80B5-4B1D-93C0-A5F85799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DD3-22D4-495F-9B39-068367C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6FB-94BE-48C9-A91B-FB9833A1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07E-3C61-45C7-99AD-8A65DFC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145-9F0A-400E-B1AF-B3AA630A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2E1-B57D-4E96-B312-CD37BBCD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2EC-45C1-4688-858B-EFB0818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575-D00F-45A8-A383-94C99F85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wondershar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9042-3155-44B0-8AF2-F8AE0E74F3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Oval 28"/>
          <p:cNvGrpSpPr/>
          <p:nvPr/>
        </p:nvGrpSpPr>
        <p:grpSpPr>
          <a:xfrm>
            <a:off x="365040" y="506520"/>
            <a:ext cx="274680" cy="274680"/>
            <a:chOff x="365040" y="506520"/>
            <a:chExt cx="274680" cy="274680"/>
          </a:xfrm>
        </p:grpSpPr>
        <p:pic>
          <p:nvPicPr>
            <p:cNvPr id="42" name="Oval 28" descr=""/>
            <p:cNvPicPr/>
            <p:nvPr/>
          </p:nvPicPr>
          <p:blipFill>
            <a:blip r:embed="rId3"/>
            <a:stretch/>
          </p:blipFill>
          <p:spPr>
            <a:xfrm>
              <a:off x="365040" y="50652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46040" y="56700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85880" y="5072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精美韩国</a:t>
            </a: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Oval 28"/>
          <p:cNvGrpSpPr/>
          <p:nvPr/>
        </p:nvGrpSpPr>
        <p:grpSpPr>
          <a:xfrm>
            <a:off x="579600" y="5175360"/>
            <a:ext cx="274320" cy="274680"/>
            <a:chOff x="579600" y="5175360"/>
            <a:chExt cx="274320" cy="274680"/>
          </a:xfrm>
        </p:grpSpPr>
        <p:pic>
          <p:nvPicPr>
            <p:cNvPr id="85" name="Oval 28" descr=""/>
            <p:cNvPicPr/>
            <p:nvPr/>
          </p:nvPicPr>
          <p:blipFill>
            <a:blip r:embed="rId2"/>
            <a:stretch/>
          </p:blipFill>
          <p:spPr>
            <a:xfrm>
              <a:off x="579600" y="5175360"/>
              <a:ext cx="2743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4920" y="5237280"/>
              <a:ext cx="107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6360" y="6381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1720" y="13399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美韩国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打包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Gulim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48a5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48a5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7e4e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7cc"/>
              </a:buClr>
              <a:buFont typeface="Calibri"/>
              <a:buChar char="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173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Verdan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14320" y="457200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Oval 28"/>
          <p:cNvGrpSpPr/>
          <p:nvPr/>
        </p:nvGrpSpPr>
        <p:grpSpPr>
          <a:xfrm>
            <a:off x="609480" y="4638600"/>
            <a:ext cx="274680" cy="274680"/>
            <a:chOff x="609480" y="4638600"/>
            <a:chExt cx="274680" cy="274680"/>
          </a:xfrm>
        </p:grpSpPr>
        <p:pic>
          <p:nvPicPr>
            <p:cNvPr id="97" name="Oval 28" descr=""/>
            <p:cNvPicPr/>
            <p:nvPr/>
          </p:nvPicPr>
          <p:blipFill>
            <a:blip r:embed="rId2"/>
            <a:stretch/>
          </p:blipFill>
          <p:spPr>
            <a:xfrm>
              <a:off x="609480" y="4638600"/>
              <a:ext cx="2746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93720" y="469584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3:03Z</dcterms:created>
  <dc:creator>深度完美xp v10</dc:creator>
  <dc:description/>
  <dc:language>en-US</dc:language>
  <cp:lastModifiedBy>jccook</cp:lastModifiedBy>
  <dcterms:modified xsi:type="dcterms:W3CDTF">2015-08-03T12:34:14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