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2098800" y="1123920"/>
            <a:ext cx="488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精美求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3143160" y="2714760"/>
          <a:ext cx="5572080" cy="4151160"/>
        </p:xfrm>
        <a:graphic>
          <a:graphicData uri="http://schemas.openxmlformats.org/drawingml/2006/table">
            <a:tbl>
              <a:tblPr/>
              <a:tblGrid>
                <a:gridCol w="1114560"/>
                <a:gridCol w="1114200"/>
                <a:gridCol w="1114560"/>
                <a:gridCol w="1114560"/>
                <a:gridCol w="1114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" name="图片占位符 8" descr=""/>
          <p:cNvPicPr/>
          <p:nvPr/>
        </p:nvPicPr>
        <p:blipFill>
          <a:blip r:embed="rId2"/>
          <a:srcRect l="12435" t="0" r="12435" b="0"/>
          <a:stretch/>
        </p:blipFill>
        <p:spPr>
          <a:xfrm>
            <a:off x="428760" y="428760"/>
            <a:ext cx="2500200" cy="22143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3143160" y="1428480"/>
            <a:ext cx="557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142800" y="499680"/>
            <a:ext cx="3714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4"/>
                </a:solidFill>
                <a:latin typeface="Calibri"/>
              </a:rPr>
              <a:t>T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3497400" y="1214280"/>
            <a:ext cx="5239080" cy="4071960"/>
            <a:chOff x="3497400" y="1214280"/>
            <a:chExt cx="5239080" cy="4071960"/>
          </a:xfrm>
        </p:grpSpPr>
        <p:sp>
          <p:nvSpPr>
            <p:cNvPr id="45" name="AutoShape 3"/>
            <p:cNvSpPr/>
            <p:nvPr/>
          </p:nvSpPr>
          <p:spPr>
            <a:xfrm>
              <a:off x="3557160" y="1214280"/>
              <a:ext cx="2027880" cy="814320"/>
            </a:xfrm>
            <a:prstGeom prst="roundRect">
              <a:avLst>
                <a:gd name="adj" fmla="val 10000"/>
              </a:avLst>
            </a:prstGeom>
            <a:solidFill>
              <a:srgbClr val="e8cecf">
                <a:alpha val="89000"/>
              </a:srgbClr>
            </a:solidFill>
            <a:ln w="25560">
              <a:solidFill>
                <a:srgbClr val="e8cecf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3557160" y="1214280"/>
              <a:ext cx="2027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5"/>
            <p:cNvSpPr/>
            <p:nvPr/>
          </p:nvSpPr>
          <p:spPr>
            <a:xfrm>
              <a:off x="6486840" y="1214280"/>
              <a:ext cx="2027880" cy="814320"/>
            </a:xfrm>
            <a:prstGeom prst="roundRect">
              <a:avLst>
                <a:gd name="adj" fmla="val 10000"/>
              </a:avLst>
            </a:prstGeom>
            <a:solidFill>
              <a:srgbClr val="e8cecf">
                <a:alpha val="89000"/>
              </a:srgbClr>
            </a:solidFill>
            <a:ln w="25560">
              <a:solidFill>
                <a:srgbClr val="e8cecf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6486840" y="1214280"/>
              <a:ext cx="2027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7"/>
            <p:cNvSpPr/>
            <p:nvPr/>
          </p:nvSpPr>
          <p:spPr>
            <a:xfrm>
              <a:off x="5613480" y="4675680"/>
              <a:ext cx="844920" cy="610560"/>
            </a:xfrm>
            <a:prstGeom prst="triangle">
              <a:avLst>
                <a:gd name="adj" fmla="val 50000"/>
              </a:avLst>
            </a:prstGeom>
            <a:solidFill>
              <a:srgbClr val="e8cecf">
                <a:alpha val="89000"/>
              </a:srgbClr>
            </a:solidFill>
            <a:ln w="25560">
              <a:solidFill>
                <a:srgbClr val="e8cecf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 rot="240000">
              <a:off x="3500280" y="4413960"/>
              <a:ext cx="5071680" cy="256320"/>
            </a:xfrm>
            <a:prstGeom prst="rect">
              <a:avLst/>
            </a:prstGeom>
            <a:solidFill>
              <a:srgbClr val="e8cecf">
                <a:alpha val="89000"/>
              </a:srgbClr>
            </a:solidFill>
            <a:ln w="25560">
              <a:solidFill>
                <a:srgbClr val="e8cecf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9"/>
            <p:cNvSpPr/>
            <p:nvPr/>
          </p:nvSpPr>
          <p:spPr>
            <a:xfrm rot="240000">
              <a:off x="6545160" y="3772440"/>
              <a:ext cx="2023560" cy="68148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 rot="240000">
              <a:off x="6545160" y="3772440"/>
              <a:ext cx="20235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1"/>
            <p:cNvSpPr/>
            <p:nvPr/>
          </p:nvSpPr>
          <p:spPr>
            <a:xfrm rot="240000">
              <a:off x="6618600" y="3039480"/>
              <a:ext cx="2023560" cy="68148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 rot="240000">
              <a:off x="6618600" y="3039480"/>
              <a:ext cx="20235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3"/>
            <p:cNvSpPr/>
            <p:nvPr/>
          </p:nvSpPr>
          <p:spPr>
            <a:xfrm rot="240000">
              <a:off x="6691680" y="2322720"/>
              <a:ext cx="2023560" cy="68148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 rot="240000">
              <a:off x="6691680" y="2322720"/>
              <a:ext cx="20235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5"/>
            <p:cNvSpPr/>
            <p:nvPr/>
          </p:nvSpPr>
          <p:spPr>
            <a:xfrm rot="240000">
              <a:off x="3643920" y="3625920"/>
              <a:ext cx="2023560" cy="68148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 rot="240000">
              <a:off x="3643920" y="3625920"/>
              <a:ext cx="20235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 rot="240000">
              <a:off x="3717360" y="2892960"/>
              <a:ext cx="2023560" cy="68148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 rot="240000">
              <a:off x="3717360" y="2892960"/>
              <a:ext cx="20235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 txBox="1"/>
          <p:nvPr/>
        </p:nvSpPr>
        <p:spPr>
          <a:xfrm>
            <a:off x="857160" y="1428840"/>
            <a:ext cx="250056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0" lang="en-US" sz="1800" spc="-1" strike="noStrike">
                <a:solidFill>
                  <a:srgbClr val="953734"/>
                </a:solidFill>
                <a:latin typeface="Calibri"/>
              </a:rPr>
              <a:t>[View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nu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int to </a:t>
            </a:r>
            <a:r>
              <a:rPr b="0" lang="en-US" sz="1800" spc="-1" strike="noStrike">
                <a:solidFill>
                  <a:srgbClr val="953734"/>
                </a:solidFill>
                <a:latin typeface="Calibri"/>
              </a:rPr>
              <a:t>[Master]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click </a:t>
            </a:r>
            <a:r>
              <a:rPr b="0" lang="en-US" sz="1800" spc="-1" strike="noStrike">
                <a:solidFill>
                  <a:srgbClr val="953734"/>
                </a:solidFill>
                <a:latin typeface="Calibri"/>
              </a:rPr>
              <a:t>[Slide Master]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1800" spc="-1" strike="noStrike">
                <a:solidFill>
                  <a:srgbClr val="953734"/>
                </a:solidFill>
                <a:latin typeface="Calibri"/>
              </a:rPr>
              <a:t>[Notes Master]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 images to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you like, then 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apply to all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 slid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771840" y="714240"/>
            <a:ext cx="13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4"/>
                </a:solidFill>
                <a:latin typeface="Calibri"/>
                <a:ea typeface="Calibri"/>
              </a:rPr>
              <a:t>T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图表占位符 5"/>
          <p:cNvSpPr/>
          <p:nvPr/>
        </p:nvSpPr>
        <p:spPr>
          <a:xfrm>
            <a:off x="1785960" y="714240"/>
            <a:ext cx="5572080" cy="4143600"/>
          </a:xfrm>
          <a:custGeom>
            <a:avLst/>
            <a:gdLst>
              <a:gd name="textAreaLeft" fmla="*/ 815760 w 5572080"/>
              <a:gd name="textAreaRight" fmla="*/ 4756320 w 5572080"/>
              <a:gd name="textAreaTop" fmla="*/ 606600 h 4143600"/>
              <a:gd name="textAreaBottom" fmla="*/ 3537000 h 41436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071680" y="500040"/>
            <a:ext cx="37861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0067"/>
                </a:solidFill>
                <a:latin typeface="Arial"/>
              </a:rPr>
              <a:t>Thanks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02:56:00Z</dcterms:created>
  <dc:creator>User</dc:creator>
  <dc:description/>
  <dc:language>en-US</dc:language>
  <cp:lastModifiedBy>雨林木风</cp:lastModifiedBy>
  <dcterms:modified xsi:type="dcterms:W3CDTF">2015-08-03T12:34:13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